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39D3-2631-4E83-BB7D-30CDB28D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70FBB-F7C9-4825-AC23-FFA89DD4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29AB0-33BB-4C0D-9AE9-E7C5AEE3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EAE16-46F2-40B4-8A19-2A8A54F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A071C-D62E-4992-AB39-8CE6DF0E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230B0-A843-4091-B64D-64AE0EF6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FB8B2-1792-4D8B-8524-624479C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A79AE-D0C8-4ABE-9CDE-19CE3267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EF3AA-D52C-4832-A089-6B6BF423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50A8E-AC13-441E-A261-1A44095C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A7F14-4255-4E78-8B2D-68BFB9A1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D8A6D-D26B-48D2-B4CA-3A48C30A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intergrund" descr="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F791A55D-C4E1-4100-91A4-B137B9E9FD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chatten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Hintergr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Himmel2" descr="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chatten" descr="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2680" algn="ctr">
              <a:spcBef>
                <a:spcPts val="451"/>
              </a:spcBef>
              <a:buClr>
                <a:srgbClr val="6e6e6e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63400" algn="ctr">
              <a:spcBef>
                <a:spcPts val="451"/>
              </a:spcBef>
              <a:buClr>
                <a:srgbClr val="6e6e6e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54200" algn="ctr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54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54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Hintergrund" descr=""/>
          <p:cNvPicPr/>
          <p:nvPr/>
        </p:nvPicPr>
        <p:blipFill>
          <a:blip r:embed="rId2"/>
          <a:srcRect l="0" t="0" r="0" b="7219"/>
          <a:stretch/>
        </p:blipFill>
        <p:spPr>
          <a:xfrm>
            <a:off x="0" y="0"/>
            <a:ext cx="9144000" cy="6364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E403-B113-49CF-88B2-CEA7D0DF1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chatten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pic>
        <p:nvPicPr>
          <p:cNvPr id="91" name="Hintergrund" descr=""/>
          <p:cNvPicPr/>
          <p:nvPr/>
        </p:nvPicPr>
        <p:blipFill>
          <a:blip r:embed="rId4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C9C4CC6-391D-48F1-B497-157CE8E4477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schatten" descr=""/>
          <p:cNvPicPr/>
          <p:nvPr/>
        </p:nvPicPr>
        <p:blipFill>
          <a:blip r:embed="rId5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Hintergr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26840" y="2571480"/>
            <a:ext cx="67640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 for Microsoft PowerPoi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20" y="6470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6720" y="1415520"/>
            <a:ext cx="839808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A6561-8F36-4338-8CDC-68F48C4360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2920" y="187164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0480" y="2344320"/>
            <a:ext cx="8397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2920" y="379260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0840" y="4265640"/>
            <a:ext cx="8397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9080" y="6470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未知"/>
          <p:cNvSpPr/>
          <p:nvPr/>
        </p:nvSpPr>
        <p:spPr>
          <a:xfrm>
            <a:off x="490392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49494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5165640" y="411624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6e6e6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5165640" y="1789200"/>
            <a:ext cx="1557360" cy="136044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3e7ea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6780240" y="17892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e6e6e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755820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c1c1c1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6780240" y="411624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9b9b9b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91120" y="2867040"/>
            <a:ext cx="1533600" cy="1533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55560" y="3427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200" y="2036880"/>
            <a:ext cx="412452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Schach" descr=""/>
          <p:cNvPicPr/>
          <p:nvPr/>
        </p:nvPicPr>
        <p:blipFill>
          <a:blip r:embed="rId1">
            <a:grayscl/>
          </a:blip>
          <a:srcRect l="0" t="0" r="26025" b="0"/>
          <a:stretch/>
        </p:blipFill>
        <p:spPr>
          <a:xfrm>
            <a:off x="390600" y="1860480"/>
            <a:ext cx="3997080" cy="3603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91080" y="1843200"/>
            <a:ext cx="41241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540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Schach" descr=""/>
          <p:cNvPicPr/>
          <p:nvPr/>
        </p:nvPicPr>
        <p:blipFill>
          <a:blip r:embed="rId1">
            <a:grayscl/>
          </a:blip>
          <a:srcRect l="0" t="0" r="5492" b="0"/>
          <a:stretch/>
        </p:blipFill>
        <p:spPr>
          <a:xfrm>
            <a:off x="387360" y="188136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3" name="Schach" descr=""/>
          <p:cNvPicPr/>
          <p:nvPr/>
        </p:nvPicPr>
        <p:blipFill>
          <a:blip r:embed="rId2">
            <a:grayscl/>
          </a:blip>
          <a:srcRect l="0" t="0" r="5492" b="0"/>
          <a:stretch/>
        </p:blipFill>
        <p:spPr>
          <a:xfrm>
            <a:off x="387360" y="386244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35440" y="185580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35440" y="384336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200" y="3683160"/>
            <a:ext cx="84027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168640" y="3000240"/>
            <a:ext cx="47908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THE END,THANK YOU!</a:t>
            </a:r>
            <a:endParaRPr b="1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/>
  <dc:description/>
  <dc:language>en-US</dc:language>
  <cp:lastModifiedBy>Kurt Dupont</cp:lastModifiedBy>
  <cp:lastPrinted>2005-03-15T07:48:11Z</cp:lastPrinted>
  <dcterms:modified xsi:type="dcterms:W3CDTF">2015-01-11T07:30:45Z</dcterms:modified>
  <cp:revision>5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PPL_Language">
    <vt:r8>1031</vt:r8>
  </property>
</Properties>
</file>