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3DCF-2A06-4466-81DE-2FCA7872B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820D-DEC0-46C5-B0DE-FA825C22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C621-F3CF-4A58-B9DC-B5155B41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C0C9-335A-4874-87D8-EA5BA132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0AF3-87F2-48C9-8F9A-4EF5EC88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5AED-8A42-4B97-9A12-6CC5AF84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627E-1D53-45F4-A172-B4328432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4D4E-55C8-4B8F-8879-0BFD32F9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B606-5E00-44FA-81C3-48105B5C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A58C-B44F-4951-AEF6-771B8594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B571-D10E-4C35-9BA8-F4B877252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3CB5-D973-4B3C-B252-A4486BDBB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1374-3008-461F-A4E7-020C7F628258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5812-B66E-4930-A96A-B78C9A25086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7360" y="56448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Century Gothic"/>
              </a:rPr>
              <a:t>单击此处输入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-9360" y="-752400"/>
            <a:ext cx="9146880" cy="6126120"/>
          </a:xfrm>
          <a:prstGeom prst="rect">
            <a:avLst/>
          </a:prstGeom>
          <a:ln w="0">
            <a:noFill/>
          </a:ln>
        </p:spPr>
      </p:pic>
      <p:sp>
        <p:nvSpPr>
          <p:cNvPr id="81" name="Straight Connector 8"/>
          <p:cNvSpPr/>
          <p:nvPr/>
        </p:nvSpPr>
        <p:spPr>
          <a:xfrm>
            <a:off x="0" y="537372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27720" y="6486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2" descr=""/>
          <p:cNvPicPr/>
          <p:nvPr/>
        </p:nvPicPr>
        <p:blipFill>
          <a:blip r:embed="rId1"/>
          <a:stretch/>
        </p:blipFill>
        <p:spPr>
          <a:xfrm>
            <a:off x="-28440" y="-20520"/>
            <a:ext cx="9172440" cy="5522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8640" y="925560"/>
            <a:ext cx="72007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Century Gothic"/>
              </a:rPr>
              <a:t>单击此处输入标题</a:t>
            </a:r>
            <a:r>
              <a:rPr b="0" lang="zh-CN" sz="3200" spc="-1" strike="noStrike">
                <a:solidFill>
                  <a:srgbClr val="ff6600"/>
                </a:solidFill>
                <a:latin typeface="Century Gothic"/>
              </a:rPr>
              <a:t>	</a:t>
            </a:r>
            <a:r>
              <a:rPr b="0" lang="zh-CN" sz="3200" spc="-1" strike="noStrike">
                <a:solidFill>
                  <a:srgbClr val="ff6600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09720" y="1925640"/>
            <a:ext cx="73692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Century Gothic"/>
              </a:rPr>
              <a:t>单击此处输入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2"/>
          <a:stretch/>
        </p:blipFill>
        <p:spPr>
          <a:xfrm>
            <a:off x="-28440" y="-20520"/>
            <a:ext cx="917244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2" descr=""/>
          <p:cNvPicPr/>
          <p:nvPr/>
        </p:nvPicPr>
        <p:blipFill>
          <a:blip r:embed="rId1"/>
          <a:stretch/>
        </p:blipFill>
        <p:spPr>
          <a:xfrm>
            <a:off x="-28440" y="-20520"/>
            <a:ext cx="9172440" cy="552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99640" y="1069920"/>
            <a:ext cx="72010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Century Gothic"/>
              </a:rPr>
              <a:t>单击此处输入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71640" y="1989000"/>
            <a:ext cx="720072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Century Gothic"/>
              </a:rPr>
              <a:t>单击此处输入内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12600" y="-20520"/>
            <a:ext cx="9182160" cy="5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5T09:06:00Z</dcterms:created>
  <dc:creator>Gareth Beck</dc:creator>
  <dc:description/>
  <dc:language>en-US</dc:language>
  <cp:lastModifiedBy>Polly Holbrook</cp:lastModifiedBy>
  <dcterms:modified xsi:type="dcterms:W3CDTF">2015-01-11T08:26:18Z</dcterms:modified>
  <cp:revision>289</cp:revision>
  <dc:subject/>
  <dc:title>Web Analytics Overloa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