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147720" y="638028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2120" y="6289560"/>
            <a:ext cx="67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80000" y="0"/>
            <a:ext cx="8646120" cy="6858000"/>
            <a:chOff x="-180000" y="0"/>
            <a:chExt cx="8646120" cy="6858000"/>
          </a:xfrm>
        </p:grpSpPr>
        <p:sp>
          <p:nvSpPr>
            <p:cNvPr id="45" name="矩形 4"/>
            <p:cNvSpPr/>
            <p:nvPr/>
          </p:nvSpPr>
          <p:spPr>
            <a:xfrm>
              <a:off x="-180000" y="0"/>
              <a:ext cx="825948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/>
  <dc:description/>
  <dc:language>en-US</dc:language>
  <cp:lastModifiedBy>ilovePPT.ORG</cp:lastModifiedBy>
  <dcterms:modified xsi:type="dcterms:W3CDTF">2015-01-11T11:50:3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