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BDA-4DAD-4965-8BC7-7CFF7CA8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49532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9520" y="4431960"/>
            <a:ext cx="49532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1B3-4AC0-44AE-9C39-626C9F20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4788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9520" y="443196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47880" y="443196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816-DCAB-4AAB-B714-C9FAAD19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84600" y="236232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59320" y="236232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9520" y="443196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84600" y="443196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59320" y="4431960"/>
            <a:ext cx="1594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DE1-20F9-4E51-B4D3-D3858486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9520" y="2362320"/>
            <a:ext cx="49532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00C-8ED4-4AC2-B42B-A97ED54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4953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D43-08EB-49B7-ABC3-4C5C2F3C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241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47880" y="2362320"/>
            <a:ext cx="241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011-C129-4899-BF37-6BBFFD87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786-5505-4414-B5BA-3851922F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520" y="1676520"/>
            <a:ext cx="5410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C10-1013-4567-8986-4FFBEF76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47880" y="2362320"/>
            <a:ext cx="241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9520" y="443196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B5D-5DDE-43B8-B0C1-CB2C1D0E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241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788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47880" y="443196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1F5-0068-4C0D-9CD9-E77EFDB7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952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47880" y="2362320"/>
            <a:ext cx="2417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9520" y="4431960"/>
            <a:ext cx="49532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6F4-9877-44A2-A1ED-98B55C8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520" y="1676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546321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9520" y="2362320"/>
            <a:ext cx="4953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Click to edit the outline text format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1" marL="705600" indent="-27144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Second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2" marL="1085760" indent="-21708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Third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3" marL="1519920" indent="-21708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Fourth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4" marL="1954440" indent="-21708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Fifth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Sixth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SzPct val="200000"/>
              <a:buFont typeface="微软雅黑"/>
              <a:buChar char="•"/>
            </a:pPr>
            <a:r>
              <a:rPr b="1" lang="en-US" sz="2400" spc="-1" strike="noStrike">
                <a:solidFill>
                  <a:srgbClr val="387025"/>
                </a:solidFill>
                <a:latin typeface="微软雅黑"/>
              </a:rPr>
              <a:t>Seventh Outline Level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A45A-B5F6-4A8A-AB34-1175B69FED82}" type="slidenum"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5157720"/>
            <a:ext cx="75038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3657240"/>
            <a:ext cx="75038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0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43" name=""/>
          <p:cNvSpPr/>
          <p:nvPr/>
        </p:nvSpPr>
        <p:spPr>
          <a:xfrm>
            <a:off x="-904680" y="644040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D76-2B50-4B88-B9DA-698313F7822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6324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学压力</a:t>
            </a:r>
            <a:endParaRPr b="0" lang="en-US" sz="32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400" y="31237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546321"/>
              </a:buClr>
              <a:buSzPct val="200000"/>
              <a:buFont typeface="微软雅黑"/>
              <a:buChar char="•"/>
            </a:pPr>
            <a:r>
              <a:rPr b="1" lang="zh-CN" sz="2400" spc="-1" strike="noStrike">
                <a:solidFill>
                  <a:srgbClr val="546321"/>
                </a:solidFill>
                <a:latin typeface="微软雅黑"/>
                <a:ea typeface="微软雅黑"/>
              </a:rPr>
              <a:t>演示文稿</a:t>
            </a: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9520" y="2362320"/>
            <a:ext cx="4953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32C-CB67-4C2A-A34B-DC09E0EF22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66680" y="1676160"/>
            <a:ext cx="6096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87025"/>
              </a:buClr>
              <a:buSzPct val="200000"/>
              <a:buFont typeface="微软雅黑"/>
              <a:buChar char="•"/>
            </a:pPr>
            <a:endParaRPr b="1" lang="en-US" sz="2400" spc="-1" strike="noStrike">
              <a:solidFill>
                <a:srgbClr val="387025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54F-C651-400B-A4D2-659E196ED1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520" y="1644840"/>
            <a:ext cx="5410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546321"/>
              </a:solidFill>
              <a:latin typeface="微软雅黑"/>
            </a:endParaRPr>
          </a:p>
        </p:txBody>
      </p:sp>
      <p:sp>
        <p:nvSpPr>
          <p:cNvPr id="51" name=""/>
          <p:cNvSpPr/>
          <p:nvPr/>
        </p:nvSpPr>
        <p:spPr>
          <a:xfrm>
            <a:off x="-859680" y="645480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780-8CAC-424B-B0A7-E5EF0BCB96AD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2857680" y="2281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53" name=""/>
          <p:cNvSpPr/>
          <p:nvPr/>
        </p:nvSpPr>
        <p:spPr>
          <a:xfrm>
            <a:off x="32040" y="6370560"/>
            <a:ext cx="63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48D-98CC-46FF-94CD-6114D319277C}" type="slidenum">
              <a:t>6</a:t>
            </a:fld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55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pic>
          <p:nvPicPr>
            <p:cNvPr id="5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37:40Z</dcterms:created>
  <dc:creator>Administrator</dc:creator>
  <dc:description/>
  <dc:language>en-US</dc:language>
  <cp:lastModifiedBy/>
  <dcterms:modified xsi:type="dcterms:W3CDTF">2015-01-11T07:33:23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103368019990</vt:lpwstr>
  </property>
</Properties>
</file>