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A6D-2452-4EEF-817A-FE42E65D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C521-491B-4D97-A6CB-BFE34EC0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8FE-489A-4A02-9AEA-F46B7D76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BE44-E9FA-4CE3-948E-0B3AE691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783-618B-4F08-A972-F703E7EA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0E5-25B7-448C-A405-BA5BEF15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3B2-CD16-453D-921A-3BAA89B8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583-D46B-49D7-ACD6-53E9DCC4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DA36-DEDF-415A-A184-BF5AEAA7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510-D3B3-4B9B-9F1E-3C3A68C3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523-2373-4C3F-B7CA-DFD3E990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BAC6-F085-4747-9854-46D4E9E9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0681-7938-4219-9E86-600977897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168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3932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7240" cy="609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3932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03:38:03Z</dcterms:created>
  <dc:creator>Administrator</dc:creator>
  <dc:description/>
  <dc:language>en-US</dc:language>
  <cp:lastModifiedBy/>
  <dcterms:modified xsi:type="dcterms:W3CDTF">2015-01-11T15:16:4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