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FB388-01C9-47DD-AF46-D503DBB29C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04C47-B27D-41A1-9118-2B4F5AC07F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99467-2FC5-4304-B8F8-094701A5F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712AF-B10C-4A2E-BEE8-A35D5044FE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6EF85A-1386-4970-9CE9-82276204BA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A0EF0-D5CD-4BCA-AA83-6C4B7690C03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7FF54-2FBD-45DD-854F-763E35125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C2ACE-1D61-45C2-8D4E-6FDC5A50F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0165-EDFD-4A38-9656-11080AA96F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D2CED-6703-4A30-BE1A-8ADDF57D7B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CD90F-58A4-4A80-9B72-54E6B4090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9A309-9E73-46C9-A4E0-67CC264A24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b2b2b2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BF71DAF-EE4F-4A89-ACCB-DC79E26074C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5b8cc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A4884-1A39-4E8E-B75C-A008AD7DF1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68360" y="3597120"/>
            <a:ext cx="8207280" cy="4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2636640"/>
            <a:ext cx="8207280" cy="96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中国风水墨清明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468360" y="6093000"/>
            <a:ext cx="23382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0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4360" y="334800"/>
            <a:ext cx="7488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  <a:ea typeface="黑体"/>
              </a:rPr>
              <a:t>LOGO</a:t>
            </a: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黑体"/>
              </a:rPr>
              <a:t>删除与替换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依次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幻灯片母板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进入模板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95160" y="1438200"/>
            <a:ext cx="2306160" cy="2305080"/>
            <a:chOff x="695160" y="1438200"/>
            <a:chExt cx="2306160" cy="2305080"/>
          </a:xfrm>
        </p:grpSpPr>
        <p:sp>
          <p:nvSpPr>
            <p:cNvPr id="128" name=""/>
            <p:cNvSpPr/>
            <p:nvPr/>
          </p:nvSpPr>
          <p:spPr>
            <a:xfrm>
              <a:off x="6951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5400000">
              <a:off x="27964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" descr=""/>
            <p:cNvPicPr/>
            <p:nvPr/>
          </p:nvPicPr>
          <p:blipFill>
            <a:blip r:embed="rId1"/>
            <a:stretch/>
          </p:blipFill>
          <p:spPr>
            <a:xfrm>
              <a:off x="728640" y="1495440"/>
              <a:ext cx="2085840" cy="2193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1" name=""/>
          <p:cNvGrpSpPr/>
          <p:nvPr/>
        </p:nvGrpSpPr>
        <p:grpSpPr>
          <a:xfrm>
            <a:off x="3344760" y="1438200"/>
            <a:ext cx="2306160" cy="2305080"/>
            <a:chOff x="3344760" y="1438200"/>
            <a:chExt cx="2306160" cy="2305080"/>
          </a:xfrm>
        </p:grpSpPr>
        <p:sp>
          <p:nvSpPr>
            <p:cNvPr id="132" name=""/>
            <p:cNvSpPr/>
            <p:nvPr/>
          </p:nvSpPr>
          <p:spPr>
            <a:xfrm>
              <a:off x="334476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5400000">
              <a:off x="5446080" y="2517480"/>
              <a:ext cx="263520" cy="145800"/>
            </a:xfrm>
            <a:prstGeom prst="triangle">
              <a:avLst>
                <a:gd name="adj" fmla="val 50000"/>
              </a:avLst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" bIns="1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" descr=""/>
            <p:cNvPicPr/>
            <p:nvPr/>
          </p:nvPicPr>
          <p:blipFill>
            <a:blip r:embed="rId2"/>
            <a:srcRect l="29589" t="0" r="0" b="0"/>
            <a:stretch/>
          </p:blipFill>
          <p:spPr>
            <a:xfrm>
              <a:off x="3368520" y="1474560"/>
              <a:ext cx="2100240" cy="2221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5" name=""/>
          <p:cNvGrpSpPr/>
          <p:nvPr/>
        </p:nvGrpSpPr>
        <p:grpSpPr>
          <a:xfrm>
            <a:off x="6002280" y="1438200"/>
            <a:ext cx="2160720" cy="2305080"/>
            <a:chOff x="6002280" y="1438200"/>
            <a:chExt cx="2160720" cy="2305080"/>
          </a:xfrm>
        </p:grpSpPr>
        <p:sp>
          <p:nvSpPr>
            <p:cNvPr id="136" name=""/>
            <p:cNvSpPr/>
            <p:nvPr/>
          </p:nvSpPr>
          <p:spPr>
            <a:xfrm>
              <a:off x="6002280" y="1438200"/>
              <a:ext cx="2160720" cy="230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3"/>
            <a:stretch/>
          </p:blipFill>
          <p:spPr>
            <a:xfrm>
              <a:off x="6122880" y="2235240"/>
              <a:ext cx="194004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3297240" y="3843360"/>
            <a:ext cx="230364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选择母板内的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图标进行删除和替换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3843360"/>
            <a:ext cx="230328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编辑完成后点击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关闭母板视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返回幻灯片视图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1523-B638-4123-A318-525277D1BC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142" name="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143" name="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562640" y="1341360"/>
                <a:ext cx="1025280" cy="5763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f5f5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613560" y="1341360"/>
                <a:ext cx="1025640" cy="576360"/>
              </a:xfrm>
              <a:prstGeom prst="rect">
                <a:avLst/>
              </a:prstGeom>
              <a:solidFill>
                <a:srgbClr val="1c1c1c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39200" y="1341360"/>
                <a:ext cx="1025280" cy="576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152" name="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5626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6135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3920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87EC2-AD5E-4FB1-ABEE-6907868E026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706080" y="638172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F3C0-4924-47D2-AE25-9926114FC13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3"/>
          <p:cNvSpPr/>
          <p:nvPr/>
        </p:nvSpPr>
        <p:spPr>
          <a:xfrm>
            <a:off x="900000" y="270828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66" name="矩形 4"/>
            <p:cNvSpPr/>
            <p:nvPr/>
          </p:nvSpPr>
          <p:spPr>
            <a:xfrm>
              <a:off x="679680" y="0"/>
              <a:ext cx="653976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i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i="1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i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i="1" lang="zh-CN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i="1" lang="en-US" sz="3200" spc="-1" strike="noStrike" u="sng">
                  <a:solidFill>
                    <a:srgbClr val="002850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i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/>
  <dc:description/>
  <dc:language>en-US</dc:language>
  <cp:lastModifiedBy>ERICLAU</cp:lastModifiedBy>
  <dcterms:modified xsi:type="dcterms:W3CDTF">2015-01-10T09:14:02Z</dcterms:modified>
  <cp:revision>26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