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272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208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696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208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696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76320"/>
            <a:ext cx="7696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272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272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208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696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208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696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120" y="76320"/>
            <a:ext cx="7696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272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272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208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06960" y="105264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208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06960" y="3798360"/>
            <a:ext cx="264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76320"/>
            <a:ext cx="7696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720" y="379836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720" y="1052640"/>
            <a:ext cx="4005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07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3"/>
          <p:cNvSpPr txBox="1"/>
          <p:nvPr/>
        </p:nvSpPr>
        <p:spPr>
          <a:xfrm>
            <a:off x="609480" y="5562720"/>
            <a:ext cx="28908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谢谢观赏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-2289240" y="5895360"/>
            <a:ext cx="2898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3019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3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c2254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c2254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c2254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c2254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c2254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c2254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c2254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c2254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4:59:27Z</dcterms:created>
  <dc:creator/>
  <dc:description/>
  <dc:language>en-US</dc:language>
  <cp:lastModifiedBy>Administrator</cp:lastModifiedBy>
  <dcterms:modified xsi:type="dcterms:W3CDTF">2015-01-11T08:50:06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