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137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34160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4160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400" y="34160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119700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34160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800" y="34160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34160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640" y="0"/>
            <a:ext cx="822960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34160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400" y="34160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4160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3357360"/>
            <a:ext cx="669780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008120" y="5734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632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02240" y="5734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66120" cy="6138720"/>
            <a:chOff x="0" y="0"/>
            <a:chExt cx="8466120" cy="6138720"/>
          </a:xfrm>
        </p:grpSpPr>
        <p:sp>
          <p:nvSpPr>
            <p:cNvPr id="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34680"/>
              <a:ext cx="8466120" cy="460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/>
            <p:cNvSpPr/>
            <p:nvPr/>
          </p:nvSpPr>
          <p:spPr>
            <a:xfrm rot="20926800">
              <a:off x="1931760" y="31964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4:53:23Z</dcterms:created>
  <dc:creator/>
  <dc:description/>
  <dc:language>en-US</dc:language>
  <cp:lastModifiedBy>微软用户</cp:lastModifiedBy>
  <cp:lastPrinted>1899-12-30T00:00:00Z</cp:lastPrinted>
  <dcterms:modified xsi:type="dcterms:W3CDTF">2014-05-25T06:27:4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