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13C-8D9A-481F-81FA-5331FE63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D1FE-0EA3-4B1F-AE5F-6E8CD839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C70-418B-4A71-ABF4-3C0EAD87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FB09-D81A-4DB5-A374-226B6023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D8A-5F40-4CA1-9BBC-A2D90ACB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A81B-B0C5-4F56-BF81-71E0E6F0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FC6-E565-489F-B2DC-3503D6A9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177A-5F85-4652-87C9-D4165CE5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865-DC17-44F5-9AF6-3ED4D068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844-7A5C-460D-BF08-D851BE02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A9B-AE97-4BFD-82F3-5EFF6276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B7A-7ED1-494E-A5F1-4596AA52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A582-EF8A-4DF4-AED7-3334A9E486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4"/>
          <p:cNvSpPr/>
          <p:nvPr/>
        </p:nvSpPr>
        <p:spPr>
          <a:xfrm>
            <a:off x="-12600" y="4533840"/>
            <a:ext cx="590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5923080" y="4533840"/>
            <a:ext cx="6278400" cy="0"/>
          </a:xfrm>
          <a:prstGeom prst="line">
            <a:avLst/>
          </a:prstGeom>
          <a:ln w="1260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7"/>
          <p:cNvSpPr/>
          <p:nvPr/>
        </p:nvSpPr>
        <p:spPr>
          <a:xfrm>
            <a:off x="295200" y="383868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9000"/>
                </a:solidFill>
                <a:latin typeface="微软雅黑"/>
                <a:ea typeface="微软雅黑"/>
              </a:rPr>
              <a:t>在这里输入可长可短的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8"/>
          <p:cNvSpPr/>
          <p:nvPr/>
        </p:nvSpPr>
        <p:spPr>
          <a:xfrm>
            <a:off x="339840" y="4540320"/>
            <a:ext cx="27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演示者的称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10093320" y="64389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7"/>
          <p:cNvSpPr/>
          <p:nvPr/>
        </p:nvSpPr>
        <p:spPr>
          <a:xfrm>
            <a:off x="1081080" y="11271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f9000"/>
                </a:solidFill>
                <a:latin typeface="微软雅黑"/>
                <a:ea typeface="微软雅黑"/>
              </a:rPr>
              <a:t>大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文本框 8"/>
          <p:cNvSpPr/>
          <p:nvPr/>
        </p:nvSpPr>
        <p:spPr>
          <a:xfrm>
            <a:off x="4446720" y="1376280"/>
            <a:ext cx="21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小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同心圆 3"/>
          <p:cNvSpPr/>
          <p:nvPr/>
        </p:nvSpPr>
        <p:spPr>
          <a:xfrm>
            <a:off x="3814920" y="1336680"/>
            <a:ext cx="479160" cy="479520"/>
          </a:xfrm>
          <a:custGeom>
            <a:avLst/>
            <a:gdLst/>
            <a:ahLst/>
            <a:rect l="l" t="t" r="r" b="b"/>
            <a:pathLst>
              <a:path w="479038" h="479038">
                <a:moveTo>
                  <a:pt x="0" y="239519"/>
                </a:moveTo>
                <a:cubicBezTo>
                  <a:pt x="0" y="107236"/>
                  <a:pt x="107236" y="0"/>
                  <a:pt x="239519" y="0"/>
                </a:cubicBezTo>
                <a:cubicBezTo>
                  <a:pt x="371802" y="0"/>
                  <a:pt x="479038" y="107236"/>
                  <a:pt x="479038" y="239519"/>
                </a:cubicBezTo>
                <a:cubicBezTo>
                  <a:pt x="479038" y="371802"/>
                  <a:pt x="371802" y="479038"/>
                  <a:pt x="239519" y="479038"/>
                </a:cubicBezTo>
                <a:cubicBezTo>
                  <a:pt x="107236" y="479038"/>
                  <a:pt x="0" y="371802"/>
                  <a:pt x="0" y="239519"/>
                </a:cubicBezTo>
                <a:close/>
                <a:moveTo>
                  <a:pt x="84162" y="239519"/>
                </a:moveTo>
                <a:cubicBezTo>
                  <a:pt x="84162" y="325320"/>
                  <a:pt x="153718" y="394876"/>
                  <a:pt x="239519" y="394876"/>
                </a:cubicBezTo>
                <a:cubicBezTo>
                  <a:pt x="325320" y="394876"/>
                  <a:pt x="394876" y="325320"/>
                  <a:pt x="394876" y="239519"/>
                </a:cubicBezTo>
                <a:cubicBezTo>
                  <a:pt x="394876" y="153718"/>
                  <a:pt x="325320" y="84162"/>
                  <a:pt x="239519" y="84162"/>
                </a:cubicBezTo>
                <a:cubicBezTo>
                  <a:pt x="153718" y="84162"/>
                  <a:pt x="84162" y="153718"/>
                  <a:pt x="84162" y="239519"/>
                </a:cubicBezTo>
                <a:close/>
              </a:path>
            </a:pathLst>
          </a:custGeom>
          <a:noFill/>
          <a:ln w="1908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12"/>
          <p:cNvSpPr/>
          <p:nvPr/>
        </p:nvSpPr>
        <p:spPr>
          <a:xfrm>
            <a:off x="4465800" y="1806480"/>
            <a:ext cx="51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3"/>
          <p:cNvSpPr/>
          <p:nvPr/>
        </p:nvSpPr>
        <p:spPr>
          <a:xfrm>
            <a:off x="4446720" y="2843280"/>
            <a:ext cx="21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小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同心圆 14"/>
          <p:cNvSpPr/>
          <p:nvPr/>
        </p:nvSpPr>
        <p:spPr>
          <a:xfrm>
            <a:off x="3814920" y="2803680"/>
            <a:ext cx="479160" cy="479160"/>
          </a:xfrm>
          <a:custGeom>
            <a:avLst/>
            <a:gdLst/>
            <a:ahLst/>
            <a:rect l="l" t="t" r="r" b="b"/>
            <a:pathLst>
              <a:path w="479038" h="479038">
                <a:moveTo>
                  <a:pt x="0" y="239519"/>
                </a:moveTo>
                <a:cubicBezTo>
                  <a:pt x="0" y="107236"/>
                  <a:pt x="107236" y="0"/>
                  <a:pt x="239519" y="0"/>
                </a:cubicBezTo>
                <a:cubicBezTo>
                  <a:pt x="371802" y="0"/>
                  <a:pt x="479038" y="107236"/>
                  <a:pt x="479038" y="239519"/>
                </a:cubicBezTo>
                <a:cubicBezTo>
                  <a:pt x="479038" y="371802"/>
                  <a:pt x="371802" y="479038"/>
                  <a:pt x="239519" y="479038"/>
                </a:cubicBezTo>
                <a:cubicBezTo>
                  <a:pt x="107236" y="479038"/>
                  <a:pt x="0" y="371802"/>
                  <a:pt x="0" y="239519"/>
                </a:cubicBezTo>
                <a:close/>
                <a:moveTo>
                  <a:pt x="84162" y="239519"/>
                </a:moveTo>
                <a:cubicBezTo>
                  <a:pt x="84162" y="325320"/>
                  <a:pt x="153718" y="394876"/>
                  <a:pt x="239519" y="394876"/>
                </a:cubicBezTo>
                <a:cubicBezTo>
                  <a:pt x="325320" y="394876"/>
                  <a:pt x="394876" y="325320"/>
                  <a:pt x="394876" y="239519"/>
                </a:cubicBezTo>
                <a:cubicBezTo>
                  <a:pt x="394876" y="153718"/>
                  <a:pt x="325320" y="84162"/>
                  <a:pt x="239519" y="84162"/>
                </a:cubicBezTo>
                <a:cubicBezTo>
                  <a:pt x="153718" y="84162"/>
                  <a:pt x="84162" y="153718"/>
                  <a:pt x="84162" y="239519"/>
                </a:cubicBezTo>
                <a:close/>
              </a:path>
            </a:pathLst>
          </a:custGeom>
          <a:noFill/>
          <a:ln w="1908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5"/>
          <p:cNvSpPr/>
          <p:nvPr/>
        </p:nvSpPr>
        <p:spPr>
          <a:xfrm>
            <a:off x="4465800" y="3273480"/>
            <a:ext cx="51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6"/>
          <p:cNvSpPr/>
          <p:nvPr/>
        </p:nvSpPr>
        <p:spPr>
          <a:xfrm>
            <a:off x="4446720" y="4272120"/>
            <a:ext cx="21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小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同心圆 17"/>
          <p:cNvSpPr/>
          <p:nvPr/>
        </p:nvSpPr>
        <p:spPr>
          <a:xfrm>
            <a:off x="3814920" y="4232160"/>
            <a:ext cx="479160" cy="479520"/>
          </a:xfrm>
          <a:custGeom>
            <a:avLst/>
            <a:gdLst/>
            <a:ahLst/>
            <a:rect l="l" t="t" r="r" b="b"/>
            <a:pathLst>
              <a:path w="479038" h="479038">
                <a:moveTo>
                  <a:pt x="0" y="239519"/>
                </a:moveTo>
                <a:cubicBezTo>
                  <a:pt x="0" y="107236"/>
                  <a:pt x="107236" y="0"/>
                  <a:pt x="239519" y="0"/>
                </a:cubicBezTo>
                <a:cubicBezTo>
                  <a:pt x="371802" y="0"/>
                  <a:pt x="479038" y="107236"/>
                  <a:pt x="479038" y="239519"/>
                </a:cubicBezTo>
                <a:cubicBezTo>
                  <a:pt x="479038" y="371802"/>
                  <a:pt x="371802" y="479038"/>
                  <a:pt x="239519" y="479038"/>
                </a:cubicBezTo>
                <a:cubicBezTo>
                  <a:pt x="107236" y="479038"/>
                  <a:pt x="0" y="371802"/>
                  <a:pt x="0" y="239519"/>
                </a:cubicBezTo>
                <a:close/>
                <a:moveTo>
                  <a:pt x="84162" y="239519"/>
                </a:moveTo>
                <a:cubicBezTo>
                  <a:pt x="84162" y="325320"/>
                  <a:pt x="153718" y="394876"/>
                  <a:pt x="239519" y="394876"/>
                </a:cubicBezTo>
                <a:cubicBezTo>
                  <a:pt x="325320" y="394876"/>
                  <a:pt x="394876" y="325320"/>
                  <a:pt x="394876" y="239519"/>
                </a:cubicBezTo>
                <a:cubicBezTo>
                  <a:pt x="394876" y="153718"/>
                  <a:pt x="325320" y="84162"/>
                  <a:pt x="239519" y="84162"/>
                </a:cubicBezTo>
                <a:cubicBezTo>
                  <a:pt x="153718" y="84162"/>
                  <a:pt x="84162" y="153718"/>
                  <a:pt x="84162" y="239519"/>
                </a:cubicBezTo>
                <a:close/>
              </a:path>
            </a:pathLst>
          </a:custGeom>
          <a:noFill/>
          <a:ln w="1908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18"/>
          <p:cNvSpPr/>
          <p:nvPr/>
        </p:nvSpPr>
        <p:spPr>
          <a:xfrm>
            <a:off x="4465800" y="4702320"/>
            <a:ext cx="51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7"/>
          <p:cNvSpPr/>
          <p:nvPr/>
        </p:nvSpPr>
        <p:spPr>
          <a:xfrm>
            <a:off x="1254240" y="72720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f9000"/>
                </a:solidFill>
                <a:latin typeface="微软雅黑"/>
                <a:ea typeface="微软雅黑"/>
              </a:rPr>
              <a:t>这里输入大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4199040" y="2158920"/>
            <a:ext cx="21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小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同心圆 3"/>
          <p:cNvSpPr/>
          <p:nvPr/>
        </p:nvSpPr>
        <p:spPr>
          <a:xfrm>
            <a:off x="2359080" y="1963800"/>
            <a:ext cx="1603440" cy="1603440"/>
          </a:xfrm>
          <a:custGeom>
            <a:avLst/>
            <a:gdLst/>
            <a:ahLst/>
            <a:rect l="l" t="t" r="r" b="b"/>
            <a:pathLst>
              <a:path w="1603141" h="1603141">
                <a:moveTo>
                  <a:pt x="0" y="801571"/>
                </a:moveTo>
                <a:cubicBezTo>
                  <a:pt x="0" y="358876"/>
                  <a:pt x="358876" y="0"/>
                  <a:pt x="801571" y="0"/>
                </a:cubicBezTo>
                <a:cubicBezTo>
                  <a:pt x="1244266" y="0"/>
                  <a:pt x="1603142" y="358876"/>
                  <a:pt x="1603142" y="801571"/>
                </a:cubicBezTo>
                <a:cubicBezTo>
                  <a:pt x="1603142" y="1244266"/>
                  <a:pt x="1244266" y="1603142"/>
                  <a:pt x="801571" y="1603142"/>
                </a:cubicBezTo>
                <a:cubicBezTo>
                  <a:pt x="358876" y="1603142"/>
                  <a:pt x="0" y="1244266"/>
                  <a:pt x="0" y="801571"/>
                </a:cubicBezTo>
                <a:close/>
                <a:moveTo>
                  <a:pt x="44118" y="801571"/>
                </a:moveTo>
                <a:cubicBezTo>
                  <a:pt x="44118" y="1219900"/>
                  <a:pt x="383241" y="1559023"/>
                  <a:pt x="801570" y="1559023"/>
                </a:cubicBezTo>
                <a:cubicBezTo>
                  <a:pt x="1219899" y="1559023"/>
                  <a:pt x="1559022" y="1219900"/>
                  <a:pt x="1559022" y="801571"/>
                </a:cubicBezTo>
                <a:cubicBezTo>
                  <a:pt x="1559022" y="383242"/>
                  <a:pt x="1219899" y="44119"/>
                  <a:pt x="801570" y="44119"/>
                </a:cubicBezTo>
                <a:cubicBezTo>
                  <a:pt x="383241" y="44119"/>
                  <a:pt x="44118" y="383242"/>
                  <a:pt x="44118" y="801571"/>
                </a:cubicBezTo>
                <a:close/>
              </a:path>
            </a:pathLst>
          </a:custGeom>
          <a:noFill/>
          <a:ln w="1260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2"/>
          <p:cNvSpPr/>
          <p:nvPr/>
        </p:nvSpPr>
        <p:spPr>
          <a:xfrm>
            <a:off x="4199040" y="2560680"/>
            <a:ext cx="51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椭圆 1"/>
          <p:cNvSpPr/>
          <p:nvPr/>
        </p:nvSpPr>
        <p:spPr>
          <a:xfrm>
            <a:off x="2527200" y="2120760"/>
            <a:ext cx="1285920" cy="1287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19"/>
          <p:cNvSpPr/>
          <p:nvPr/>
        </p:nvSpPr>
        <p:spPr>
          <a:xfrm>
            <a:off x="5802480" y="4181400"/>
            <a:ext cx="21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小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同心圆 20"/>
          <p:cNvSpPr/>
          <p:nvPr/>
        </p:nvSpPr>
        <p:spPr>
          <a:xfrm>
            <a:off x="3962520" y="3967200"/>
            <a:ext cx="1603080" cy="1603440"/>
          </a:xfrm>
          <a:custGeom>
            <a:avLst/>
            <a:gdLst/>
            <a:ahLst/>
            <a:rect l="l" t="t" r="r" b="b"/>
            <a:pathLst>
              <a:path w="1603141" h="1603141">
                <a:moveTo>
                  <a:pt x="0" y="801571"/>
                </a:moveTo>
                <a:cubicBezTo>
                  <a:pt x="0" y="358876"/>
                  <a:pt x="358876" y="0"/>
                  <a:pt x="801571" y="0"/>
                </a:cubicBezTo>
                <a:cubicBezTo>
                  <a:pt x="1244266" y="0"/>
                  <a:pt x="1603142" y="358876"/>
                  <a:pt x="1603142" y="801571"/>
                </a:cubicBezTo>
                <a:cubicBezTo>
                  <a:pt x="1603142" y="1244266"/>
                  <a:pt x="1244266" y="1603142"/>
                  <a:pt x="801571" y="1603142"/>
                </a:cubicBezTo>
                <a:cubicBezTo>
                  <a:pt x="358876" y="1603142"/>
                  <a:pt x="0" y="1244266"/>
                  <a:pt x="0" y="801571"/>
                </a:cubicBezTo>
                <a:close/>
                <a:moveTo>
                  <a:pt x="44118" y="801571"/>
                </a:moveTo>
                <a:cubicBezTo>
                  <a:pt x="44118" y="1219900"/>
                  <a:pt x="383241" y="1559023"/>
                  <a:pt x="801570" y="1559023"/>
                </a:cubicBezTo>
                <a:cubicBezTo>
                  <a:pt x="1219899" y="1559023"/>
                  <a:pt x="1559022" y="1219900"/>
                  <a:pt x="1559022" y="801571"/>
                </a:cubicBezTo>
                <a:cubicBezTo>
                  <a:pt x="1559022" y="383242"/>
                  <a:pt x="1219899" y="44119"/>
                  <a:pt x="801570" y="44119"/>
                </a:cubicBezTo>
                <a:cubicBezTo>
                  <a:pt x="383241" y="44119"/>
                  <a:pt x="44118" y="383242"/>
                  <a:pt x="44118" y="801571"/>
                </a:cubicBezTo>
                <a:close/>
              </a:path>
            </a:pathLst>
          </a:custGeom>
          <a:noFill/>
          <a:ln w="1260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本框 21"/>
          <p:cNvSpPr/>
          <p:nvPr/>
        </p:nvSpPr>
        <p:spPr>
          <a:xfrm>
            <a:off x="5802480" y="4581360"/>
            <a:ext cx="51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椭圆 22"/>
          <p:cNvSpPr/>
          <p:nvPr/>
        </p:nvSpPr>
        <p:spPr>
          <a:xfrm>
            <a:off x="4130640" y="4124160"/>
            <a:ext cx="1285920" cy="1287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4"/>
          <p:cNvSpPr/>
          <p:nvPr/>
        </p:nvSpPr>
        <p:spPr>
          <a:xfrm>
            <a:off x="0" y="1554120"/>
            <a:ext cx="5238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23"/>
          <p:cNvSpPr/>
          <p:nvPr/>
        </p:nvSpPr>
        <p:spPr>
          <a:xfrm>
            <a:off x="5896080" y="5649840"/>
            <a:ext cx="6296040" cy="0"/>
          </a:xfrm>
          <a:prstGeom prst="line">
            <a:avLst/>
          </a:prstGeom>
          <a:ln w="1908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7"/>
          <p:cNvSpPr/>
          <p:nvPr/>
        </p:nvSpPr>
        <p:spPr>
          <a:xfrm>
            <a:off x="1432080" y="5176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f9000"/>
                </a:solidFill>
                <a:latin typeface="微软雅黑"/>
                <a:ea typeface="微软雅黑"/>
              </a:rPr>
              <a:t>这里输入大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6275520" y="301932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小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同心圆 20"/>
          <p:cNvSpPr/>
          <p:nvPr/>
        </p:nvSpPr>
        <p:spPr>
          <a:xfrm>
            <a:off x="1668600" y="1628640"/>
            <a:ext cx="4152600" cy="4152960"/>
          </a:xfrm>
          <a:custGeom>
            <a:avLst/>
            <a:gdLst/>
            <a:ahLst/>
            <a:rect l="l" t="t" r="r" b="b"/>
            <a:pathLst>
              <a:path w="4152793" h="4152793">
                <a:moveTo>
                  <a:pt x="0" y="2076397"/>
                </a:moveTo>
                <a:cubicBezTo>
                  <a:pt x="0" y="929635"/>
                  <a:pt x="929635" y="0"/>
                  <a:pt x="2076397" y="0"/>
                </a:cubicBezTo>
                <a:cubicBezTo>
                  <a:pt x="3223159" y="0"/>
                  <a:pt x="4152794" y="929635"/>
                  <a:pt x="4152794" y="2076397"/>
                </a:cubicBezTo>
                <a:cubicBezTo>
                  <a:pt x="4152794" y="3223159"/>
                  <a:pt x="3223159" y="4152794"/>
                  <a:pt x="2076397" y="4152794"/>
                </a:cubicBezTo>
                <a:cubicBezTo>
                  <a:pt x="929635" y="4152794"/>
                  <a:pt x="0" y="3223159"/>
                  <a:pt x="0" y="2076397"/>
                </a:cubicBezTo>
                <a:close/>
                <a:moveTo>
                  <a:pt x="61337" y="2076397"/>
                </a:moveTo>
                <a:cubicBezTo>
                  <a:pt x="61337" y="3189284"/>
                  <a:pt x="963510" y="4091457"/>
                  <a:pt x="2076397" y="4091457"/>
                </a:cubicBezTo>
                <a:cubicBezTo>
                  <a:pt x="3189284" y="4091457"/>
                  <a:pt x="4091457" y="3189284"/>
                  <a:pt x="4091457" y="2076397"/>
                </a:cubicBezTo>
                <a:cubicBezTo>
                  <a:pt x="4091457" y="963510"/>
                  <a:pt x="3189284" y="61337"/>
                  <a:pt x="2076397" y="61337"/>
                </a:cubicBezTo>
                <a:cubicBezTo>
                  <a:pt x="963510" y="61337"/>
                  <a:pt x="61337" y="963510"/>
                  <a:pt x="61337" y="2076397"/>
                </a:cubicBezTo>
                <a:close/>
              </a:path>
            </a:pathLst>
          </a:custGeom>
          <a:noFill/>
          <a:ln w="1260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6307200" y="3457440"/>
            <a:ext cx="38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1887480" y="1836720"/>
            <a:ext cx="3732120" cy="37321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接连接符 6"/>
          <p:cNvSpPr/>
          <p:nvPr/>
        </p:nvSpPr>
        <p:spPr>
          <a:xfrm>
            <a:off x="1333440" y="0"/>
            <a:ext cx="0" cy="1209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 15"/>
          <p:cNvSpPr/>
          <p:nvPr/>
        </p:nvSpPr>
        <p:spPr>
          <a:xfrm>
            <a:off x="10686960" y="3581280"/>
            <a:ext cx="0" cy="3276720"/>
          </a:xfrm>
          <a:prstGeom prst="line">
            <a:avLst/>
          </a:prstGeom>
          <a:ln w="1260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7"/>
          <p:cNvSpPr/>
          <p:nvPr/>
        </p:nvSpPr>
        <p:spPr>
          <a:xfrm>
            <a:off x="4695840" y="2460600"/>
            <a:ext cx="25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f9000"/>
                </a:solidFill>
                <a:latin typeface="微软雅黑"/>
                <a:ea typeface="微软雅黑"/>
              </a:rPr>
              <a:t>谢谢观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21"/>
          <p:cNvSpPr/>
          <p:nvPr/>
        </p:nvSpPr>
        <p:spPr>
          <a:xfrm>
            <a:off x="5398920" y="3384720"/>
            <a:ext cx="12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称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6"/>
          <p:cNvSpPr/>
          <p:nvPr/>
        </p:nvSpPr>
        <p:spPr>
          <a:xfrm>
            <a:off x="6043680" y="3724200"/>
            <a:ext cx="0" cy="3133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15"/>
          <p:cNvSpPr/>
          <p:nvPr/>
        </p:nvSpPr>
        <p:spPr>
          <a:xfrm>
            <a:off x="5948280" y="-17640"/>
            <a:ext cx="19080" cy="2478240"/>
          </a:xfrm>
          <a:prstGeom prst="line">
            <a:avLst/>
          </a:prstGeom>
          <a:ln w="1260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直接连接符 4"/>
          <p:cNvSpPr/>
          <p:nvPr/>
        </p:nvSpPr>
        <p:spPr>
          <a:xfrm>
            <a:off x="4962600" y="2482920"/>
            <a:ext cx="20001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直接连接符 10"/>
          <p:cNvSpPr/>
          <p:nvPr/>
        </p:nvSpPr>
        <p:spPr>
          <a:xfrm>
            <a:off x="5572080" y="3724200"/>
            <a:ext cx="866880" cy="0"/>
          </a:xfrm>
          <a:prstGeom prst="line">
            <a:avLst/>
          </a:prstGeom>
          <a:ln w="1260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3246840" y="59007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11288880" cy="6858000"/>
            <a:chOff x="0" y="0"/>
            <a:chExt cx="11288880" cy="6858000"/>
          </a:xfrm>
        </p:grpSpPr>
        <p:sp>
          <p:nvSpPr>
            <p:cNvPr id="82" name="矩形 4"/>
            <p:cNvSpPr/>
            <p:nvPr/>
          </p:nvSpPr>
          <p:spPr>
            <a:xfrm>
              <a:off x="18950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1128888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Box 7"/>
            <p:cNvSpPr/>
            <p:nvPr/>
          </p:nvSpPr>
          <p:spPr>
            <a:xfrm rot="20926800">
              <a:off x="2503080" y="3577320"/>
              <a:ext cx="62233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03:35:05Z</dcterms:created>
  <dc:creator>D13001</dc:creator>
  <dc:description/>
  <dc:language>en-US</dc:language>
  <cp:lastModifiedBy>D13001</cp:lastModifiedBy>
  <dcterms:modified xsi:type="dcterms:W3CDTF">2014-05-29T06:44:52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