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E0B8-740A-46E1-8231-9AE5A7FD02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B238-B4D0-4B53-AB45-404E7556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84120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F8D6-845B-4D45-890F-A7A5DA0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84120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84120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D85A-A02E-4990-8E68-6C59D78B00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63837-6859-41C1-BFA0-B4BA5753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A4399-C872-4BF8-8E44-8CDA0A8A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78E59-5695-4A08-878F-D46F87C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3C994-9E6F-4A5C-9ED1-3F1B03D3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462F3-0C87-438E-A701-48BC7BA4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099B4-E912-40B5-B506-E83948F1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DD151-AF58-45DC-892D-FEBD6516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76FF-DDAE-4E68-B105-88BA8CFC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84120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8BFC4-747B-4372-BD9C-182AB65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362F4-0B56-4DA6-B5A9-9E1D07EF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C83B0-7F71-4793-A94E-E258BED6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84120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8E59D-A7DC-43FF-9FBB-EBA30D50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84120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841200"/>
            <a:ext cx="264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90387-D072-48FD-B2A1-F60FF25F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9DA6-C10D-4EC5-9ACA-1C347650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F15C-45FA-4B06-8D7A-19FF588B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C292-CACD-41EB-9811-526AE155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3B94-2017-4167-A606-495F1538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4BBF-A5E5-4416-8193-3B1EFBAF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84120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3A27-2537-4561-A8C5-B754D09E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9600" cy="22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400A-E147-4B21-B890-1D85DA22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-30000"/>
          </a:blip>
          <a:srcRect l="0" t="22855" r="0" b="0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752400" y="0"/>
            <a:ext cx="7346880" cy="6880320"/>
            <a:chOff x="752400" y="0"/>
            <a:chExt cx="7346880" cy="6880320"/>
          </a:xfrm>
        </p:grpSpPr>
        <p:sp>
          <p:nvSpPr>
            <p:cNvPr id="2" name=""/>
            <p:cNvSpPr/>
            <p:nvPr/>
          </p:nvSpPr>
          <p:spPr>
            <a:xfrm>
              <a:off x="7524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92360" y="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99080" y="126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864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216560" y="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099280" y="223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0" y="2286000"/>
            <a:ext cx="9144000" cy="4581360"/>
          </a:xfrm>
          <a:prstGeom prst="rect">
            <a:avLst/>
          </a:prstGeom>
          <a:gradFill rotWithShape="0">
            <a:gsLst>
              <a:gs pos="0">
                <a:srgbClr val="3b3b3b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sldNum" idx="1"/>
          </p:nvPr>
        </p:nvSpPr>
        <p:spPr>
          <a:xfrm>
            <a:off x="7740360" y="6502680"/>
            <a:ext cx="9824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8E94-B0FD-460F-96C1-5AA98783A4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907920"/>
            <a:ext cx="9153360" cy="56152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7308720" y="115920"/>
            <a:ext cx="18352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2" name=""/>
          <p:cNvGrpSpPr/>
          <p:nvPr/>
        </p:nvGrpSpPr>
        <p:grpSpPr>
          <a:xfrm>
            <a:off x="4859280" y="333360"/>
            <a:ext cx="2268360" cy="504360"/>
            <a:chOff x="4859280" y="333360"/>
            <a:chExt cx="2268360" cy="504360"/>
          </a:xfrm>
        </p:grpSpPr>
        <p:sp>
          <p:nvSpPr>
            <p:cNvPr id="13" name=""/>
            <p:cNvSpPr/>
            <p:nvPr/>
          </p:nvSpPr>
          <p:spPr>
            <a:xfrm>
              <a:off x="4859280" y="340200"/>
              <a:ext cx="351000" cy="49500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178600" y="338040"/>
              <a:ext cx="351000" cy="49500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98280" y="342720"/>
              <a:ext cx="351000" cy="49500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17960" y="340200"/>
              <a:ext cx="351000" cy="49500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137280" y="338040"/>
              <a:ext cx="351000" cy="49500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456960" y="335520"/>
              <a:ext cx="351000" cy="49500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776640" y="333360"/>
              <a:ext cx="351000" cy="49500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0" name=""/>
          <p:cNvSpPr/>
          <p:nvPr/>
        </p:nvSpPr>
        <p:spPr>
          <a:xfrm>
            <a:off x="0" y="907920"/>
            <a:ext cx="9144000" cy="476280"/>
          </a:xfrm>
          <a:prstGeom prst="rect">
            <a:avLst/>
          </a:prstGeom>
          <a:blipFill rotWithShape="0">
            <a:blip r:embed="rId4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1908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dt" idx="2"/>
          </p:nvPr>
        </p:nvSpPr>
        <p:spPr>
          <a:xfrm>
            <a:off x="250920" y="652428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565360"/>
            <a:ext cx="9144000" cy="4302000"/>
          </a:xfrm>
          <a:prstGeom prst="rect">
            <a:avLst/>
          </a:prstGeom>
          <a:gradFill rotWithShape="0">
            <a:gsLst>
              <a:gs pos="0">
                <a:srgbClr val="3b3b3b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52400" y="0"/>
            <a:ext cx="7346880" cy="6880320"/>
            <a:chOff x="752400" y="0"/>
            <a:chExt cx="7346880" cy="6880320"/>
          </a:xfrm>
        </p:grpSpPr>
        <p:sp>
          <p:nvSpPr>
            <p:cNvPr id="64" name=""/>
            <p:cNvSpPr/>
            <p:nvPr/>
          </p:nvSpPr>
          <p:spPr>
            <a:xfrm>
              <a:off x="7524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92360" y="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99080" y="1260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864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16560" y="648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99280" y="2232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2600280"/>
            <a:ext cx="9144000" cy="1150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349360"/>
            <a:ext cx="9144000" cy="2509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716280"/>
            <a:ext cx="9144000" cy="50472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55640" y="1123920"/>
            <a:ext cx="2508120" cy="1657440"/>
            <a:chOff x="755640" y="1123920"/>
            <a:chExt cx="2508120" cy="1657440"/>
          </a:xfrm>
        </p:grpSpPr>
        <p:sp>
          <p:nvSpPr>
            <p:cNvPr id="74" name=""/>
            <p:cNvSpPr/>
            <p:nvPr/>
          </p:nvSpPr>
          <p:spPr>
            <a:xfrm>
              <a:off x="1940040" y="1123920"/>
              <a:ext cx="726840" cy="628560"/>
            </a:xfrm>
            <a:prstGeom prst="hexagon">
              <a:avLst>
                <a:gd name="adj" fmla="val 28909"/>
                <a:gd name="vf" fmla="val 115470"/>
              </a:avLst>
            </a:prstGeom>
            <a:noFill/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27200" y="1463760"/>
              <a:ext cx="727200" cy="628560"/>
            </a:xfrm>
            <a:prstGeom prst="hexagon">
              <a:avLst>
                <a:gd name="adj" fmla="val 28923"/>
                <a:gd name="vf" fmla="val 115470"/>
              </a:avLst>
            </a:prstGeom>
            <a:noFill/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42920" y="1803240"/>
              <a:ext cx="727200" cy="628920"/>
            </a:xfrm>
            <a:prstGeom prst="hexagon">
              <a:avLst>
                <a:gd name="adj" fmla="val 28907"/>
                <a:gd name="vf" fmla="val 115470"/>
              </a:avLst>
            </a:prstGeom>
            <a:noFill/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49280" y="1467000"/>
              <a:ext cx="727200" cy="628560"/>
            </a:xfrm>
            <a:prstGeom prst="hexagon">
              <a:avLst>
                <a:gd name="adj" fmla="val 28923"/>
                <a:gd name="vf" fmla="val 115470"/>
              </a:avLst>
            </a:prstGeom>
            <a:noFill/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640" y="1130400"/>
              <a:ext cx="727200" cy="628560"/>
            </a:xfrm>
            <a:prstGeom prst="hexagon">
              <a:avLst>
                <a:gd name="adj" fmla="val 28923"/>
                <a:gd name="vf" fmla="val 115470"/>
              </a:avLst>
            </a:prstGeom>
            <a:noFill/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1480" y="1812960"/>
              <a:ext cx="727200" cy="628560"/>
            </a:xfrm>
            <a:prstGeom prst="hexagon">
              <a:avLst>
                <a:gd name="adj" fmla="val 28923"/>
                <a:gd name="vf" fmla="val 115470"/>
              </a:avLst>
            </a:prstGeom>
            <a:noFill/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59000" y="2152800"/>
              <a:ext cx="726840" cy="628560"/>
            </a:xfrm>
            <a:prstGeom prst="hexagon">
              <a:avLst>
                <a:gd name="adj" fmla="val 28909"/>
                <a:gd name="vf" fmla="val 115470"/>
              </a:avLst>
            </a:prstGeom>
            <a:noFill/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36920" y="2139840"/>
              <a:ext cx="726840" cy="628560"/>
            </a:xfrm>
            <a:prstGeom prst="hexagon">
              <a:avLst>
                <a:gd name="adj" fmla="val 28909"/>
                <a:gd name="vf" fmla="val 115470"/>
              </a:avLst>
            </a:prstGeom>
            <a:noFill/>
            <a:ln w="936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75640" y="3500280"/>
            <a:ext cx="2268000" cy="504720"/>
            <a:chOff x="6875640" y="3500280"/>
            <a:chExt cx="2268000" cy="504720"/>
          </a:xfrm>
        </p:grpSpPr>
        <p:sp>
          <p:nvSpPr>
            <p:cNvPr id="83" name=""/>
            <p:cNvSpPr/>
            <p:nvPr/>
          </p:nvSpPr>
          <p:spPr>
            <a:xfrm>
              <a:off x="6875640" y="350712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94960" y="350496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14640" y="350964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33960" y="350712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53640" y="350496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73320" y="350244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792640" y="350028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50920" y="3575160"/>
            <a:ext cx="1441440" cy="285480"/>
            <a:chOff x="250920" y="3575160"/>
            <a:chExt cx="1441440" cy="285480"/>
          </a:xfrm>
        </p:grpSpPr>
        <p:sp>
          <p:nvSpPr>
            <p:cNvPr id="91" name=""/>
            <p:cNvSpPr/>
            <p:nvPr/>
          </p:nvSpPr>
          <p:spPr>
            <a:xfrm>
              <a:off x="250920" y="3582360"/>
              <a:ext cx="223200" cy="2782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4320" y="3577680"/>
              <a:ext cx="222120" cy="278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6280" y="3580560"/>
              <a:ext cx="223200" cy="2782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59680" y="3579480"/>
              <a:ext cx="223200" cy="2782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3080" y="3577680"/>
              <a:ext cx="223560" cy="2782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66480" y="3576960"/>
              <a:ext cx="222120" cy="278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68800" y="3575160"/>
              <a:ext cx="223560" cy="2782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0" y="-3240"/>
            <a:ext cx="6515280" cy="686124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-6480" y="2048040"/>
            <a:ext cx="9159480" cy="3000240"/>
            <a:chOff x="-6480" y="2048040"/>
            <a:chExt cx="9159480" cy="3000240"/>
          </a:xfrm>
        </p:grpSpPr>
        <p:sp>
          <p:nvSpPr>
            <p:cNvPr id="100" name=""/>
            <p:cNvSpPr/>
            <p:nvPr/>
          </p:nvSpPr>
          <p:spPr>
            <a:xfrm>
              <a:off x="15480" y="5048280"/>
              <a:ext cx="91375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6480" y="4240440"/>
              <a:ext cx="91375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735720"/>
              <a:ext cx="91375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2048040"/>
              <a:ext cx="91375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0" y="3254400"/>
            <a:ext cx="9144000" cy="0"/>
          </a:xfrm>
          <a:prstGeom prst="line">
            <a:avLst/>
          </a:prstGeom>
          <a:ln w="1908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24000" y="1833480"/>
            <a:ext cx="2879640" cy="1731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7308720" y="1628640"/>
            <a:ext cx="1835280" cy="1731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B363-E857-4C91-ACF1-50FFC8AB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51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5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71808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" name=""/>
          <p:cNvSpPr/>
          <p:nvPr/>
        </p:nvSpPr>
        <p:spPr>
          <a:xfrm>
            <a:off x="1413000" y="2800440"/>
            <a:ext cx="63100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"/>
          <p:cNvSpPr/>
          <p:nvPr/>
        </p:nvSpPr>
        <p:spPr>
          <a:xfrm>
            <a:off x="-223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Gulim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B1F7E-AF3B-4CAE-B6D7-CF511F9514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0200" y="1820880"/>
            <a:ext cx="8158320" cy="4262400"/>
            <a:chOff x="430200" y="1820880"/>
            <a:chExt cx="8158320" cy="4262400"/>
          </a:xfrm>
        </p:grpSpPr>
        <p:sp>
          <p:nvSpPr>
            <p:cNvPr id="155" name="未知"/>
            <p:cNvSpPr/>
            <p:nvPr/>
          </p:nvSpPr>
          <p:spPr>
            <a:xfrm>
              <a:off x="3562200" y="4483080"/>
              <a:ext cx="946440" cy="1119240"/>
            </a:xfrm>
            <a:custGeom>
              <a:avLst/>
              <a:gdLst/>
              <a:ahLst/>
              <a:rect l="l" t="t" r="r" b="b"/>
              <a:pathLst>
                <a:path w="650" h="769">
                  <a:moveTo>
                    <a:pt x="468" y="175"/>
                  </a:moveTo>
                  <a:cubicBezTo>
                    <a:pt x="464" y="189"/>
                    <a:pt x="459" y="203"/>
                    <a:pt x="456" y="217"/>
                  </a:cubicBezTo>
                  <a:cubicBezTo>
                    <a:pt x="453" y="229"/>
                    <a:pt x="462" y="250"/>
                    <a:pt x="450" y="253"/>
                  </a:cubicBezTo>
                  <a:cubicBezTo>
                    <a:pt x="436" y="257"/>
                    <a:pt x="414" y="229"/>
                    <a:pt x="414" y="229"/>
                  </a:cubicBezTo>
                  <a:cubicBezTo>
                    <a:pt x="399" y="184"/>
                    <a:pt x="421" y="238"/>
                    <a:pt x="390" y="199"/>
                  </a:cubicBezTo>
                  <a:cubicBezTo>
                    <a:pt x="386" y="194"/>
                    <a:pt x="388" y="185"/>
                    <a:pt x="384" y="181"/>
                  </a:cubicBezTo>
                  <a:cubicBezTo>
                    <a:pt x="379" y="176"/>
                    <a:pt x="338" y="160"/>
                    <a:pt x="330" y="157"/>
                  </a:cubicBezTo>
                  <a:cubicBezTo>
                    <a:pt x="280" y="169"/>
                    <a:pt x="324" y="151"/>
                    <a:pt x="300" y="181"/>
                  </a:cubicBezTo>
                  <a:cubicBezTo>
                    <a:pt x="289" y="195"/>
                    <a:pt x="261" y="201"/>
                    <a:pt x="246" y="211"/>
                  </a:cubicBezTo>
                  <a:cubicBezTo>
                    <a:pt x="209" y="187"/>
                    <a:pt x="189" y="219"/>
                    <a:pt x="156" y="241"/>
                  </a:cubicBezTo>
                  <a:cubicBezTo>
                    <a:pt x="144" y="249"/>
                    <a:pt x="120" y="265"/>
                    <a:pt x="120" y="265"/>
                  </a:cubicBezTo>
                  <a:cubicBezTo>
                    <a:pt x="107" y="317"/>
                    <a:pt x="109" y="310"/>
                    <a:pt x="54" y="319"/>
                  </a:cubicBezTo>
                  <a:cubicBezTo>
                    <a:pt x="33" y="333"/>
                    <a:pt x="20" y="346"/>
                    <a:pt x="6" y="367"/>
                  </a:cubicBezTo>
                  <a:cubicBezTo>
                    <a:pt x="13" y="417"/>
                    <a:pt x="8" y="462"/>
                    <a:pt x="0" y="511"/>
                  </a:cubicBezTo>
                  <a:cubicBezTo>
                    <a:pt x="13" y="603"/>
                    <a:pt x="6" y="588"/>
                    <a:pt x="114" y="595"/>
                  </a:cubicBezTo>
                  <a:cubicBezTo>
                    <a:pt x="124" y="593"/>
                    <a:pt x="135" y="594"/>
                    <a:pt x="144" y="589"/>
                  </a:cubicBezTo>
                  <a:cubicBezTo>
                    <a:pt x="150" y="585"/>
                    <a:pt x="150" y="575"/>
                    <a:pt x="156" y="571"/>
                  </a:cubicBezTo>
                  <a:cubicBezTo>
                    <a:pt x="167" y="564"/>
                    <a:pt x="180" y="563"/>
                    <a:pt x="192" y="559"/>
                  </a:cubicBezTo>
                  <a:cubicBezTo>
                    <a:pt x="202" y="556"/>
                    <a:pt x="212" y="556"/>
                    <a:pt x="222" y="553"/>
                  </a:cubicBezTo>
                  <a:cubicBezTo>
                    <a:pt x="234" y="550"/>
                    <a:pt x="258" y="541"/>
                    <a:pt x="258" y="541"/>
                  </a:cubicBezTo>
                  <a:cubicBezTo>
                    <a:pt x="274" y="544"/>
                    <a:pt x="304" y="545"/>
                    <a:pt x="318" y="559"/>
                  </a:cubicBezTo>
                  <a:cubicBezTo>
                    <a:pt x="334" y="575"/>
                    <a:pt x="309" y="586"/>
                    <a:pt x="342" y="595"/>
                  </a:cubicBezTo>
                  <a:cubicBezTo>
                    <a:pt x="363" y="601"/>
                    <a:pt x="386" y="599"/>
                    <a:pt x="408" y="601"/>
                  </a:cubicBezTo>
                  <a:cubicBezTo>
                    <a:pt x="442" y="624"/>
                    <a:pt x="422" y="667"/>
                    <a:pt x="462" y="685"/>
                  </a:cubicBezTo>
                  <a:cubicBezTo>
                    <a:pt x="473" y="690"/>
                    <a:pt x="486" y="689"/>
                    <a:pt x="498" y="691"/>
                  </a:cubicBezTo>
                  <a:cubicBezTo>
                    <a:pt x="494" y="725"/>
                    <a:pt x="479" y="757"/>
                    <a:pt x="516" y="769"/>
                  </a:cubicBezTo>
                  <a:cubicBezTo>
                    <a:pt x="529" y="731"/>
                    <a:pt x="540" y="727"/>
                    <a:pt x="504" y="703"/>
                  </a:cubicBezTo>
                  <a:cubicBezTo>
                    <a:pt x="490" y="661"/>
                    <a:pt x="540" y="683"/>
                    <a:pt x="570" y="673"/>
                  </a:cubicBezTo>
                  <a:cubicBezTo>
                    <a:pt x="583" y="654"/>
                    <a:pt x="603" y="646"/>
                    <a:pt x="612" y="625"/>
                  </a:cubicBezTo>
                  <a:cubicBezTo>
                    <a:pt x="617" y="613"/>
                    <a:pt x="624" y="589"/>
                    <a:pt x="624" y="589"/>
                  </a:cubicBezTo>
                  <a:cubicBezTo>
                    <a:pt x="627" y="544"/>
                    <a:pt x="622" y="490"/>
                    <a:pt x="648" y="451"/>
                  </a:cubicBezTo>
                  <a:cubicBezTo>
                    <a:pt x="643" y="418"/>
                    <a:pt x="650" y="396"/>
                    <a:pt x="618" y="385"/>
                  </a:cubicBezTo>
                  <a:cubicBezTo>
                    <a:pt x="600" y="357"/>
                    <a:pt x="593" y="338"/>
                    <a:pt x="564" y="319"/>
                  </a:cubicBezTo>
                  <a:cubicBezTo>
                    <a:pt x="553" y="285"/>
                    <a:pt x="524" y="241"/>
                    <a:pt x="504" y="211"/>
                  </a:cubicBezTo>
                  <a:cubicBezTo>
                    <a:pt x="496" y="199"/>
                    <a:pt x="480" y="175"/>
                    <a:pt x="480" y="175"/>
                  </a:cubicBezTo>
                  <a:cubicBezTo>
                    <a:pt x="490" y="135"/>
                    <a:pt x="509" y="144"/>
                    <a:pt x="552" y="139"/>
                  </a:cubicBezTo>
                  <a:cubicBezTo>
                    <a:pt x="576" y="147"/>
                    <a:pt x="581" y="159"/>
                    <a:pt x="606" y="151"/>
                  </a:cubicBezTo>
                  <a:cubicBezTo>
                    <a:pt x="596" y="101"/>
                    <a:pt x="572" y="105"/>
                    <a:pt x="534" y="79"/>
                  </a:cubicBezTo>
                  <a:cubicBezTo>
                    <a:pt x="518" y="55"/>
                    <a:pt x="504" y="52"/>
                    <a:pt x="480" y="37"/>
                  </a:cubicBezTo>
                  <a:cubicBezTo>
                    <a:pt x="468" y="30"/>
                    <a:pt x="456" y="21"/>
                    <a:pt x="444" y="13"/>
                  </a:cubicBezTo>
                  <a:cubicBezTo>
                    <a:pt x="438" y="9"/>
                    <a:pt x="426" y="1"/>
                    <a:pt x="426" y="1"/>
                  </a:cubicBezTo>
                  <a:cubicBezTo>
                    <a:pt x="416" y="3"/>
                    <a:pt x="406" y="4"/>
                    <a:pt x="396" y="7"/>
                  </a:cubicBezTo>
                  <a:cubicBezTo>
                    <a:pt x="384" y="10"/>
                    <a:pt x="360" y="19"/>
                    <a:pt x="360" y="19"/>
                  </a:cubicBezTo>
                  <a:cubicBezTo>
                    <a:pt x="333" y="1"/>
                    <a:pt x="327" y="0"/>
                    <a:pt x="294" y="7"/>
                  </a:cubicBezTo>
                  <a:cubicBezTo>
                    <a:pt x="296" y="19"/>
                    <a:pt x="292" y="34"/>
                    <a:pt x="300" y="43"/>
                  </a:cubicBezTo>
                  <a:cubicBezTo>
                    <a:pt x="308" y="53"/>
                    <a:pt x="324" y="51"/>
                    <a:pt x="336" y="55"/>
                  </a:cubicBezTo>
                  <a:cubicBezTo>
                    <a:pt x="342" y="57"/>
                    <a:pt x="354" y="61"/>
                    <a:pt x="354" y="61"/>
                  </a:cubicBezTo>
                  <a:cubicBezTo>
                    <a:pt x="363" y="89"/>
                    <a:pt x="373" y="89"/>
                    <a:pt x="396" y="73"/>
                  </a:cubicBezTo>
                  <a:cubicBezTo>
                    <a:pt x="404" y="75"/>
                    <a:pt x="414" y="74"/>
                    <a:pt x="420" y="79"/>
                  </a:cubicBezTo>
                  <a:cubicBezTo>
                    <a:pt x="443" y="97"/>
                    <a:pt x="414" y="131"/>
                    <a:pt x="456" y="145"/>
                  </a:cubicBezTo>
                  <a:cubicBezTo>
                    <a:pt x="470" y="166"/>
                    <a:pt x="468" y="156"/>
                    <a:pt x="468" y="175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28640" y="2816280"/>
              <a:ext cx="264960" cy="39672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74" y="105"/>
                  </a:moveTo>
                  <a:cubicBezTo>
                    <a:pt x="53" y="119"/>
                    <a:pt x="63" y="115"/>
                    <a:pt x="47" y="120"/>
                  </a:cubicBezTo>
                  <a:cubicBezTo>
                    <a:pt x="33" y="115"/>
                    <a:pt x="19" y="113"/>
                    <a:pt x="14" y="129"/>
                  </a:cubicBezTo>
                  <a:cubicBezTo>
                    <a:pt x="10" y="156"/>
                    <a:pt x="0" y="175"/>
                    <a:pt x="17" y="201"/>
                  </a:cubicBezTo>
                  <a:cubicBezTo>
                    <a:pt x="21" y="232"/>
                    <a:pt x="30" y="231"/>
                    <a:pt x="53" y="216"/>
                  </a:cubicBezTo>
                  <a:cubicBezTo>
                    <a:pt x="55" y="210"/>
                    <a:pt x="58" y="204"/>
                    <a:pt x="59" y="198"/>
                  </a:cubicBezTo>
                  <a:cubicBezTo>
                    <a:pt x="60" y="186"/>
                    <a:pt x="59" y="174"/>
                    <a:pt x="62" y="162"/>
                  </a:cubicBezTo>
                  <a:cubicBezTo>
                    <a:pt x="64" y="154"/>
                    <a:pt x="77" y="145"/>
                    <a:pt x="80" y="135"/>
                  </a:cubicBezTo>
                  <a:cubicBezTo>
                    <a:pt x="82" y="121"/>
                    <a:pt x="84" y="89"/>
                    <a:pt x="95" y="123"/>
                  </a:cubicBezTo>
                  <a:cubicBezTo>
                    <a:pt x="94" y="147"/>
                    <a:pt x="99" y="209"/>
                    <a:pt x="77" y="231"/>
                  </a:cubicBezTo>
                  <a:cubicBezTo>
                    <a:pt x="80" y="249"/>
                    <a:pt x="79" y="267"/>
                    <a:pt x="98" y="273"/>
                  </a:cubicBezTo>
                  <a:cubicBezTo>
                    <a:pt x="109" y="266"/>
                    <a:pt x="114" y="264"/>
                    <a:pt x="119" y="249"/>
                  </a:cubicBezTo>
                  <a:cubicBezTo>
                    <a:pt x="120" y="245"/>
                    <a:pt x="123" y="233"/>
                    <a:pt x="128" y="231"/>
                  </a:cubicBezTo>
                  <a:cubicBezTo>
                    <a:pt x="137" y="227"/>
                    <a:pt x="162" y="222"/>
                    <a:pt x="173" y="219"/>
                  </a:cubicBezTo>
                  <a:cubicBezTo>
                    <a:pt x="181" y="195"/>
                    <a:pt x="178" y="207"/>
                    <a:pt x="182" y="183"/>
                  </a:cubicBezTo>
                  <a:cubicBezTo>
                    <a:pt x="179" y="152"/>
                    <a:pt x="165" y="138"/>
                    <a:pt x="161" y="111"/>
                  </a:cubicBezTo>
                  <a:cubicBezTo>
                    <a:pt x="158" y="93"/>
                    <a:pt x="155" y="75"/>
                    <a:pt x="152" y="57"/>
                  </a:cubicBezTo>
                  <a:cubicBezTo>
                    <a:pt x="150" y="45"/>
                    <a:pt x="152" y="18"/>
                    <a:pt x="143" y="9"/>
                  </a:cubicBezTo>
                  <a:cubicBezTo>
                    <a:pt x="134" y="0"/>
                    <a:pt x="119" y="4"/>
                    <a:pt x="107" y="3"/>
                  </a:cubicBezTo>
                  <a:cubicBezTo>
                    <a:pt x="99" y="15"/>
                    <a:pt x="91" y="25"/>
                    <a:pt x="86" y="39"/>
                  </a:cubicBezTo>
                  <a:cubicBezTo>
                    <a:pt x="100" y="48"/>
                    <a:pt x="94" y="55"/>
                    <a:pt x="89" y="69"/>
                  </a:cubicBezTo>
                  <a:cubicBezTo>
                    <a:pt x="97" y="93"/>
                    <a:pt x="89" y="63"/>
                    <a:pt x="89" y="87"/>
                  </a:cubicBezTo>
                  <a:cubicBezTo>
                    <a:pt x="89" y="99"/>
                    <a:pt x="94" y="114"/>
                    <a:pt x="98" y="126"/>
                  </a:cubicBezTo>
                  <a:cubicBezTo>
                    <a:pt x="97" y="129"/>
                    <a:pt x="98" y="135"/>
                    <a:pt x="95" y="135"/>
                  </a:cubicBezTo>
                  <a:cubicBezTo>
                    <a:pt x="92" y="135"/>
                    <a:pt x="94" y="128"/>
                    <a:pt x="92" y="126"/>
                  </a:cubicBezTo>
                  <a:cubicBezTo>
                    <a:pt x="90" y="123"/>
                    <a:pt x="85" y="123"/>
                    <a:pt x="83" y="120"/>
                  </a:cubicBezTo>
                  <a:cubicBezTo>
                    <a:pt x="79" y="116"/>
                    <a:pt x="77" y="110"/>
                    <a:pt x="74" y="105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2247840" y="1855800"/>
              <a:ext cx="217440" cy="453960"/>
            </a:xfrm>
            <a:custGeom>
              <a:avLst/>
              <a:gdLst/>
              <a:ahLst/>
              <a:rect l="l" t="t" r="r" b="b"/>
              <a:pathLst>
                <a:path w="149" h="312">
                  <a:moveTo>
                    <a:pt x="113" y="3"/>
                  </a:moveTo>
                  <a:cubicBezTo>
                    <a:pt x="108" y="19"/>
                    <a:pt x="97" y="39"/>
                    <a:pt x="80" y="45"/>
                  </a:cubicBezTo>
                  <a:cubicBezTo>
                    <a:pt x="68" y="57"/>
                    <a:pt x="74" y="73"/>
                    <a:pt x="62" y="84"/>
                  </a:cubicBezTo>
                  <a:cubicBezTo>
                    <a:pt x="57" y="89"/>
                    <a:pt x="44" y="96"/>
                    <a:pt x="44" y="96"/>
                  </a:cubicBezTo>
                  <a:cubicBezTo>
                    <a:pt x="35" y="124"/>
                    <a:pt x="46" y="162"/>
                    <a:pt x="11" y="174"/>
                  </a:cubicBezTo>
                  <a:cubicBezTo>
                    <a:pt x="9" y="180"/>
                    <a:pt x="7" y="186"/>
                    <a:pt x="5" y="192"/>
                  </a:cubicBezTo>
                  <a:cubicBezTo>
                    <a:pt x="4" y="195"/>
                    <a:pt x="2" y="201"/>
                    <a:pt x="2" y="201"/>
                  </a:cubicBezTo>
                  <a:cubicBezTo>
                    <a:pt x="6" y="240"/>
                    <a:pt x="0" y="288"/>
                    <a:pt x="35" y="312"/>
                  </a:cubicBezTo>
                  <a:cubicBezTo>
                    <a:pt x="49" y="308"/>
                    <a:pt x="49" y="301"/>
                    <a:pt x="62" y="297"/>
                  </a:cubicBezTo>
                  <a:cubicBezTo>
                    <a:pt x="72" y="268"/>
                    <a:pt x="61" y="219"/>
                    <a:pt x="53" y="189"/>
                  </a:cubicBezTo>
                  <a:cubicBezTo>
                    <a:pt x="58" y="140"/>
                    <a:pt x="56" y="170"/>
                    <a:pt x="77" y="177"/>
                  </a:cubicBezTo>
                  <a:cubicBezTo>
                    <a:pt x="81" y="165"/>
                    <a:pt x="85" y="160"/>
                    <a:pt x="95" y="153"/>
                  </a:cubicBezTo>
                  <a:cubicBezTo>
                    <a:pt x="100" y="139"/>
                    <a:pt x="96" y="123"/>
                    <a:pt x="104" y="111"/>
                  </a:cubicBezTo>
                  <a:cubicBezTo>
                    <a:pt x="108" y="106"/>
                    <a:pt x="116" y="107"/>
                    <a:pt x="122" y="105"/>
                  </a:cubicBezTo>
                  <a:cubicBezTo>
                    <a:pt x="128" y="103"/>
                    <a:pt x="136" y="94"/>
                    <a:pt x="140" y="90"/>
                  </a:cubicBezTo>
                  <a:cubicBezTo>
                    <a:pt x="147" y="70"/>
                    <a:pt x="149" y="48"/>
                    <a:pt x="131" y="36"/>
                  </a:cubicBezTo>
                  <a:cubicBezTo>
                    <a:pt x="129" y="33"/>
                    <a:pt x="126" y="30"/>
                    <a:pt x="125" y="27"/>
                  </a:cubicBezTo>
                  <a:cubicBezTo>
                    <a:pt x="123" y="22"/>
                    <a:pt x="125" y="16"/>
                    <a:pt x="122" y="12"/>
                  </a:cubicBezTo>
                  <a:cubicBezTo>
                    <a:pt x="119" y="6"/>
                    <a:pt x="104" y="10"/>
                    <a:pt x="104" y="3"/>
                  </a:cubicBezTo>
                  <a:cubicBezTo>
                    <a:pt x="104" y="0"/>
                    <a:pt x="110" y="3"/>
                    <a:pt x="113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3083040" y="4335480"/>
              <a:ext cx="304560" cy="258840"/>
            </a:xfrm>
            <a:custGeom>
              <a:avLst/>
              <a:gdLst/>
              <a:ahLst/>
              <a:rect l="l" t="t" r="r" b="b"/>
              <a:pathLst>
                <a:path w="209" h="177">
                  <a:moveTo>
                    <a:pt x="107" y="36"/>
                  </a:moveTo>
                  <a:cubicBezTo>
                    <a:pt x="88" y="31"/>
                    <a:pt x="98" y="35"/>
                    <a:pt x="77" y="21"/>
                  </a:cubicBezTo>
                  <a:cubicBezTo>
                    <a:pt x="72" y="17"/>
                    <a:pt x="59" y="15"/>
                    <a:pt x="59" y="15"/>
                  </a:cubicBezTo>
                  <a:cubicBezTo>
                    <a:pt x="48" y="4"/>
                    <a:pt x="42" y="3"/>
                    <a:pt x="26" y="0"/>
                  </a:cubicBezTo>
                  <a:cubicBezTo>
                    <a:pt x="0" y="9"/>
                    <a:pt x="33" y="28"/>
                    <a:pt x="47" y="33"/>
                  </a:cubicBezTo>
                  <a:cubicBezTo>
                    <a:pt x="55" y="45"/>
                    <a:pt x="62" y="48"/>
                    <a:pt x="74" y="54"/>
                  </a:cubicBezTo>
                  <a:cubicBezTo>
                    <a:pt x="85" y="87"/>
                    <a:pt x="67" y="38"/>
                    <a:pt x="86" y="69"/>
                  </a:cubicBezTo>
                  <a:cubicBezTo>
                    <a:pt x="93" y="81"/>
                    <a:pt x="92" y="96"/>
                    <a:pt x="98" y="108"/>
                  </a:cubicBezTo>
                  <a:cubicBezTo>
                    <a:pt x="109" y="130"/>
                    <a:pt x="135" y="143"/>
                    <a:pt x="155" y="156"/>
                  </a:cubicBezTo>
                  <a:cubicBezTo>
                    <a:pt x="165" y="171"/>
                    <a:pt x="173" y="168"/>
                    <a:pt x="191" y="171"/>
                  </a:cubicBezTo>
                  <a:cubicBezTo>
                    <a:pt x="209" y="177"/>
                    <a:pt x="206" y="155"/>
                    <a:pt x="200" y="141"/>
                  </a:cubicBezTo>
                  <a:cubicBezTo>
                    <a:pt x="197" y="134"/>
                    <a:pt x="187" y="132"/>
                    <a:pt x="182" y="126"/>
                  </a:cubicBezTo>
                  <a:cubicBezTo>
                    <a:pt x="171" y="112"/>
                    <a:pt x="169" y="102"/>
                    <a:pt x="155" y="93"/>
                  </a:cubicBezTo>
                  <a:cubicBezTo>
                    <a:pt x="143" y="74"/>
                    <a:pt x="142" y="89"/>
                    <a:pt x="125" y="63"/>
                  </a:cubicBezTo>
                  <a:cubicBezTo>
                    <a:pt x="121" y="57"/>
                    <a:pt x="117" y="51"/>
                    <a:pt x="113" y="45"/>
                  </a:cubicBezTo>
                  <a:cubicBezTo>
                    <a:pt x="111" y="42"/>
                    <a:pt x="107" y="36"/>
                    <a:pt x="107" y="36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3408480" y="4222800"/>
              <a:ext cx="411120" cy="471600"/>
            </a:xfrm>
            <a:custGeom>
              <a:avLst/>
              <a:gdLst/>
              <a:ahLst/>
              <a:rect l="l" t="t" r="r" b="b"/>
              <a:pathLst>
                <a:path w="282" h="324">
                  <a:moveTo>
                    <a:pt x="198" y="0"/>
                  </a:moveTo>
                  <a:cubicBezTo>
                    <a:pt x="184" y="21"/>
                    <a:pt x="188" y="11"/>
                    <a:pt x="183" y="27"/>
                  </a:cubicBezTo>
                  <a:cubicBezTo>
                    <a:pt x="190" y="49"/>
                    <a:pt x="196" y="63"/>
                    <a:pt x="168" y="57"/>
                  </a:cubicBezTo>
                  <a:cubicBezTo>
                    <a:pt x="159" y="30"/>
                    <a:pt x="140" y="75"/>
                    <a:pt x="129" y="78"/>
                  </a:cubicBezTo>
                  <a:cubicBezTo>
                    <a:pt x="114" y="82"/>
                    <a:pt x="121" y="80"/>
                    <a:pt x="108" y="84"/>
                  </a:cubicBezTo>
                  <a:cubicBezTo>
                    <a:pt x="100" y="95"/>
                    <a:pt x="98" y="104"/>
                    <a:pt x="87" y="111"/>
                  </a:cubicBezTo>
                  <a:cubicBezTo>
                    <a:pt x="80" y="122"/>
                    <a:pt x="74" y="122"/>
                    <a:pt x="63" y="129"/>
                  </a:cubicBezTo>
                  <a:cubicBezTo>
                    <a:pt x="27" y="117"/>
                    <a:pt x="32" y="135"/>
                    <a:pt x="24" y="159"/>
                  </a:cubicBezTo>
                  <a:cubicBezTo>
                    <a:pt x="29" y="194"/>
                    <a:pt x="36" y="179"/>
                    <a:pt x="66" y="189"/>
                  </a:cubicBezTo>
                  <a:cubicBezTo>
                    <a:pt x="69" y="197"/>
                    <a:pt x="80" y="208"/>
                    <a:pt x="72" y="216"/>
                  </a:cubicBezTo>
                  <a:cubicBezTo>
                    <a:pt x="67" y="221"/>
                    <a:pt x="54" y="228"/>
                    <a:pt x="54" y="228"/>
                  </a:cubicBezTo>
                  <a:cubicBezTo>
                    <a:pt x="40" y="249"/>
                    <a:pt x="44" y="239"/>
                    <a:pt x="39" y="255"/>
                  </a:cubicBezTo>
                  <a:cubicBezTo>
                    <a:pt x="14" y="247"/>
                    <a:pt x="27" y="248"/>
                    <a:pt x="0" y="252"/>
                  </a:cubicBezTo>
                  <a:cubicBezTo>
                    <a:pt x="9" y="280"/>
                    <a:pt x="6" y="278"/>
                    <a:pt x="39" y="282"/>
                  </a:cubicBezTo>
                  <a:cubicBezTo>
                    <a:pt x="52" y="286"/>
                    <a:pt x="65" y="291"/>
                    <a:pt x="78" y="294"/>
                  </a:cubicBezTo>
                  <a:cubicBezTo>
                    <a:pt x="86" y="306"/>
                    <a:pt x="87" y="319"/>
                    <a:pt x="102" y="324"/>
                  </a:cubicBezTo>
                  <a:cubicBezTo>
                    <a:pt x="119" y="307"/>
                    <a:pt x="123" y="291"/>
                    <a:pt x="102" y="273"/>
                  </a:cubicBezTo>
                  <a:cubicBezTo>
                    <a:pt x="92" y="264"/>
                    <a:pt x="82" y="264"/>
                    <a:pt x="69" y="261"/>
                  </a:cubicBezTo>
                  <a:cubicBezTo>
                    <a:pt x="63" y="259"/>
                    <a:pt x="51" y="255"/>
                    <a:pt x="51" y="255"/>
                  </a:cubicBezTo>
                  <a:cubicBezTo>
                    <a:pt x="67" y="245"/>
                    <a:pt x="66" y="225"/>
                    <a:pt x="84" y="219"/>
                  </a:cubicBezTo>
                  <a:cubicBezTo>
                    <a:pt x="92" y="220"/>
                    <a:pt x="101" y="219"/>
                    <a:pt x="108" y="222"/>
                  </a:cubicBezTo>
                  <a:cubicBezTo>
                    <a:pt x="115" y="225"/>
                    <a:pt x="113" y="235"/>
                    <a:pt x="117" y="240"/>
                  </a:cubicBezTo>
                  <a:cubicBezTo>
                    <a:pt x="121" y="245"/>
                    <a:pt x="129" y="247"/>
                    <a:pt x="135" y="249"/>
                  </a:cubicBezTo>
                  <a:cubicBezTo>
                    <a:pt x="144" y="235"/>
                    <a:pt x="147" y="226"/>
                    <a:pt x="162" y="216"/>
                  </a:cubicBezTo>
                  <a:cubicBezTo>
                    <a:pt x="170" y="204"/>
                    <a:pt x="176" y="205"/>
                    <a:pt x="189" y="201"/>
                  </a:cubicBezTo>
                  <a:cubicBezTo>
                    <a:pt x="201" y="218"/>
                    <a:pt x="196" y="238"/>
                    <a:pt x="207" y="255"/>
                  </a:cubicBezTo>
                  <a:cubicBezTo>
                    <a:pt x="226" y="249"/>
                    <a:pt x="221" y="230"/>
                    <a:pt x="237" y="219"/>
                  </a:cubicBezTo>
                  <a:cubicBezTo>
                    <a:pt x="240" y="220"/>
                    <a:pt x="244" y="220"/>
                    <a:pt x="246" y="222"/>
                  </a:cubicBezTo>
                  <a:cubicBezTo>
                    <a:pt x="248" y="224"/>
                    <a:pt x="246" y="231"/>
                    <a:pt x="249" y="231"/>
                  </a:cubicBezTo>
                  <a:cubicBezTo>
                    <a:pt x="253" y="231"/>
                    <a:pt x="257" y="215"/>
                    <a:pt x="258" y="213"/>
                  </a:cubicBezTo>
                  <a:cubicBezTo>
                    <a:pt x="262" y="183"/>
                    <a:pt x="259" y="191"/>
                    <a:pt x="282" y="183"/>
                  </a:cubicBezTo>
                  <a:cubicBezTo>
                    <a:pt x="277" y="136"/>
                    <a:pt x="274" y="150"/>
                    <a:pt x="237" y="138"/>
                  </a:cubicBezTo>
                  <a:cubicBezTo>
                    <a:pt x="228" y="139"/>
                    <a:pt x="218" y="138"/>
                    <a:pt x="210" y="141"/>
                  </a:cubicBezTo>
                  <a:cubicBezTo>
                    <a:pt x="205" y="143"/>
                    <a:pt x="203" y="171"/>
                    <a:pt x="195" y="183"/>
                  </a:cubicBezTo>
                  <a:cubicBezTo>
                    <a:pt x="187" y="182"/>
                    <a:pt x="178" y="184"/>
                    <a:pt x="171" y="180"/>
                  </a:cubicBezTo>
                  <a:cubicBezTo>
                    <a:pt x="168" y="178"/>
                    <a:pt x="172" y="173"/>
                    <a:pt x="174" y="171"/>
                  </a:cubicBezTo>
                  <a:cubicBezTo>
                    <a:pt x="180" y="164"/>
                    <a:pt x="190" y="164"/>
                    <a:pt x="198" y="162"/>
                  </a:cubicBezTo>
                  <a:cubicBezTo>
                    <a:pt x="196" y="146"/>
                    <a:pt x="197" y="129"/>
                    <a:pt x="192" y="114"/>
                  </a:cubicBezTo>
                  <a:cubicBezTo>
                    <a:pt x="190" y="108"/>
                    <a:pt x="186" y="96"/>
                    <a:pt x="186" y="96"/>
                  </a:cubicBezTo>
                  <a:cubicBezTo>
                    <a:pt x="189" y="73"/>
                    <a:pt x="197" y="49"/>
                    <a:pt x="204" y="27"/>
                  </a:cubicBezTo>
                  <a:cubicBezTo>
                    <a:pt x="200" y="10"/>
                    <a:pt x="202" y="19"/>
                    <a:pt x="1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3719520" y="3990960"/>
              <a:ext cx="88920" cy="166680"/>
            </a:xfrm>
            <a:custGeom>
              <a:avLst/>
              <a:gdLst/>
              <a:ahLst/>
              <a:rect l="l" t="t" r="r" b="b"/>
              <a:pathLst>
                <a:path w="61" h="114">
                  <a:moveTo>
                    <a:pt x="9" y="27"/>
                  </a:moveTo>
                  <a:cubicBezTo>
                    <a:pt x="16" y="38"/>
                    <a:pt x="19" y="37"/>
                    <a:pt x="12" y="54"/>
                  </a:cubicBezTo>
                  <a:cubicBezTo>
                    <a:pt x="9" y="61"/>
                    <a:pt x="0" y="72"/>
                    <a:pt x="0" y="72"/>
                  </a:cubicBezTo>
                  <a:cubicBezTo>
                    <a:pt x="6" y="91"/>
                    <a:pt x="30" y="99"/>
                    <a:pt x="48" y="105"/>
                  </a:cubicBezTo>
                  <a:cubicBezTo>
                    <a:pt x="50" y="108"/>
                    <a:pt x="50" y="114"/>
                    <a:pt x="54" y="114"/>
                  </a:cubicBezTo>
                  <a:cubicBezTo>
                    <a:pt x="58" y="114"/>
                    <a:pt x="61" y="109"/>
                    <a:pt x="60" y="105"/>
                  </a:cubicBezTo>
                  <a:cubicBezTo>
                    <a:pt x="59" y="101"/>
                    <a:pt x="45" y="92"/>
                    <a:pt x="42" y="90"/>
                  </a:cubicBezTo>
                  <a:cubicBezTo>
                    <a:pt x="41" y="73"/>
                    <a:pt x="50" y="0"/>
                    <a:pt x="9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3784680" y="4233960"/>
              <a:ext cx="77760" cy="15084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42" y="16"/>
                  </a:moveTo>
                  <a:cubicBezTo>
                    <a:pt x="31" y="23"/>
                    <a:pt x="25" y="22"/>
                    <a:pt x="21" y="34"/>
                  </a:cubicBezTo>
                  <a:cubicBezTo>
                    <a:pt x="10" y="27"/>
                    <a:pt x="5" y="19"/>
                    <a:pt x="0" y="34"/>
                  </a:cubicBezTo>
                  <a:cubicBezTo>
                    <a:pt x="5" y="50"/>
                    <a:pt x="1" y="40"/>
                    <a:pt x="15" y="61"/>
                  </a:cubicBezTo>
                  <a:cubicBezTo>
                    <a:pt x="17" y="64"/>
                    <a:pt x="21" y="70"/>
                    <a:pt x="21" y="70"/>
                  </a:cubicBezTo>
                  <a:cubicBezTo>
                    <a:pt x="24" y="97"/>
                    <a:pt x="20" y="103"/>
                    <a:pt x="45" y="97"/>
                  </a:cubicBezTo>
                  <a:cubicBezTo>
                    <a:pt x="50" y="81"/>
                    <a:pt x="50" y="65"/>
                    <a:pt x="54" y="49"/>
                  </a:cubicBezTo>
                  <a:cubicBezTo>
                    <a:pt x="53" y="38"/>
                    <a:pt x="54" y="27"/>
                    <a:pt x="51" y="16"/>
                  </a:cubicBezTo>
                  <a:cubicBezTo>
                    <a:pt x="49" y="10"/>
                    <a:pt x="33" y="0"/>
                    <a:pt x="33" y="7"/>
                  </a:cubicBezTo>
                  <a:cubicBezTo>
                    <a:pt x="33" y="11"/>
                    <a:pt x="39" y="13"/>
                    <a:pt x="4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4254480" y="3030480"/>
              <a:ext cx="71280" cy="279360"/>
            </a:xfrm>
            <a:custGeom>
              <a:avLst/>
              <a:gdLst/>
              <a:ahLst/>
              <a:rect l="l" t="t" r="r" b="b"/>
              <a:pathLst>
                <a:path w="49" h="192">
                  <a:moveTo>
                    <a:pt x="31" y="0"/>
                  </a:moveTo>
                  <a:cubicBezTo>
                    <a:pt x="31" y="0"/>
                    <a:pt x="22" y="27"/>
                    <a:pt x="22" y="27"/>
                  </a:cubicBezTo>
                  <a:cubicBezTo>
                    <a:pt x="21" y="30"/>
                    <a:pt x="19" y="36"/>
                    <a:pt x="19" y="36"/>
                  </a:cubicBezTo>
                  <a:cubicBezTo>
                    <a:pt x="17" y="65"/>
                    <a:pt x="15" y="77"/>
                    <a:pt x="10" y="102"/>
                  </a:cubicBezTo>
                  <a:cubicBezTo>
                    <a:pt x="9" y="115"/>
                    <a:pt x="9" y="128"/>
                    <a:pt x="7" y="141"/>
                  </a:cubicBezTo>
                  <a:cubicBezTo>
                    <a:pt x="6" y="147"/>
                    <a:pt x="1" y="159"/>
                    <a:pt x="1" y="159"/>
                  </a:cubicBezTo>
                  <a:cubicBezTo>
                    <a:pt x="2" y="169"/>
                    <a:pt x="0" y="180"/>
                    <a:pt x="4" y="189"/>
                  </a:cubicBezTo>
                  <a:cubicBezTo>
                    <a:pt x="5" y="192"/>
                    <a:pt x="11" y="189"/>
                    <a:pt x="13" y="186"/>
                  </a:cubicBezTo>
                  <a:cubicBezTo>
                    <a:pt x="27" y="164"/>
                    <a:pt x="4" y="175"/>
                    <a:pt x="25" y="168"/>
                  </a:cubicBezTo>
                  <a:cubicBezTo>
                    <a:pt x="34" y="155"/>
                    <a:pt x="31" y="142"/>
                    <a:pt x="40" y="129"/>
                  </a:cubicBezTo>
                  <a:cubicBezTo>
                    <a:pt x="41" y="112"/>
                    <a:pt x="41" y="95"/>
                    <a:pt x="43" y="78"/>
                  </a:cubicBezTo>
                  <a:cubicBezTo>
                    <a:pt x="44" y="72"/>
                    <a:pt x="49" y="60"/>
                    <a:pt x="49" y="60"/>
                  </a:cubicBezTo>
                  <a:cubicBezTo>
                    <a:pt x="48" y="52"/>
                    <a:pt x="49" y="44"/>
                    <a:pt x="46" y="36"/>
                  </a:cubicBezTo>
                  <a:lnTo>
                    <a:pt x="31" y="0"/>
                  </a:ln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970440" y="3335400"/>
              <a:ext cx="392040" cy="444600"/>
            </a:xfrm>
            <a:custGeom>
              <a:avLst/>
              <a:gdLst/>
              <a:ahLst/>
              <a:rect l="l" t="t" r="r" b="b"/>
              <a:pathLst>
                <a:path w="269" h="305">
                  <a:moveTo>
                    <a:pt x="222" y="5"/>
                  </a:moveTo>
                  <a:cubicBezTo>
                    <a:pt x="217" y="8"/>
                    <a:pt x="202" y="18"/>
                    <a:pt x="195" y="23"/>
                  </a:cubicBezTo>
                  <a:cubicBezTo>
                    <a:pt x="192" y="25"/>
                    <a:pt x="186" y="29"/>
                    <a:pt x="186" y="29"/>
                  </a:cubicBezTo>
                  <a:cubicBezTo>
                    <a:pt x="178" y="52"/>
                    <a:pt x="195" y="79"/>
                    <a:pt x="171" y="95"/>
                  </a:cubicBezTo>
                  <a:cubicBezTo>
                    <a:pt x="162" y="108"/>
                    <a:pt x="159" y="129"/>
                    <a:pt x="144" y="134"/>
                  </a:cubicBezTo>
                  <a:cubicBezTo>
                    <a:pt x="139" y="142"/>
                    <a:pt x="106" y="180"/>
                    <a:pt x="99" y="182"/>
                  </a:cubicBezTo>
                  <a:cubicBezTo>
                    <a:pt x="89" y="184"/>
                    <a:pt x="79" y="184"/>
                    <a:pt x="69" y="185"/>
                  </a:cubicBezTo>
                  <a:cubicBezTo>
                    <a:pt x="62" y="206"/>
                    <a:pt x="69" y="201"/>
                    <a:pt x="54" y="206"/>
                  </a:cubicBezTo>
                  <a:cubicBezTo>
                    <a:pt x="48" y="263"/>
                    <a:pt x="50" y="242"/>
                    <a:pt x="27" y="227"/>
                  </a:cubicBezTo>
                  <a:cubicBezTo>
                    <a:pt x="12" y="249"/>
                    <a:pt x="0" y="305"/>
                    <a:pt x="36" y="296"/>
                  </a:cubicBezTo>
                  <a:cubicBezTo>
                    <a:pt x="46" y="281"/>
                    <a:pt x="44" y="265"/>
                    <a:pt x="54" y="251"/>
                  </a:cubicBezTo>
                  <a:cubicBezTo>
                    <a:pt x="59" y="252"/>
                    <a:pt x="65" y="251"/>
                    <a:pt x="69" y="254"/>
                  </a:cubicBezTo>
                  <a:cubicBezTo>
                    <a:pt x="72" y="257"/>
                    <a:pt x="68" y="268"/>
                    <a:pt x="72" y="266"/>
                  </a:cubicBezTo>
                  <a:cubicBezTo>
                    <a:pt x="88" y="259"/>
                    <a:pt x="87" y="217"/>
                    <a:pt x="108" y="203"/>
                  </a:cubicBezTo>
                  <a:cubicBezTo>
                    <a:pt x="116" y="204"/>
                    <a:pt x="125" y="202"/>
                    <a:pt x="132" y="206"/>
                  </a:cubicBezTo>
                  <a:cubicBezTo>
                    <a:pt x="135" y="208"/>
                    <a:pt x="125" y="212"/>
                    <a:pt x="126" y="215"/>
                  </a:cubicBezTo>
                  <a:cubicBezTo>
                    <a:pt x="127" y="218"/>
                    <a:pt x="132" y="217"/>
                    <a:pt x="135" y="218"/>
                  </a:cubicBezTo>
                  <a:cubicBezTo>
                    <a:pt x="148" y="210"/>
                    <a:pt x="149" y="197"/>
                    <a:pt x="162" y="188"/>
                  </a:cubicBezTo>
                  <a:cubicBezTo>
                    <a:pt x="173" y="172"/>
                    <a:pt x="189" y="180"/>
                    <a:pt x="204" y="170"/>
                  </a:cubicBezTo>
                  <a:cubicBezTo>
                    <a:pt x="217" y="131"/>
                    <a:pt x="195" y="42"/>
                    <a:pt x="252" y="23"/>
                  </a:cubicBezTo>
                  <a:cubicBezTo>
                    <a:pt x="255" y="24"/>
                    <a:pt x="258" y="27"/>
                    <a:pt x="261" y="26"/>
                  </a:cubicBezTo>
                  <a:cubicBezTo>
                    <a:pt x="264" y="25"/>
                    <a:pt x="269" y="20"/>
                    <a:pt x="267" y="17"/>
                  </a:cubicBezTo>
                  <a:cubicBezTo>
                    <a:pt x="265" y="14"/>
                    <a:pt x="222" y="0"/>
                    <a:pt x="222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4587840" y="5205600"/>
              <a:ext cx="262080" cy="419040"/>
            </a:xfrm>
            <a:custGeom>
              <a:avLst/>
              <a:gdLst/>
              <a:ahLst/>
              <a:rect l="l" t="t" r="r" b="b"/>
              <a:pathLst>
                <a:path w="180" h="287">
                  <a:moveTo>
                    <a:pt x="120" y="0"/>
                  </a:moveTo>
                  <a:cubicBezTo>
                    <a:pt x="115" y="2"/>
                    <a:pt x="105" y="4"/>
                    <a:pt x="102" y="9"/>
                  </a:cubicBezTo>
                  <a:cubicBezTo>
                    <a:pt x="99" y="14"/>
                    <a:pt x="96" y="27"/>
                    <a:pt x="96" y="27"/>
                  </a:cubicBezTo>
                  <a:cubicBezTo>
                    <a:pt x="100" y="42"/>
                    <a:pt x="109" y="52"/>
                    <a:pt x="114" y="66"/>
                  </a:cubicBezTo>
                  <a:cubicBezTo>
                    <a:pt x="111" y="112"/>
                    <a:pt x="117" y="122"/>
                    <a:pt x="84" y="144"/>
                  </a:cubicBezTo>
                  <a:cubicBezTo>
                    <a:pt x="80" y="150"/>
                    <a:pt x="76" y="156"/>
                    <a:pt x="72" y="162"/>
                  </a:cubicBezTo>
                  <a:cubicBezTo>
                    <a:pt x="68" y="167"/>
                    <a:pt x="54" y="168"/>
                    <a:pt x="54" y="168"/>
                  </a:cubicBezTo>
                  <a:cubicBezTo>
                    <a:pt x="49" y="183"/>
                    <a:pt x="37" y="192"/>
                    <a:pt x="24" y="201"/>
                  </a:cubicBezTo>
                  <a:cubicBezTo>
                    <a:pt x="10" y="221"/>
                    <a:pt x="5" y="240"/>
                    <a:pt x="0" y="264"/>
                  </a:cubicBezTo>
                  <a:cubicBezTo>
                    <a:pt x="5" y="278"/>
                    <a:pt x="4" y="287"/>
                    <a:pt x="18" y="273"/>
                  </a:cubicBezTo>
                  <a:cubicBezTo>
                    <a:pt x="22" y="261"/>
                    <a:pt x="27" y="255"/>
                    <a:pt x="36" y="246"/>
                  </a:cubicBezTo>
                  <a:cubicBezTo>
                    <a:pt x="39" y="237"/>
                    <a:pt x="57" y="225"/>
                    <a:pt x="57" y="225"/>
                  </a:cubicBezTo>
                  <a:cubicBezTo>
                    <a:pt x="63" y="216"/>
                    <a:pt x="81" y="204"/>
                    <a:pt x="81" y="204"/>
                  </a:cubicBezTo>
                  <a:cubicBezTo>
                    <a:pt x="85" y="193"/>
                    <a:pt x="95" y="180"/>
                    <a:pt x="105" y="174"/>
                  </a:cubicBezTo>
                  <a:cubicBezTo>
                    <a:pt x="112" y="163"/>
                    <a:pt x="119" y="165"/>
                    <a:pt x="123" y="153"/>
                  </a:cubicBezTo>
                  <a:cubicBezTo>
                    <a:pt x="128" y="118"/>
                    <a:pt x="125" y="135"/>
                    <a:pt x="135" y="150"/>
                  </a:cubicBezTo>
                  <a:cubicBezTo>
                    <a:pt x="153" y="132"/>
                    <a:pt x="140" y="111"/>
                    <a:pt x="168" y="102"/>
                  </a:cubicBezTo>
                  <a:cubicBezTo>
                    <a:pt x="173" y="94"/>
                    <a:pt x="180" y="75"/>
                    <a:pt x="180" y="75"/>
                  </a:cubicBezTo>
                  <a:cubicBezTo>
                    <a:pt x="175" y="59"/>
                    <a:pt x="163" y="52"/>
                    <a:pt x="147" y="48"/>
                  </a:cubicBezTo>
                  <a:cubicBezTo>
                    <a:pt x="144" y="35"/>
                    <a:pt x="138" y="0"/>
                    <a:pt x="12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04880" y="1820880"/>
              <a:ext cx="4637160" cy="2584440"/>
            </a:xfrm>
            <a:custGeom>
              <a:avLst/>
              <a:gdLst/>
              <a:ahLst/>
              <a:rect l="l" t="t" r="r" b="b"/>
              <a:pathLst>
                <a:path w="2921" h="1628">
                  <a:moveTo>
                    <a:pt x="2037" y="995"/>
                  </a:moveTo>
                  <a:cubicBezTo>
                    <a:pt x="2046" y="999"/>
                    <a:pt x="1995" y="1036"/>
                    <a:pt x="1982" y="1048"/>
                  </a:cubicBezTo>
                  <a:cubicBezTo>
                    <a:pt x="1969" y="1060"/>
                    <a:pt x="1960" y="1064"/>
                    <a:pt x="1959" y="1070"/>
                  </a:cubicBezTo>
                  <a:cubicBezTo>
                    <a:pt x="1958" y="1076"/>
                    <a:pt x="1973" y="1079"/>
                    <a:pt x="1976" y="1084"/>
                  </a:cubicBezTo>
                  <a:cubicBezTo>
                    <a:pt x="1979" y="1089"/>
                    <a:pt x="1975" y="1097"/>
                    <a:pt x="1977" y="1100"/>
                  </a:cubicBezTo>
                  <a:cubicBezTo>
                    <a:pt x="1979" y="1103"/>
                    <a:pt x="1986" y="1097"/>
                    <a:pt x="1989" y="1100"/>
                  </a:cubicBezTo>
                  <a:cubicBezTo>
                    <a:pt x="1992" y="1103"/>
                    <a:pt x="1998" y="1114"/>
                    <a:pt x="1997" y="1120"/>
                  </a:cubicBezTo>
                  <a:cubicBezTo>
                    <a:pt x="1996" y="1127"/>
                    <a:pt x="1983" y="1130"/>
                    <a:pt x="1983" y="1136"/>
                  </a:cubicBezTo>
                  <a:cubicBezTo>
                    <a:pt x="1983" y="1142"/>
                    <a:pt x="1993" y="1145"/>
                    <a:pt x="1994" y="1157"/>
                  </a:cubicBezTo>
                  <a:cubicBezTo>
                    <a:pt x="1996" y="1169"/>
                    <a:pt x="1977" y="1204"/>
                    <a:pt x="1988" y="1211"/>
                  </a:cubicBezTo>
                  <a:cubicBezTo>
                    <a:pt x="1997" y="1217"/>
                    <a:pt x="2025" y="1181"/>
                    <a:pt x="2036" y="1177"/>
                  </a:cubicBezTo>
                  <a:cubicBezTo>
                    <a:pt x="2041" y="1175"/>
                    <a:pt x="2052" y="1159"/>
                    <a:pt x="2052" y="1172"/>
                  </a:cubicBezTo>
                  <a:cubicBezTo>
                    <a:pt x="2063" y="1140"/>
                    <a:pt x="2067" y="1095"/>
                    <a:pt x="2033" y="1084"/>
                  </a:cubicBezTo>
                  <a:cubicBezTo>
                    <a:pt x="2032" y="1078"/>
                    <a:pt x="2039" y="1070"/>
                    <a:pt x="2043" y="1066"/>
                  </a:cubicBezTo>
                  <a:cubicBezTo>
                    <a:pt x="2051" y="1058"/>
                    <a:pt x="2058" y="1056"/>
                    <a:pt x="2058" y="1056"/>
                  </a:cubicBezTo>
                  <a:cubicBezTo>
                    <a:pt x="2060" y="1051"/>
                    <a:pt x="2059" y="1033"/>
                    <a:pt x="2063" y="1030"/>
                  </a:cubicBezTo>
                  <a:cubicBezTo>
                    <a:pt x="2066" y="1026"/>
                    <a:pt x="2079" y="1017"/>
                    <a:pt x="2082" y="1012"/>
                  </a:cubicBezTo>
                  <a:cubicBezTo>
                    <a:pt x="2088" y="1002"/>
                    <a:pt x="2081" y="998"/>
                    <a:pt x="2088" y="989"/>
                  </a:cubicBezTo>
                  <a:cubicBezTo>
                    <a:pt x="2089" y="985"/>
                    <a:pt x="2076" y="985"/>
                    <a:pt x="2081" y="983"/>
                  </a:cubicBezTo>
                  <a:cubicBezTo>
                    <a:pt x="2086" y="981"/>
                    <a:pt x="2110" y="981"/>
                    <a:pt x="2119" y="979"/>
                  </a:cubicBezTo>
                  <a:cubicBezTo>
                    <a:pt x="2124" y="975"/>
                    <a:pt x="2135" y="968"/>
                    <a:pt x="2135" y="968"/>
                  </a:cubicBezTo>
                  <a:cubicBezTo>
                    <a:pt x="2152" y="943"/>
                    <a:pt x="2164" y="922"/>
                    <a:pt x="2185" y="902"/>
                  </a:cubicBezTo>
                  <a:cubicBezTo>
                    <a:pt x="2186" y="897"/>
                    <a:pt x="2186" y="889"/>
                    <a:pt x="2190" y="886"/>
                  </a:cubicBezTo>
                  <a:cubicBezTo>
                    <a:pt x="2194" y="882"/>
                    <a:pt x="2203" y="885"/>
                    <a:pt x="2207" y="880"/>
                  </a:cubicBezTo>
                  <a:cubicBezTo>
                    <a:pt x="2213" y="871"/>
                    <a:pt x="2218" y="847"/>
                    <a:pt x="2218" y="847"/>
                  </a:cubicBezTo>
                  <a:cubicBezTo>
                    <a:pt x="2219" y="827"/>
                    <a:pt x="2223" y="807"/>
                    <a:pt x="2223" y="787"/>
                  </a:cubicBezTo>
                  <a:cubicBezTo>
                    <a:pt x="2223" y="776"/>
                    <a:pt x="2227" y="760"/>
                    <a:pt x="2218" y="754"/>
                  </a:cubicBezTo>
                  <a:cubicBezTo>
                    <a:pt x="2202" y="743"/>
                    <a:pt x="2181" y="750"/>
                    <a:pt x="2163" y="748"/>
                  </a:cubicBezTo>
                  <a:cubicBezTo>
                    <a:pt x="2143" y="720"/>
                    <a:pt x="2158" y="724"/>
                    <a:pt x="2185" y="715"/>
                  </a:cubicBezTo>
                  <a:cubicBezTo>
                    <a:pt x="2194" y="688"/>
                    <a:pt x="2209" y="668"/>
                    <a:pt x="2229" y="649"/>
                  </a:cubicBezTo>
                  <a:cubicBezTo>
                    <a:pt x="2295" y="651"/>
                    <a:pt x="2361" y="658"/>
                    <a:pt x="2427" y="655"/>
                  </a:cubicBezTo>
                  <a:cubicBezTo>
                    <a:pt x="2440" y="654"/>
                    <a:pt x="2434" y="629"/>
                    <a:pt x="2438" y="616"/>
                  </a:cubicBezTo>
                  <a:cubicBezTo>
                    <a:pt x="2444" y="594"/>
                    <a:pt x="2455" y="590"/>
                    <a:pt x="2476" y="583"/>
                  </a:cubicBezTo>
                  <a:cubicBezTo>
                    <a:pt x="2516" y="596"/>
                    <a:pt x="2514" y="631"/>
                    <a:pt x="2476" y="644"/>
                  </a:cubicBezTo>
                  <a:cubicBezTo>
                    <a:pt x="2469" y="665"/>
                    <a:pt x="2464" y="695"/>
                    <a:pt x="2454" y="715"/>
                  </a:cubicBezTo>
                  <a:cubicBezTo>
                    <a:pt x="2433" y="758"/>
                    <a:pt x="2451" y="707"/>
                    <a:pt x="2438" y="748"/>
                  </a:cubicBezTo>
                  <a:cubicBezTo>
                    <a:pt x="2442" y="776"/>
                    <a:pt x="2444" y="791"/>
                    <a:pt x="2460" y="814"/>
                  </a:cubicBezTo>
                  <a:cubicBezTo>
                    <a:pt x="2485" y="776"/>
                    <a:pt x="2477" y="794"/>
                    <a:pt x="2487" y="765"/>
                  </a:cubicBezTo>
                  <a:cubicBezTo>
                    <a:pt x="2495" y="700"/>
                    <a:pt x="2487" y="724"/>
                    <a:pt x="2526" y="699"/>
                  </a:cubicBezTo>
                  <a:cubicBezTo>
                    <a:pt x="2533" y="677"/>
                    <a:pt x="2537" y="631"/>
                    <a:pt x="2553" y="616"/>
                  </a:cubicBezTo>
                  <a:cubicBezTo>
                    <a:pt x="2563" y="608"/>
                    <a:pt x="2575" y="601"/>
                    <a:pt x="2586" y="594"/>
                  </a:cubicBezTo>
                  <a:cubicBezTo>
                    <a:pt x="2595" y="588"/>
                    <a:pt x="2608" y="591"/>
                    <a:pt x="2619" y="589"/>
                  </a:cubicBezTo>
                  <a:cubicBezTo>
                    <a:pt x="2630" y="586"/>
                    <a:pt x="2641" y="581"/>
                    <a:pt x="2652" y="578"/>
                  </a:cubicBezTo>
                  <a:cubicBezTo>
                    <a:pt x="2658" y="576"/>
                    <a:pt x="2669" y="572"/>
                    <a:pt x="2669" y="572"/>
                  </a:cubicBezTo>
                  <a:cubicBezTo>
                    <a:pt x="2674" y="567"/>
                    <a:pt x="2679" y="560"/>
                    <a:pt x="2685" y="556"/>
                  </a:cubicBezTo>
                  <a:cubicBezTo>
                    <a:pt x="2695" y="547"/>
                    <a:pt x="2718" y="534"/>
                    <a:pt x="2718" y="534"/>
                  </a:cubicBezTo>
                  <a:cubicBezTo>
                    <a:pt x="2731" y="514"/>
                    <a:pt x="2740" y="508"/>
                    <a:pt x="2762" y="501"/>
                  </a:cubicBezTo>
                  <a:cubicBezTo>
                    <a:pt x="2774" y="465"/>
                    <a:pt x="2768" y="458"/>
                    <a:pt x="2806" y="446"/>
                  </a:cubicBezTo>
                  <a:cubicBezTo>
                    <a:pt x="2823" y="447"/>
                    <a:pt x="2840" y="446"/>
                    <a:pt x="2856" y="451"/>
                  </a:cubicBezTo>
                  <a:cubicBezTo>
                    <a:pt x="2862" y="453"/>
                    <a:pt x="2860" y="466"/>
                    <a:pt x="2867" y="468"/>
                  </a:cubicBezTo>
                  <a:cubicBezTo>
                    <a:pt x="2880" y="470"/>
                    <a:pt x="2893" y="464"/>
                    <a:pt x="2905" y="462"/>
                  </a:cubicBezTo>
                  <a:cubicBezTo>
                    <a:pt x="2909" y="457"/>
                    <a:pt x="2915" y="452"/>
                    <a:pt x="2916" y="446"/>
                  </a:cubicBezTo>
                  <a:cubicBezTo>
                    <a:pt x="2921" y="396"/>
                    <a:pt x="2899" y="402"/>
                    <a:pt x="2861" y="396"/>
                  </a:cubicBezTo>
                  <a:cubicBezTo>
                    <a:pt x="2847" y="374"/>
                    <a:pt x="2821" y="361"/>
                    <a:pt x="2801" y="341"/>
                  </a:cubicBezTo>
                  <a:cubicBezTo>
                    <a:pt x="2782" y="322"/>
                    <a:pt x="2773" y="291"/>
                    <a:pt x="2740" y="286"/>
                  </a:cubicBezTo>
                  <a:cubicBezTo>
                    <a:pt x="2709" y="281"/>
                    <a:pt x="2678" y="282"/>
                    <a:pt x="2647" y="281"/>
                  </a:cubicBezTo>
                  <a:cubicBezTo>
                    <a:pt x="2637" y="311"/>
                    <a:pt x="2657" y="300"/>
                    <a:pt x="2647" y="330"/>
                  </a:cubicBezTo>
                  <a:cubicBezTo>
                    <a:pt x="2599" y="325"/>
                    <a:pt x="2561" y="318"/>
                    <a:pt x="2515" y="325"/>
                  </a:cubicBezTo>
                  <a:cubicBezTo>
                    <a:pt x="2476" y="312"/>
                    <a:pt x="2506" y="304"/>
                    <a:pt x="2487" y="281"/>
                  </a:cubicBezTo>
                  <a:cubicBezTo>
                    <a:pt x="2473" y="264"/>
                    <a:pt x="2404" y="267"/>
                    <a:pt x="2372" y="259"/>
                  </a:cubicBezTo>
                  <a:cubicBezTo>
                    <a:pt x="2338" y="208"/>
                    <a:pt x="2320" y="210"/>
                    <a:pt x="2262" y="198"/>
                  </a:cubicBezTo>
                  <a:cubicBezTo>
                    <a:pt x="2256" y="194"/>
                    <a:pt x="2250" y="192"/>
                    <a:pt x="2245" y="187"/>
                  </a:cubicBezTo>
                  <a:cubicBezTo>
                    <a:pt x="2241" y="182"/>
                    <a:pt x="2241" y="173"/>
                    <a:pt x="2234" y="171"/>
                  </a:cubicBezTo>
                  <a:cubicBezTo>
                    <a:pt x="2227" y="168"/>
                    <a:pt x="2205" y="184"/>
                    <a:pt x="2201" y="187"/>
                  </a:cubicBezTo>
                  <a:cubicBezTo>
                    <a:pt x="2192" y="215"/>
                    <a:pt x="2182" y="205"/>
                    <a:pt x="2174" y="237"/>
                  </a:cubicBezTo>
                  <a:cubicBezTo>
                    <a:pt x="2144" y="232"/>
                    <a:pt x="2131" y="221"/>
                    <a:pt x="2108" y="237"/>
                  </a:cubicBezTo>
                  <a:cubicBezTo>
                    <a:pt x="2089" y="230"/>
                    <a:pt x="2058" y="209"/>
                    <a:pt x="2058" y="209"/>
                  </a:cubicBezTo>
                  <a:cubicBezTo>
                    <a:pt x="2052" y="191"/>
                    <a:pt x="2064" y="168"/>
                    <a:pt x="2052" y="154"/>
                  </a:cubicBezTo>
                  <a:cubicBezTo>
                    <a:pt x="2037" y="137"/>
                    <a:pt x="2022" y="133"/>
                    <a:pt x="2003" y="127"/>
                  </a:cubicBezTo>
                  <a:cubicBezTo>
                    <a:pt x="1997" y="150"/>
                    <a:pt x="1999" y="162"/>
                    <a:pt x="1975" y="171"/>
                  </a:cubicBezTo>
                  <a:cubicBezTo>
                    <a:pt x="1909" y="149"/>
                    <a:pt x="1834" y="160"/>
                    <a:pt x="1766" y="176"/>
                  </a:cubicBezTo>
                  <a:cubicBezTo>
                    <a:pt x="1741" y="193"/>
                    <a:pt x="1737" y="187"/>
                    <a:pt x="1728" y="160"/>
                  </a:cubicBezTo>
                  <a:cubicBezTo>
                    <a:pt x="1732" y="154"/>
                    <a:pt x="1733" y="148"/>
                    <a:pt x="1739" y="143"/>
                  </a:cubicBezTo>
                  <a:cubicBezTo>
                    <a:pt x="1743" y="139"/>
                    <a:pt x="1754" y="143"/>
                    <a:pt x="1755" y="138"/>
                  </a:cubicBezTo>
                  <a:cubicBezTo>
                    <a:pt x="1766" y="83"/>
                    <a:pt x="1746" y="71"/>
                    <a:pt x="1706" y="61"/>
                  </a:cubicBezTo>
                  <a:cubicBezTo>
                    <a:pt x="1694" y="0"/>
                    <a:pt x="1708" y="10"/>
                    <a:pt x="1629" y="17"/>
                  </a:cubicBezTo>
                  <a:cubicBezTo>
                    <a:pt x="1604" y="33"/>
                    <a:pt x="1615" y="45"/>
                    <a:pt x="1596" y="61"/>
                  </a:cubicBezTo>
                  <a:cubicBezTo>
                    <a:pt x="1591" y="64"/>
                    <a:pt x="1585" y="63"/>
                    <a:pt x="1579" y="66"/>
                  </a:cubicBezTo>
                  <a:cubicBezTo>
                    <a:pt x="1561" y="76"/>
                    <a:pt x="1534" y="103"/>
                    <a:pt x="1513" y="110"/>
                  </a:cubicBezTo>
                  <a:cubicBezTo>
                    <a:pt x="1490" y="117"/>
                    <a:pt x="1501" y="112"/>
                    <a:pt x="1480" y="127"/>
                  </a:cubicBezTo>
                  <a:cubicBezTo>
                    <a:pt x="1473" y="148"/>
                    <a:pt x="1459" y="152"/>
                    <a:pt x="1447" y="171"/>
                  </a:cubicBezTo>
                  <a:cubicBezTo>
                    <a:pt x="1442" y="193"/>
                    <a:pt x="1438" y="207"/>
                    <a:pt x="1425" y="226"/>
                  </a:cubicBezTo>
                  <a:cubicBezTo>
                    <a:pt x="1421" y="261"/>
                    <a:pt x="1422" y="275"/>
                    <a:pt x="1403" y="303"/>
                  </a:cubicBezTo>
                  <a:cubicBezTo>
                    <a:pt x="1374" y="283"/>
                    <a:pt x="1366" y="250"/>
                    <a:pt x="1337" y="231"/>
                  </a:cubicBezTo>
                  <a:cubicBezTo>
                    <a:pt x="1330" y="209"/>
                    <a:pt x="1323" y="200"/>
                    <a:pt x="1304" y="187"/>
                  </a:cubicBezTo>
                  <a:cubicBezTo>
                    <a:pt x="1291" y="207"/>
                    <a:pt x="1278" y="230"/>
                    <a:pt x="1271" y="253"/>
                  </a:cubicBezTo>
                  <a:cubicBezTo>
                    <a:pt x="1287" y="301"/>
                    <a:pt x="1293" y="314"/>
                    <a:pt x="1271" y="391"/>
                  </a:cubicBezTo>
                  <a:cubicBezTo>
                    <a:pt x="1267" y="402"/>
                    <a:pt x="1238" y="402"/>
                    <a:pt x="1238" y="402"/>
                  </a:cubicBezTo>
                  <a:cubicBezTo>
                    <a:pt x="1245" y="355"/>
                    <a:pt x="1250" y="310"/>
                    <a:pt x="1260" y="264"/>
                  </a:cubicBezTo>
                  <a:cubicBezTo>
                    <a:pt x="1264" y="246"/>
                    <a:pt x="1271" y="209"/>
                    <a:pt x="1271" y="209"/>
                  </a:cubicBezTo>
                  <a:cubicBezTo>
                    <a:pt x="1260" y="167"/>
                    <a:pt x="1237" y="182"/>
                    <a:pt x="1200" y="187"/>
                  </a:cubicBezTo>
                  <a:cubicBezTo>
                    <a:pt x="1175" y="224"/>
                    <a:pt x="1164" y="276"/>
                    <a:pt x="1156" y="319"/>
                  </a:cubicBezTo>
                  <a:cubicBezTo>
                    <a:pt x="1123" y="308"/>
                    <a:pt x="1134" y="301"/>
                    <a:pt x="1095" y="308"/>
                  </a:cubicBezTo>
                  <a:cubicBezTo>
                    <a:pt x="1074" y="340"/>
                    <a:pt x="1043" y="330"/>
                    <a:pt x="1012" y="347"/>
                  </a:cubicBezTo>
                  <a:cubicBezTo>
                    <a:pt x="1001" y="353"/>
                    <a:pt x="979" y="369"/>
                    <a:pt x="979" y="369"/>
                  </a:cubicBezTo>
                  <a:cubicBezTo>
                    <a:pt x="978" y="363"/>
                    <a:pt x="973" y="358"/>
                    <a:pt x="974" y="352"/>
                  </a:cubicBezTo>
                  <a:cubicBezTo>
                    <a:pt x="975" y="346"/>
                    <a:pt x="988" y="341"/>
                    <a:pt x="985" y="336"/>
                  </a:cubicBezTo>
                  <a:cubicBezTo>
                    <a:pt x="982" y="330"/>
                    <a:pt x="974" y="339"/>
                    <a:pt x="968" y="341"/>
                  </a:cubicBezTo>
                  <a:cubicBezTo>
                    <a:pt x="961" y="343"/>
                    <a:pt x="954" y="345"/>
                    <a:pt x="946" y="347"/>
                  </a:cubicBezTo>
                  <a:cubicBezTo>
                    <a:pt x="937" y="375"/>
                    <a:pt x="920" y="376"/>
                    <a:pt x="891" y="385"/>
                  </a:cubicBezTo>
                  <a:cubicBezTo>
                    <a:pt x="886" y="387"/>
                    <a:pt x="875" y="391"/>
                    <a:pt x="875" y="391"/>
                  </a:cubicBezTo>
                  <a:cubicBezTo>
                    <a:pt x="869" y="387"/>
                    <a:pt x="865" y="380"/>
                    <a:pt x="858" y="380"/>
                  </a:cubicBezTo>
                  <a:cubicBezTo>
                    <a:pt x="842" y="380"/>
                    <a:pt x="811" y="429"/>
                    <a:pt x="798" y="440"/>
                  </a:cubicBezTo>
                  <a:cubicBezTo>
                    <a:pt x="776" y="458"/>
                    <a:pt x="732" y="469"/>
                    <a:pt x="704" y="479"/>
                  </a:cubicBezTo>
                  <a:cubicBezTo>
                    <a:pt x="683" y="447"/>
                    <a:pt x="694" y="419"/>
                    <a:pt x="660" y="396"/>
                  </a:cubicBezTo>
                  <a:cubicBezTo>
                    <a:pt x="666" y="394"/>
                    <a:pt x="671" y="389"/>
                    <a:pt x="677" y="391"/>
                  </a:cubicBezTo>
                  <a:cubicBezTo>
                    <a:pt x="683" y="393"/>
                    <a:pt x="683" y="402"/>
                    <a:pt x="688" y="407"/>
                  </a:cubicBezTo>
                  <a:cubicBezTo>
                    <a:pt x="699" y="418"/>
                    <a:pt x="707" y="419"/>
                    <a:pt x="721" y="424"/>
                  </a:cubicBezTo>
                  <a:cubicBezTo>
                    <a:pt x="747" y="417"/>
                    <a:pt x="756" y="413"/>
                    <a:pt x="770" y="391"/>
                  </a:cubicBezTo>
                  <a:cubicBezTo>
                    <a:pt x="769" y="372"/>
                    <a:pt x="770" y="353"/>
                    <a:pt x="765" y="336"/>
                  </a:cubicBezTo>
                  <a:cubicBezTo>
                    <a:pt x="758" y="315"/>
                    <a:pt x="679" y="310"/>
                    <a:pt x="666" y="308"/>
                  </a:cubicBezTo>
                  <a:cubicBezTo>
                    <a:pt x="628" y="295"/>
                    <a:pt x="669" y="313"/>
                    <a:pt x="638" y="286"/>
                  </a:cubicBezTo>
                  <a:cubicBezTo>
                    <a:pt x="628" y="278"/>
                    <a:pt x="605" y="264"/>
                    <a:pt x="605" y="264"/>
                  </a:cubicBezTo>
                  <a:cubicBezTo>
                    <a:pt x="565" y="278"/>
                    <a:pt x="542" y="290"/>
                    <a:pt x="506" y="314"/>
                  </a:cubicBezTo>
                  <a:cubicBezTo>
                    <a:pt x="435" y="361"/>
                    <a:pt x="502" y="298"/>
                    <a:pt x="457" y="336"/>
                  </a:cubicBezTo>
                  <a:cubicBezTo>
                    <a:pt x="439" y="350"/>
                    <a:pt x="432" y="367"/>
                    <a:pt x="413" y="380"/>
                  </a:cubicBezTo>
                  <a:cubicBezTo>
                    <a:pt x="398" y="401"/>
                    <a:pt x="402" y="418"/>
                    <a:pt x="391" y="440"/>
                  </a:cubicBezTo>
                  <a:cubicBezTo>
                    <a:pt x="385" y="451"/>
                    <a:pt x="367" y="461"/>
                    <a:pt x="358" y="468"/>
                  </a:cubicBezTo>
                  <a:cubicBezTo>
                    <a:pt x="348" y="497"/>
                    <a:pt x="357" y="480"/>
                    <a:pt x="319" y="506"/>
                  </a:cubicBezTo>
                  <a:cubicBezTo>
                    <a:pt x="308" y="513"/>
                    <a:pt x="286" y="528"/>
                    <a:pt x="286" y="528"/>
                  </a:cubicBezTo>
                  <a:cubicBezTo>
                    <a:pt x="281" y="545"/>
                    <a:pt x="275" y="561"/>
                    <a:pt x="270" y="578"/>
                  </a:cubicBezTo>
                  <a:cubicBezTo>
                    <a:pt x="268" y="583"/>
                    <a:pt x="264" y="594"/>
                    <a:pt x="264" y="594"/>
                  </a:cubicBezTo>
                  <a:cubicBezTo>
                    <a:pt x="275" y="680"/>
                    <a:pt x="251" y="607"/>
                    <a:pt x="330" y="644"/>
                  </a:cubicBezTo>
                  <a:cubicBezTo>
                    <a:pt x="330" y="644"/>
                    <a:pt x="358" y="685"/>
                    <a:pt x="363" y="693"/>
                  </a:cubicBezTo>
                  <a:cubicBezTo>
                    <a:pt x="367" y="699"/>
                    <a:pt x="374" y="710"/>
                    <a:pt x="374" y="710"/>
                  </a:cubicBezTo>
                  <a:cubicBezTo>
                    <a:pt x="414" y="701"/>
                    <a:pt x="400" y="696"/>
                    <a:pt x="429" y="677"/>
                  </a:cubicBezTo>
                  <a:cubicBezTo>
                    <a:pt x="431" y="671"/>
                    <a:pt x="431" y="665"/>
                    <a:pt x="435" y="660"/>
                  </a:cubicBezTo>
                  <a:cubicBezTo>
                    <a:pt x="439" y="655"/>
                    <a:pt x="450" y="655"/>
                    <a:pt x="451" y="649"/>
                  </a:cubicBezTo>
                  <a:cubicBezTo>
                    <a:pt x="468" y="557"/>
                    <a:pt x="425" y="545"/>
                    <a:pt x="490" y="523"/>
                  </a:cubicBezTo>
                  <a:cubicBezTo>
                    <a:pt x="494" y="508"/>
                    <a:pt x="493" y="491"/>
                    <a:pt x="501" y="479"/>
                  </a:cubicBezTo>
                  <a:cubicBezTo>
                    <a:pt x="510" y="463"/>
                    <a:pt x="550" y="457"/>
                    <a:pt x="550" y="457"/>
                  </a:cubicBezTo>
                  <a:cubicBezTo>
                    <a:pt x="550" y="457"/>
                    <a:pt x="542" y="492"/>
                    <a:pt x="539" y="495"/>
                  </a:cubicBezTo>
                  <a:cubicBezTo>
                    <a:pt x="530" y="504"/>
                    <a:pt x="506" y="517"/>
                    <a:pt x="506" y="517"/>
                  </a:cubicBezTo>
                  <a:cubicBezTo>
                    <a:pt x="503" y="530"/>
                    <a:pt x="495" y="542"/>
                    <a:pt x="495" y="556"/>
                  </a:cubicBezTo>
                  <a:cubicBezTo>
                    <a:pt x="495" y="610"/>
                    <a:pt x="529" y="611"/>
                    <a:pt x="572" y="622"/>
                  </a:cubicBezTo>
                  <a:cubicBezTo>
                    <a:pt x="561" y="664"/>
                    <a:pt x="538" y="656"/>
                    <a:pt x="501" y="666"/>
                  </a:cubicBezTo>
                  <a:cubicBezTo>
                    <a:pt x="497" y="671"/>
                    <a:pt x="492" y="676"/>
                    <a:pt x="490" y="682"/>
                  </a:cubicBezTo>
                  <a:cubicBezTo>
                    <a:pt x="485" y="693"/>
                    <a:pt x="490" y="711"/>
                    <a:pt x="479" y="715"/>
                  </a:cubicBezTo>
                  <a:cubicBezTo>
                    <a:pt x="440" y="728"/>
                    <a:pt x="397" y="736"/>
                    <a:pt x="363" y="759"/>
                  </a:cubicBezTo>
                  <a:cubicBezTo>
                    <a:pt x="354" y="757"/>
                    <a:pt x="343" y="759"/>
                    <a:pt x="336" y="754"/>
                  </a:cubicBezTo>
                  <a:cubicBezTo>
                    <a:pt x="330" y="750"/>
                    <a:pt x="322" y="697"/>
                    <a:pt x="319" y="688"/>
                  </a:cubicBezTo>
                  <a:cubicBezTo>
                    <a:pt x="308" y="710"/>
                    <a:pt x="310" y="723"/>
                    <a:pt x="286" y="732"/>
                  </a:cubicBezTo>
                  <a:cubicBezTo>
                    <a:pt x="284" y="737"/>
                    <a:pt x="284" y="744"/>
                    <a:pt x="281" y="748"/>
                  </a:cubicBezTo>
                  <a:cubicBezTo>
                    <a:pt x="277" y="752"/>
                    <a:pt x="269" y="750"/>
                    <a:pt x="264" y="754"/>
                  </a:cubicBezTo>
                  <a:cubicBezTo>
                    <a:pt x="223" y="781"/>
                    <a:pt x="271" y="763"/>
                    <a:pt x="231" y="776"/>
                  </a:cubicBezTo>
                  <a:cubicBezTo>
                    <a:pt x="227" y="781"/>
                    <a:pt x="226" y="787"/>
                    <a:pt x="220" y="792"/>
                  </a:cubicBezTo>
                  <a:cubicBezTo>
                    <a:pt x="216" y="796"/>
                    <a:pt x="207" y="794"/>
                    <a:pt x="204" y="798"/>
                  </a:cubicBezTo>
                  <a:cubicBezTo>
                    <a:pt x="200" y="801"/>
                    <a:pt x="202" y="809"/>
                    <a:pt x="198" y="814"/>
                  </a:cubicBezTo>
                  <a:cubicBezTo>
                    <a:pt x="194" y="820"/>
                    <a:pt x="187" y="821"/>
                    <a:pt x="182" y="825"/>
                  </a:cubicBezTo>
                  <a:cubicBezTo>
                    <a:pt x="169" y="844"/>
                    <a:pt x="157" y="856"/>
                    <a:pt x="138" y="869"/>
                  </a:cubicBezTo>
                  <a:cubicBezTo>
                    <a:pt x="136" y="875"/>
                    <a:pt x="133" y="880"/>
                    <a:pt x="132" y="886"/>
                  </a:cubicBezTo>
                  <a:cubicBezTo>
                    <a:pt x="129" y="915"/>
                    <a:pt x="133" y="945"/>
                    <a:pt x="127" y="974"/>
                  </a:cubicBezTo>
                  <a:cubicBezTo>
                    <a:pt x="126" y="979"/>
                    <a:pt x="116" y="976"/>
                    <a:pt x="110" y="979"/>
                  </a:cubicBezTo>
                  <a:cubicBezTo>
                    <a:pt x="105" y="982"/>
                    <a:pt x="99" y="986"/>
                    <a:pt x="94" y="990"/>
                  </a:cubicBezTo>
                  <a:cubicBezTo>
                    <a:pt x="48" y="985"/>
                    <a:pt x="17" y="974"/>
                    <a:pt x="0" y="1023"/>
                  </a:cubicBezTo>
                  <a:cubicBezTo>
                    <a:pt x="2" y="1041"/>
                    <a:pt x="4" y="1060"/>
                    <a:pt x="6" y="1078"/>
                  </a:cubicBezTo>
                  <a:cubicBezTo>
                    <a:pt x="7" y="1091"/>
                    <a:pt x="1" y="1109"/>
                    <a:pt x="11" y="1117"/>
                  </a:cubicBezTo>
                  <a:cubicBezTo>
                    <a:pt x="21" y="1124"/>
                    <a:pt x="37" y="1113"/>
                    <a:pt x="50" y="1111"/>
                  </a:cubicBezTo>
                  <a:cubicBezTo>
                    <a:pt x="55" y="1109"/>
                    <a:pt x="61" y="1106"/>
                    <a:pt x="66" y="1106"/>
                  </a:cubicBezTo>
                  <a:cubicBezTo>
                    <a:pt x="77" y="1106"/>
                    <a:pt x="89" y="1116"/>
                    <a:pt x="99" y="1111"/>
                  </a:cubicBezTo>
                  <a:cubicBezTo>
                    <a:pt x="111" y="1106"/>
                    <a:pt x="114" y="1089"/>
                    <a:pt x="121" y="1078"/>
                  </a:cubicBezTo>
                  <a:cubicBezTo>
                    <a:pt x="132" y="1062"/>
                    <a:pt x="149" y="1045"/>
                    <a:pt x="165" y="1034"/>
                  </a:cubicBezTo>
                  <a:cubicBezTo>
                    <a:pt x="192" y="994"/>
                    <a:pt x="238" y="996"/>
                    <a:pt x="281" y="985"/>
                  </a:cubicBezTo>
                  <a:cubicBezTo>
                    <a:pt x="293" y="948"/>
                    <a:pt x="314" y="986"/>
                    <a:pt x="336" y="1001"/>
                  </a:cubicBezTo>
                  <a:cubicBezTo>
                    <a:pt x="349" y="1020"/>
                    <a:pt x="346" y="1032"/>
                    <a:pt x="369" y="1040"/>
                  </a:cubicBezTo>
                  <a:cubicBezTo>
                    <a:pt x="375" y="1049"/>
                    <a:pt x="385" y="1076"/>
                    <a:pt x="396" y="1040"/>
                  </a:cubicBezTo>
                  <a:cubicBezTo>
                    <a:pt x="402" y="1020"/>
                    <a:pt x="382" y="1012"/>
                    <a:pt x="374" y="1001"/>
                  </a:cubicBezTo>
                  <a:cubicBezTo>
                    <a:pt x="366" y="991"/>
                    <a:pt x="352" y="968"/>
                    <a:pt x="352" y="968"/>
                  </a:cubicBezTo>
                  <a:cubicBezTo>
                    <a:pt x="362" y="910"/>
                    <a:pt x="351" y="944"/>
                    <a:pt x="391" y="957"/>
                  </a:cubicBezTo>
                  <a:cubicBezTo>
                    <a:pt x="400" y="985"/>
                    <a:pt x="417" y="1012"/>
                    <a:pt x="429" y="1040"/>
                  </a:cubicBezTo>
                  <a:cubicBezTo>
                    <a:pt x="444" y="1072"/>
                    <a:pt x="442" y="1080"/>
                    <a:pt x="468" y="1106"/>
                  </a:cubicBezTo>
                  <a:cubicBezTo>
                    <a:pt x="499" y="1095"/>
                    <a:pt x="479" y="1108"/>
                    <a:pt x="479" y="1062"/>
                  </a:cubicBezTo>
                  <a:cubicBezTo>
                    <a:pt x="479" y="1051"/>
                    <a:pt x="482" y="1040"/>
                    <a:pt x="484" y="1029"/>
                  </a:cubicBezTo>
                  <a:cubicBezTo>
                    <a:pt x="499" y="1030"/>
                    <a:pt x="515" y="1040"/>
                    <a:pt x="528" y="1034"/>
                  </a:cubicBezTo>
                  <a:cubicBezTo>
                    <a:pt x="549" y="1024"/>
                    <a:pt x="535" y="976"/>
                    <a:pt x="550" y="963"/>
                  </a:cubicBezTo>
                  <a:cubicBezTo>
                    <a:pt x="559" y="955"/>
                    <a:pt x="583" y="952"/>
                    <a:pt x="583" y="952"/>
                  </a:cubicBezTo>
                  <a:cubicBezTo>
                    <a:pt x="596" y="932"/>
                    <a:pt x="616" y="909"/>
                    <a:pt x="638" y="902"/>
                  </a:cubicBezTo>
                  <a:cubicBezTo>
                    <a:pt x="644" y="904"/>
                    <a:pt x="653" y="902"/>
                    <a:pt x="655" y="908"/>
                  </a:cubicBezTo>
                  <a:cubicBezTo>
                    <a:pt x="665" y="950"/>
                    <a:pt x="626" y="952"/>
                    <a:pt x="671" y="941"/>
                  </a:cubicBezTo>
                  <a:cubicBezTo>
                    <a:pt x="689" y="914"/>
                    <a:pt x="694" y="929"/>
                    <a:pt x="726" y="935"/>
                  </a:cubicBezTo>
                  <a:cubicBezTo>
                    <a:pt x="730" y="946"/>
                    <a:pt x="734" y="957"/>
                    <a:pt x="737" y="968"/>
                  </a:cubicBezTo>
                  <a:cubicBezTo>
                    <a:pt x="739" y="974"/>
                    <a:pt x="743" y="985"/>
                    <a:pt x="743" y="985"/>
                  </a:cubicBezTo>
                  <a:cubicBezTo>
                    <a:pt x="714" y="1004"/>
                    <a:pt x="709" y="1001"/>
                    <a:pt x="671" y="996"/>
                  </a:cubicBezTo>
                  <a:cubicBezTo>
                    <a:pt x="624" y="980"/>
                    <a:pt x="597" y="1015"/>
                    <a:pt x="556" y="1029"/>
                  </a:cubicBezTo>
                  <a:cubicBezTo>
                    <a:pt x="552" y="1040"/>
                    <a:pt x="542" y="1051"/>
                    <a:pt x="545" y="1062"/>
                  </a:cubicBezTo>
                  <a:cubicBezTo>
                    <a:pt x="559" y="1115"/>
                    <a:pt x="592" y="1106"/>
                    <a:pt x="638" y="1111"/>
                  </a:cubicBezTo>
                  <a:cubicBezTo>
                    <a:pt x="632" y="1135"/>
                    <a:pt x="635" y="1147"/>
                    <a:pt x="611" y="1155"/>
                  </a:cubicBezTo>
                  <a:cubicBezTo>
                    <a:pt x="600" y="1189"/>
                    <a:pt x="603" y="1226"/>
                    <a:pt x="638" y="1238"/>
                  </a:cubicBezTo>
                  <a:cubicBezTo>
                    <a:pt x="644" y="1243"/>
                    <a:pt x="648" y="1249"/>
                    <a:pt x="655" y="1254"/>
                  </a:cubicBezTo>
                  <a:cubicBezTo>
                    <a:pt x="659" y="1258"/>
                    <a:pt x="668" y="1256"/>
                    <a:pt x="671" y="1260"/>
                  </a:cubicBezTo>
                  <a:cubicBezTo>
                    <a:pt x="694" y="1282"/>
                    <a:pt x="706" y="1315"/>
                    <a:pt x="721" y="1342"/>
                  </a:cubicBezTo>
                  <a:cubicBezTo>
                    <a:pt x="727" y="1354"/>
                    <a:pt x="736" y="1364"/>
                    <a:pt x="743" y="1375"/>
                  </a:cubicBezTo>
                  <a:cubicBezTo>
                    <a:pt x="747" y="1381"/>
                    <a:pt x="754" y="1392"/>
                    <a:pt x="754" y="1392"/>
                  </a:cubicBezTo>
                  <a:cubicBezTo>
                    <a:pt x="758" y="1432"/>
                    <a:pt x="755" y="1458"/>
                    <a:pt x="776" y="1491"/>
                  </a:cubicBezTo>
                  <a:cubicBezTo>
                    <a:pt x="829" y="1480"/>
                    <a:pt x="810" y="1460"/>
                    <a:pt x="847" y="1441"/>
                  </a:cubicBezTo>
                  <a:cubicBezTo>
                    <a:pt x="863" y="1434"/>
                    <a:pt x="889" y="1432"/>
                    <a:pt x="902" y="1430"/>
                  </a:cubicBezTo>
                  <a:cubicBezTo>
                    <a:pt x="917" y="1420"/>
                    <a:pt x="952" y="1408"/>
                    <a:pt x="952" y="1408"/>
                  </a:cubicBezTo>
                  <a:cubicBezTo>
                    <a:pt x="978" y="1382"/>
                    <a:pt x="985" y="1329"/>
                    <a:pt x="952" y="1304"/>
                  </a:cubicBezTo>
                  <a:cubicBezTo>
                    <a:pt x="936" y="1291"/>
                    <a:pt x="912" y="1295"/>
                    <a:pt x="891" y="1293"/>
                  </a:cubicBezTo>
                  <a:cubicBezTo>
                    <a:pt x="869" y="1285"/>
                    <a:pt x="871" y="1273"/>
                    <a:pt x="858" y="1254"/>
                  </a:cubicBezTo>
                  <a:cubicBezTo>
                    <a:pt x="857" y="1247"/>
                    <a:pt x="850" y="1239"/>
                    <a:pt x="853" y="1232"/>
                  </a:cubicBezTo>
                  <a:cubicBezTo>
                    <a:pt x="855" y="1227"/>
                    <a:pt x="864" y="1227"/>
                    <a:pt x="869" y="1227"/>
                  </a:cubicBezTo>
                  <a:cubicBezTo>
                    <a:pt x="883" y="1227"/>
                    <a:pt x="891" y="1238"/>
                    <a:pt x="902" y="1243"/>
                  </a:cubicBezTo>
                  <a:cubicBezTo>
                    <a:pt x="921" y="1252"/>
                    <a:pt x="953" y="1252"/>
                    <a:pt x="968" y="1254"/>
                  </a:cubicBezTo>
                  <a:cubicBezTo>
                    <a:pt x="989" y="1315"/>
                    <a:pt x="1008" y="1293"/>
                    <a:pt x="1084" y="1298"/>
                  </a:cubicBezTo>
                  <a:cubicBezTo>
                    <a:pt x="1129" y="1309"/>
                    <a:pt x="1122" y="1337"/>
                    <a:pt x="1167" y="1348"/>
                  </a:cubicBezTo>
                  <a:cubicBezTo>
                    <a:pt x="1193" y="1365"/>
                    <a:pt x="1181" y="1352"/>
                    <a:pt x="1194" y="1392"/>
                  </a:cubicBezTo>
                  <a:cubicBezTo>
                    <a:pt x="1199" y="1404"/>
                    <a:pt x="1209" y="1414"/>
                    <a:pt x="1216" y="1425"/>
                  </a:cubicBezTo>
                  <a:cubicBezTo>
                    <a:pt x="1220" y="1430"/>
                    <a:pt x="1227" y="1441"/>
                    <a:pt x="1227" y="1441"/>
                  </a:cubicBezTo>
                  <a:cubicBezTo>
                    <a:pt x="1230" y="1463"/>
                    <a:pt x="1224" y="1490"/>
                    <a:pt x="1238" y="1507"/>
                  </a:cubicBezTo>
                  <a:cubicBezTo>
                    <a:pt x="1247" y="1519"/>
                    <a:pt x="1271" y="1540"/>
                    <a:pt x="1271" y="1540"/>
                  </a:cubicBezTo>
                  <a:cubicBezTo>
                    <a:pt x="1327" y="1522"/>
                    <a:pt x="1322" y="1440"/>
                    <a:pt x="1370" y="1408"/>
                  </a:cubicBezTo>
                  <a:cubicBezTo>
                    <a:pt x="1379" y="1381"/>
                    <a:pt x="1402" y="1385"/>
                    <a:pt x="1425" y="1370"/>
                  </a:cubicBezTo>
                  <a:cubicBezTo>
                    <a:pt x="1444" y="1343"/>
                    <a:pt x="1447" y="1341"/>
                    <a:pt x="1480" y="1348"/>
                  </a:cubicBezTo>
                  <a:cubicBezTo>
                    <a:pt x="1489" y="1376"/>
                    <a:pt x="1499" y="1414"/>
                    <a:pt x="1530" y="1425"/>
                  </a:cubicBezTo>
                  <a:cubicBezTo>
                    <a:pt x="1543" y="1444"/>
                    <a:pt x="1540" y="1456"/>
                    <a:pt x="1563" y="1463"/>
                  </a:cubicBezTo>
                  <a:cubicBezTo>
                    <a:pt x="1586" y="1498"/>
                    <a:pt x="1546" y="1557"/>
                    <a:pt x="1596" y="1573"/>
                  </a:cubicBezTo>
                  <a:cubicBezTo>
                    <a:pt x="1613" y="1599"/>
                    <a:pt x="1618" y="1619"/>
                    <a:pt x="1645" y="1628"/>
                  </a:cubicBezTo>
                  <a:cubicBezTo>
                    <a:pt x="1647" y="1623"/>
                    <a:pt x="1653" y="1617"/>
                    <a:pt x="1651" y="1612"/>
                  </a:cubicBezTo>
                  <a:cubicBezTo>
                    <a:pt x="1648" y="1604"/>
                    <a:pt x="1639" y="1601"/>
                    <a:pt x="1634" y="1595"/>
                  </a:cubicBezTo>
                  <a:cubicBezTo>
                    <a:pt x="1620" y="1578"/>
                    <a:pt x="1621" y="1569"/>
                    <a:pt x="1612" y="1546"/>
                  </a:cubicBezTo>
                  <a:cubicBezTo>
                    <a:pt x="1610" y="1539"/>
                    <a:pt x="1604" y="1535"/>
                    <a:pt x="1601" y="1529"/>
                  </a:cubicBezTo>
                  <a:cubicBezTo>
                    <a:pt x="1597" y="1518"/>
                    <a:pt x="1590" y="1496"/>
                    <a:pt x="1590" y="1496"/>
                  </a:cubicBezTo>
                  <a:cubicBezTo>
                    <a:pt x="1599" y="1469"/>
                    <a:pt x="1608" y="1468"/>
                    <a:pt x="1634" y="1474"/>
                  </a:cubicBezTo>
                  <a:cubicBezTo>
                    <a:pt x="1660" y="1491"/>
                    <a:pt x="1662" y="1517"/>
                    <a:pt x="1667" y="1546"/>
                  </a:cubicBezTo>
                  <a:cubicBezTo>
                    <a:pt x="1705" y="1520"/>
                    <a:pt x="1687" y="1528"/>
                    <a:pt x="1717" y="1518"/>
                  </a:cubicBezTo>
                  <a:cubicBezTo>
                    <a:pt x="1719" y="1511"/>
                    <a:pt x="1721" y="1503"/>
                    <a:pt x="1722" y="1496"/>
                  </a:cubicBezTo>
                  <a:cubicBezTo>
                    <a:pt x="1726" y="1485"/>
                    <a:pt x="1733" y="1463"/>
                    <a:pt x="1733" y="1463"/>
                  </a:cubicBezTo>
                  <a:cubicBezTo>
                    <a:pt x="1727" y="1436"/>
                    <a:pt x="1709" y="1417"/>
                    <a:pt x="1700" y="1392"/>
                  </a:cubicBezTo>
                  <a:cubicBezTo>
                    <a:pt x="1711" y="1388"/>
                    <a:pt x="1726" y="1390"/>
                    <a:pt x="1733" y="1381"/>
                  </a:cubicBezTo>
                  <a:cubicBezTo>
                    <a:pt x="1748" y="1360"/>
                    <a:pt x="1755" y="1346"/>
                    <a:pt x="1783" y="1337"/>
                  </a:cubicBezTo>
                  <a:cubicBezTo>
                    <a:pt x="1813" y="1326"/>
                    <a:pt x="1843" y="1322"/>
                    <a:pt x="1871" y="1304"/>
                  </a:cubicBezTo>
                  <a:cubicBezTo>
                    <a:pt x="1875" y="1298"/>
                    <a:pt x="1877" y="1292"/>
                    <a:pt x="1882" y="1287"/>
                  </a:cubicBezTo>
                  <a:cubicBezTo>
                    <a:pt x="1886" y="1282"/>
                    <a:pt x="1894" y="1282"/>
                    <a:pt x="1898" y="1276"/>
                  </a:cubicBezTo>
                  <a:cubicBezTo>
                    <a:pt x="1906" y="1267"/>
                    <a:pt x="1909" y="1253"/>
                    <a:pt x="1915" y="1243"/>
                  </a:cubicBezTo>
                  <a:cubicBezTo>
                    <a:pt x="1912" y="1205"/>
                    <a:pt x="1887" y="1137"/>
                    <a:pt x="1926" y="1111"/>
                  </a:cubicBezTo>
                  <a:cubicBezTo>
                    <a:pt x="1957" y="1064"/>
                    <a:pt x="1916" y="1067"/>
                    <a:pt x="1882" y="1062"/>
                  </a:cubicBezTo>
                  <a:cubicBezTo>
                    <a:pt x="1900" y="1055"/>
                    <a:pt x="1913" y="1046"/>
                    <a:pt x="1931" y="1040"/>
                  </a:cubicBezTo>
                  <a:cubicBezTo>
                    <a:pt x="1983" y="1045"/>
                    <a:pt x="2034" y="997"/>
                    <a:pt x="2037" y="995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430200" y="3548160"/>
              <a:ext cx="1660680" cy="1792080"/>
            </a:xfrm>
            <a:custGeom>
              <a:avLst/>
              <a:gdLst/>
              <a:ahLst/>
              <a:rect l="l" t="t" r="r" b="b"/>
              <a:pathLst>
                <a:path w="1141" h="1231">
                  <a:moveTo>
                    <a:pt x="855" y="103"/>
                  </a:moveTo>
                  <a:cubicBezTo>
                    <a:pt x="862" y="125"/>
                    <a:pt x="878" y="135"/>
                    <a:pt x="885" y="157"/>
                  </a:cubicBezTo>
                  <a:cubicBezTo>
                    <a:pt x="879" y="202"/>
                    <a:pt x="875" y="198"/>
                    <a:pt x="885" y="235"/>
                  </a:cubicBezTo>
                  <a:cubicBezTo>
                    <a:pt x="888" y="247"/>
                    <a:pt x="897" y="271"/>
                    <a:pt x="897" y="271"/>
                  </a:cubicBezTo>
                  <a:cubicBezTo>
                    <a:pt x="905" y="326"/>
                    <a:pt x="927" y="383"/>
                    <a:pt x="975" y="415"/>
                  </a:cubicBezTo>
                  <a:cubicBezTo>
                    <a:pt x="1017" y="478"/>
                    <a:pt x="1025" y="452"/>
                    <a:pt x="1131" y="457"/>
                  </a:cubicBezTo>
                  <a:cubicBezTo>
                    <a:pt x="1133" y="463"/>
                    <a:pt x="1141" y="471"/>
                    <a:pt x="1137" y="475"/>
                  </a:cubicBezTo>
                  <a:cubicBezTo>
                    <a:pt x="1123" y="489"/>
                    <a:pt x="1099" y="488"/>
                    <a:pt x="1083" y="499"/>
                  </a:cubicBezTo>
                  <a:cubicBezTo>
                    <a:pt x="1067" y="522"/>
                    <a:pt x="1071" y="541"/>
                    <a:pt x="1059" y="565"/>
                  </a:cubicBezTo>
                  <a:cubicBezTo>
                    <a:pt x="1049" y="584"/>
                    <a:pt x="1024" y="595"/>
                    <a:pt x="1005" y="601"/>
                  </a:cubicBezTo>
                  <a:cubicBezTo>
                    <a:pt x="992" y="640"/>
                    <a:pt x="986" y="659"/>
                    <a:pt x="945" y="673"/>
                  </a:cubicBezTo>
                  <a:cubicBezTo>
                    <a:pt x="941" y="686"/>
                    <a:pt x="931" y="696"/>
                    <a:pt x="927" y="709"/>
                  </a:cubicBezTo>
                  <a:cubicBezTo>
                    <a:pt x="923" y="723"/>
                    <a:pt x="924" y="737"/>
                    <a:pt x="921" y="751"/>
                  </a:cubicBezTo>
                  <a:cubicBezTo>
                    <a:pt x="920" y="757"/>
                    <a:pt x="917" y="763"/>
                    <a:pt x="915" y="769"/>
                  </a:cubicBezTo>
                  <a:cubicBezTo>
                    <a:pt x="913" y="811"/>
                    <a:pt x="917" y="854"/>
                    <a:pt x="909" y="895"/>
                  </a:cubicBezTo>
                  <a:cubicBezTo>
                    <a:pt x="908" y="901"/>
                    <a:pt x="897" y="898"/>
                    <a:pt x="891" y="901"/>
                  </a:cubicBezTo>
                  <a:cubicBezTo>
                    <a:pt x="870" y="911"/>
                    <a:pt x="856" y="930"/>
                    <a:pt x="837" y="943"/>
                  </a:cubicBezTo>
                  <a:cubicBezTo>
                    <a:pt x="829" y="1030"/>
                    <a:pt x="844" y="1008"/>
                    <a:pt x="789" y="1045"/>
                  </a:cubicBezTo>
                  <a:cubicBezTo>
                    <a:pt x="780" y="1058"/>
                    <a:pt x="768" y="1068"/>
                    <a:pt x="759" y="1081"/>
                  </a:cubicBezTo>
                  <a:cubicBezTo>
                    <a:pt x="739" y="1110"/>
                    <a:pt x="742" y="1144"/>
                    <a:pt x="711" y="1165"/>
                  </a:cubicBezTo>
                  <a:cubicBezTo>
                    <a:pt x="692" y="1194"/>
                    <a:pt x="660" y="1220"/>
                    <a:pt x="627" y="1231"/>
                  </a:cubicBezTo>
                  <a:cubicBezTo>
                    <a:pt x="597" y="1229"/>
                    <a:pt x="567" y="1228"/>
                    <a:pt x="537" y="1225"/>
                  </a:cubicBezTo>
                  <a:cubicBezTo>
                    <a:pt x="529" y="1224"/>
                    <a:pt x="518" y="1225"/>
                    <a:pt x="513" y="1219"/>
                  </a:cubicBezTo>
                  <a:cubicBezTo>
                    <a:pt x="489" y="1191"/>
                    <a:pt x="495" y="1147"/>
                    <a:pt x="489" y="1111"/>
                  </a:cubicBezTo>
                  <a:cubicBezTo>
                    <a:pt x="485" y="1089"/>
                    <a:pt x="475" y="1067"/>
                    <a:pt x="471" y="1045"/>
                  </a:cubicBezTo>
                  <a:cubicBezTo>
                    <a:pt x="469" y="993"/>
                    <a:pt x="465" y="941"/>
                    <a:pt x="465" y="889"/>
                  </a:cubicBezTo>
                  <a:cubicBezTo>
                    <a:pt x="465" y="869"/>
                    <a:pt x="465" y="848"/>
                    <a:pt x="471" y="829"/>
                  </a:cubicBezTo>
                  <a:cubicBezTo>
                    <a:pt x="475" y="815"/>
                    <a:pt x="495" y="793"/>
                    <a:pt x="495" y="793"/>
                  </a:cubicBezTo>
                  <a:cubicBezTo>
                    <a:pt x="480" y="747"/>
                    <a:pt x="469" y="733"/>
                    <a:pt x="441" y="697"/>
                  </a:cubicBezTo>
                  <a:cubicBezTo>
                    <a:pt x="432" y="686"/>
                    <a:pt x="417" y="661"/>
                    <a:pt x="417" y="661"/>
                  </a:cubicBezTo>
                  <a:cubicBezTo>
                    <a:pt x="420" y="639"/>
                    <a:pt x="434" y="605"/>
                    <a:pt x="423" y="583"/>
                  </a:cubicBezTo>
                  <a:cubicBezTo>
                    <a:pt x="420" y="577"/>
                    <a:pt x="417" y="569"/>
                    <a:pt x="411" y="565"/>
                  </a:cubicBezTo>
                  <a:cubicBezTo>
                    <a:pt x="400" y="558"/>
                    <a:pt x="375" y="553"/>
                    <a:pt x="375" y="553"/>
                  </a:cubicBezTo>
                  <a:cubicBezTo>
                    <a:pt x="352" y="518"/>
                    <a:pt x="331" y="536"/>
                    <a:pt x="297" y="547"/>
                  </a:cubicBezTo>
                  <a:cubicBezTo>
                    <a:pt x="293" y="553"/>
                    <a:pt x="288" y="559"/>
                    <a:pt x="285" y="565"/>
                  </a:cubicBezTo>
                  <a:cubicBezTo>
                    <a:pt x="282" y="571"/>
                    <a:pt x="285" y="581"/>
                    <a:pt x="279" y="583"/>
                  </a:cubicBezTo>
                  <a:cubicBezTo>
                    <a:pt x="269" y="586"/>
                    <a:pt x="259" y="580"/>
                    <a:pt x="249" y="577"/>
                  </a:cubicBezTo>
                  <a:cubicBezTo>
                    <a:pt x="206" y="565"/>
                    <a:pt x="168" y="559"/>
                    <a:pt x="123" y="553"/>
                  </a:cubicBezTo>
                  <a:cubicBezTo>
                    <a:pt x="101" y="539"/>
                    <a:pt x="103" y="525"/>
                    <a:pt x="81" y="511"/>
                  </a:cubicBezTo>
                  <a:cubicBezTo>
                    <a:pt x="71" y="482"/>
                    <a:pt x="58" y="462"/>
                    <a:pt x="33" y="445"/>
                  </a:cubicBezTo>
                  <a:cubicBezTo>
                    <a:pt x="0" y="395"/>
                    <a:pt x="36" y="353"/>
                    <a:pt x="51" y="307"/>
                  </a:cubicBezTo>
                  <a:cubicBezTo>
                    <a:pt x="62" y="170"/>
                    <a:pt x="34" y="258"/>
                    <a:pt x="75" y="217"/>
                  </a:cubicBezTo>
                  <a:cubicBezTo>
                    <a:pt x="80" y="212"/>
                    <a:pt x="81" y="204"/>
                    <a:pt x="87" y="199"/>
                  </a:cubicBezTo>
                  <a:cubicBezTo>
                    <a:pt x="103" y="186"/>
                    <a:pt x="141" y="169"/>
                    <a:pt x="141" y="169"/>
                  </a:cubicBezTo>
                  <a:cubicBezTo>
                    <a:pt x="149" y="144"/>
                    <a:pt x="158" y="120"/>
                    <a:pt x="171" y="97"/>
                  </a:cubicBezTo>
                  <a:cubicBezTo>
                    <a:pt x="178" y="84"/>
                    <a:pt x="181" y="66"/>
                    <a:pt x="195" y="61"/>
                  </a:cubicBezTo>
                  <a:cubicBezTo>
                    <a:pt x="244" y="45"/>
                    <a:pt x="218" y="51"/>
                    <a:pt x="273" y="43"/>
                  </a:cubicBezTo>
                  <a:cubicBezTo>
                    <a:pt x="320" y="27"/>
                    <a:pt x="268" y="43"/>
                    <a:pt x="369" y="31"/>
                  </a:cubicBezTo>
                  <a:cubicBezTo>
                    <a:pt x="393" y="28"/>
                    <a:pt x="441" y="19"/>
                    <a:pt x="441" y="19"/>
                  </a:cubicBezTo>
                  <a:cubicBezTo>
                    <a:pt x="469" y="0"/>
                    <a:pt x="494" y="9"/>
                    <a:pt x="525" y="19"/>
                  </a:cubicBezTo>
                  <a:cubicBezTo>
                    <a:pt x="556" y="65"/>
                    <a:pt x="542" y="89"/>
                    <a:pt x="603" y="109"/>
                  </a:cubicBezTo>
                  <a:cubicBezTo>
                    <a:pt x="627" y="107"/>
                    <a:pt x="652" y="110"/>
                    <a:pt x="675" y="103"/>
                  </a:cubicBezTo>
                  <a:cubicBezTo>
                    <a:pt x="682" y="101"/>
                    <a:pt x="681" y="90"/>
                    <a:pt x="687" y="85"/>
                  </a:cubicBezTo>
                  <a:cubicBezTo>
                    <a:pt x="692" y="81"/>
                    <a:pt x="699" y="81"/>
                    <a:pt x="705" y="79"/>
                  </a:cubicBezTo>
                  <a:cubicBezTo>
                    <a:pt x="759" y="86"/>
                    <a:pt x="800" y="103"/>
                    <a:pt x="855" y="103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836720" y="4738680"/>
              <a:ext cx="169920" cy="339840"/>
            </a:xfrm>
            <a:custGeom>
              <a:avLst/>
              <a:gdLst/>
              <a:ahLst/>
              <a:rect l="l" t="t" r="r" b="b"/>
              <a:pathLst>
                <a:path w="117" h="234">
                  <a:moveTo>
                    <a:pt x="105" y="6"/>
                  </a:moveTo>
                  <a:cubicBezTo>
                    <a:pt x="91" y="16"/>
                    <a:pt x="97" y="9"/>
                    <a:pt x="90" y="30"/>
                  </a:cubicBezTo>
                  <a:cubicBezTo>
                    <a:pt x="89" y="32"/>
                    <a:pt x="60" y="39"/>
                    <a:pt x="51" y="45"/>
                  </a:cubicBezTo>
                  <a:cubicBezTo>
                    <a:pt x="40" y="61"/>
                    <a:pt x="27" y="80"/>
                    <a:pt x="21" y="99"/>
                  </a:cubicBezTo>
                  <a:cubicBezTo>
                    <a:pt x="18" y="127"/>
                    <a:pt x="8" y="146"/>
                    <a:pt x="0" y="171"/>
                  </a:cubicBezTo>
                  <a:cubicBezTo>
                    <a:pt x="2" y="182"/>
                    <a:pt x="5" y="212"/>
                    <a:pt x="9" y="222"/>
                  </a:cubicBezTo>
                  <a:cubicBezTo>
                    <a:pt x="13" y="230"/>
                    <a:pt x="32" y="232"/>
                    <a:pt x="39" y="234"/>
                  </a:cubicBezTo>
                  <a:cubicBezTo>
                    <a:pt x="59" y="204"/>
                    <a:pt x="64" y="168"/>
                    <a:pt x="84" y="138"/>
                  </a:cubicBezTo>
                  <a:cubicBezTo>
                    <a:pt x="88" y="122"/>
                    <a:pt x="87" y="101"/>
                    <a:pt x="96" y="87"/>
                  </a:cubicBezTo>
                  <a:cubicBezTo>
                    <a:pt x="104" y="75"/>
                    <a:pt x="112" y="56"/>
                    <a:pt x="117" y="42"/>
                  </a:cubicBezTo>
                  <a:cubicBezTo>
                    <a:pt x="116" y="30"/>
                    <a:pt x="117" y="18"/>
                    <a:pt x="114" y="6"/>
                  </a:cubicBezTo>
                  <a:cubicBezTo>
                    <a:pt x="113" y="3"/>
                    <a:pt x="109" y="0"/>
                    <a:pt x="105" y="0"/>
                  </a:cubicBezTo>
                  <a:cubicBezTo>
                    <a:pt x="103" y="0"/>
                    <a:pt x="105" y="4"/>
                    <a:pt x="10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1908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496280" y="4143240"/>
              <a:ext cx="1092240" cy="1940040"/>
            </a:xfrm>
            <a:custGeom>
              <a:avLst/>
              <a:gdLst/>
              <a:ahLst/>
              <a:rect l="l" t="t" r="r" b="b"/>
              <a:pathLst>
                <a:path w="688" h="1222">
                  <a:moveTo>
                    <a:pt x="30" y="22"/>
                  </a:moveTo>
                  <a:cubicBezTo>
                    <a:pt x="19" y="39"/>
                    <a:pt x="28" y="53"/>
                    <a:pt x="38" y="68"/>
                  </a:cubicBezTo>
                  <a:cubicBezTo>
                    <a:pt x="36" y="80"/>
                    <a:pt x="34" y="82"/>
                    <a:pt x="30" y="92"/>
                  </a:cubicBezTo>
                  <a:cubicBezTo>
                    <a:pt x="28" y="96"/>
                    <a:pt x="26" y="104"/>
                    <a:pt x="26" y="104"/>
                  </a:cubicBezTo>
                  <a:cubicBezTo>
                    <a:pt x="31" y="128"/>
                    <a:pt x="25" y="103"/>
                    <a:pt x="32" y="120"/>
                  </a:cubicBezTo>
                  <a:cubicBezTo>
                    <a:pt x="35" y="126"/>
                    <a:pt x="38" y="138"/>
                    <a:pt x="38" y="138"/>
                  </a:cubicBezTo>
                  <a:cubicBezTo>
                    <a:pt x="37" y="149"/>
                    <a:pt x="37" y="166"/>
                    <a:pt x="30" y="176"/>
                  </a:cubicBezTo>
                  <a:cubicBezTo>
                    <a:pt x="26" y="181"/>
                    <a:pt x="16" y="193"/>
                    <a:pt x="14" y="200"/>
                  </a:cubicBezTo>
                  <a:cubicBezTo>
                    <a:pt x="13" y="204"/>
                    <a:pt x="12" y="208"/>
                    <a:pt x="10" y="212"/>
                  </a:cubicBezTo>
                  <a:cubicBezTo>
                    <a:pt x="9" y="214"/>
                    <a:pt x="7" y="216"/>
                    <a:pt x="6" y="218"/>
                  </a:cubicBezTo>
                  <a:cubicBezTo>
                    <a:pt x="3" y="224"/>
                    <a:pt x="0" y="236"/>
                    <a:pt x="0" y="236"/>
                  </a:cubicBezTo>
                  <a:cubicBezTo>
                    <a:pt x="1" y="254"/>
                    <a:pt x="0" y="266"/>
                    <a:pt x="12" y="278"/>
                  </a:cubicBezTo>
                  <a:cubicBezTo>
                    <a:pt x="15" y="292"/>
                    <a:pt x="20" y="304"/>
                    <a:pt x="28" y="316"/>
                  </a:cubicBezTo>
                  <a:cubicBezTo>
                    <a:pt x="39" y="314"/>
                    <a:pt x="43" y="314"/>
                    <a:pt x="52" y="320"/>
                  </a:cubicBezTo>
                  <a:cubicBezTo>
                    <a:pt x="59" y="330"/>
                    <a:pt x="66" y="337"/>
                    <a:pt x="76" y="344"/>
                  </a:cubicBezTo>
                  <a:cubicBezTo>
                    <a:pt x="80" y="346"/>
                    <a:pt x="88" y="348"/>
                    <a:pt x="88" y="348"/>
                  </a:cubicBezTo>
                  <a:cubicBezTo>
                    <a:pt x="98" y="364"/>
                    <a:pt x="89" y="393"/>
                    <a:pt x="110" y="400"/>
                  </a:cubicBezTo>
                  <a:cubicBezTo>
                    <a:pt x="117" y="407"/>
                    <a:pt x="124" y="413"/>
                    <a:pt x="134" y="416"/>
                  </a:cubicBezTo>
                  <a:cubicBezTo>
                    <a:pt x="138" y="420"/>
                    <a:pt x="141" y="424"/>
                    <a:pt x="146" y="426"/>
                  </a:cubicBezTo>
                  <a:cubicBezTo>
                    <a:pt x="150" y="428"/>
                    <a:pt x="158" y="430"/>
                    <a:pt x="158" y="430"/>
                  </a:cubicBezTo>
                  <a:cubicBezTo>
                    <a:pt x="163" y="435"/>
                    <a:pt x="168" y="448"/>
                    <a:pt x="168" y="448"/>
                  </a:cubicBezTo>
                  <a:cubicBezTo>
                    <a:pt x="169" y="464"/>
                    <a:pt x="172" y="475"/>
                    <a:pt x="176" y="490"/>
                  </a:cubicBezTo>
                  <a:cubicBezTo>
                    <a:pt x="172" y="525"/>
                    <a:pt x="163" y="558"/>
                    <a:pt x="160" y="594"/>
                  </a:cubicBezTo>
                  <a:cubicBezTo>
                    <a:pt x="161" y="667"/>
                    <a:pt x="161" y="741"/>
                    <a:pt x="162" y="814"/>
                  </a:cubicBezTo>
                  <a:cubicBezTo>
                    <a:pt x="162" y="823"/>
                    <a:pt x="176" y="838"/>
                    <a:pt x="176" y="838"/>
                  </a:cubicBezTo>
                  <a:cubicBezTo>
                    <a:pt x="186" y="880"/>
                    <a:pt x="177" y="927"/>
                    <a:pt x="174" y="970"/>
                  </a:cubicBezTo>
                  <a:cubicBezTo>
                    <a:pt x="170" y="1028"/>
                    <a:pt x="175" y="978"/>
                    <a:pt x="170" y="1000"/>
                  </a:cubicBezTo>
                  <a:cubicBezTo>
                    <a:pt x="168" y="1007"/>
                    <a:pt x="166" y="1020"/>
                    <a:pt x="166" y="1020"/>
                  </a:cubicBezTo>
                  <a:cubicBezTo>
                    <a:pt x="167" y="1039"/>
                    <a:pt x="162" y="1059"/>
                    <a:pt x="170" y="1076"/>
                  </a:cubicBezTo>
                  <a:cubicBezTo>
                    <a:pt x="175" y="1085"/>
                    <a:pt x="183" y="1090"/>
                    <a:pt x="192" y="1096"/>
                  </a:cubicBezTo>
                  <a:cubicBezTo>
                    <a:pt x="196" y="1099"/>
                    <a:pt x="204" y="1104"/>
                    <a:pt x="204" y="1104"/>
                  </a:cubicBezTo>
                  <a:cubicBezTo>
                    <a:pt x="211" y="1124"/>
                    <a:pt x="216" y="1144"/>
                    <a:pt x="234" y="1156"/>
                  </a:cubicBezTo>
                  <a:cubicBezTo>
                    <a:pt x="238" y="1168"/>
                    <a:pt x="238" y="1183"/>
                    <a:pt x="242" y="1194"/>
                  </a:cubicBezTo>
                  <a:cubicBezTo>
                    <a:pt x="250" y="1216"/>
                    <a:pt x="273" y="1216"/>
                    <a:pt x="292" y="1222"/>
                  </a:cubicBezTo>
                  <a:cubicBezTo>
                    <a:pt x="305" y="1218"/>
                    <a:pt x="306" y="1218"/>
                    <a:pt x="310" y="1206"/>
                  </a:cubicBezTo>
                  <a:cubicBezTo>
                    <a:pt x="306" y="1167"/>
                    <a:pt x="312" y="1200"/>
                    <a:pt x="304" y="1182"/>
                  </a:cubicBezTo>
                  <a:cubicBezTo>
                    <a:pt x="302" y="1178"/>
                    <a:pt x="300" y="1170"/>
                    <a:pt x="300" y="1170"/>
                  </a:cubicBezTo>
                  <a:cubicBezTo>
                    <a:pt x="300" y="1165"/>
                    <a:pt x="302" y="1145"/>
                    <a:pt x="294" y="1138"/>
                  </a:cubicBezTo>
                  <a:cubicBezTo>
                    <a:pt x="286" y="1132"/>
                    <a:pt x="273" y="1128"/>
                    <a:pt x="264" y="1124"/>
                  </a:cubicBezTo>
                  <a:cubicBezTo>
                    <a:pt x="260" y="1122"/>
                    <a:pt x="252" y="1120"/>
                    <a:pt x="252" y="1120"/>
                  </a:cubicBezTo>
                  <a:cubicBezTo>
                    <a:pt x="249" y="1110"/>
                    <a:pt x="249" y="1098"/>
                    <a:pt x="260" y="1094"/>
                  </a:cubicBezTo>
                  <a:cubicBezTo>
                    <a:pt x="265" y="1087"/>
                    <a:pt x="270" y="1086"/>
                    <a:pt x="276" y="1080"/>
                  </a:cubicBezTo>
                  <a:cubicBezTo>
                    <a:pt x="277" y="1061"/>
                    <a:pt x="276" y="1047"/>
                    <a:pt x="286" y="1032"/>
                  </a:cubicBezTo>
                  <a:cubicBezTo>
                    <a:pt x="290" y="1017"/>
                    <a:pt x="301" y="1003"/>
                    <a:pt x="306" y="988"/>
                  </a:cubicBezTo>
                  <a:cubicBezTo>
                    <a:pt x="310" y="952"/>
                    <a:pt x="316" y="913"/>
                    <a:pt x="304" y="878"/>
                  </a:cubicBezTo>
                  <a:cubicBezTo>
                    <a:pt x="309" y="836"/>
                    <a:pt x="326" y="840"/>
                    <a:pt x="360" y="830"/>
                  </a:cubicBezTo>
                  <a:cubicBezTo>
                    <a:pt x="369" y="827"/>
                    <a:pt x="375" y="823"/>
                    <a:pt x="384" y="820"/>
                  </a:cubicBezTo>
                  <a:cubicBezTo>
                    <a:pt x="387" y="817"/>
                    <a:pt x="393" y="815"/>
                    <a:pt x="396" y="812"/>
                  </a:cubicBezTo>
                  <a:cubicBezTo>
                    <a:pt x="409" y="799"/>
                    <a:pt x="419" y="783"/>
                    <a:pt x="432" y="770"/>
                  </a:cubicBezTo>
                  <a:cubicBezTo>
                    <a:pt x="439" y="750"/>
                    <a:pt x="440" y="723"/>
                    <a:pt x="452" y="706"/>
                  </a:cubicBezTo>
                  <a:cubicBezTo>
                    <a:pt x="455" y="695"/>
                    <a:pt x="455" y="688"/>
                    <a:pt x="464" y="682"/>
                  </a:cubicBezTo>
                  <a:cubicBezTo>
                    <a:pt x="467" y="674"/>
                    <a:pt x="475" y="667"/>
                    <a:pt x="482" y="662"/>
                  </a:cubicBezTo>
                  <a:cubicBezTo>
                    <a:pt x="487" y="655"/>
                    <a:pt x="488" y="650"/>
                    <a:pt x="494" y="644"/>
                  </a:cubicBezTo>
                  <a:cubicBezTo>
                    <a:pt x="498" y="631"/>
                    <a:pt x="508" y="618"/>
                    <a:pt x="516" y="606"/>
                  </a:cubicBezTo>
                  <a:cubicBezTo>
                    <a:pt x="520" y="590"/>
                    <a:pt x="527" y="580"/>
                    <a:pt x="544" y="574"/>
                  </a:cubicBezTo>
                  <a:cubicBezTo>
                    <a:pt x="558" y="560"/>
                    <a:pt x="551" y="565"/>
                    <a:pt x="562" y="558"/>
                  </a:cubicBezTo>
                  <a:cubicBezTo>
                    <a:pt x="578" y="534"/>
                    <a:pt x="602" y="518"/>
                    <a:pt x="618" y="494"/>
                  </a:cubicBezTo>
                  <a:cubicBezTo>
                    <a:pt x="625" y="484"/>
                    <a:pt x="630" y="476"/>
                    <a:pt x="634" y="464"/>
                  </a:cubicBezTo>
                  <a:cubicBezTo>
                    <a:pt x="635" y="460"/>
                    <a:pt x="638" y="452"/>
                    <a:pt x="638" y="452"/>
                  </a:cubicBezTo>
                  <a:cubicBezTo>
                    <a:pt x="640" y="419"/>
                    <a:pt x="649" y="389"/>
                    <a:pt x="664" y="360"/>
                  </a:cubicBezTo>
                  <a:cubicBezTo>
                    <a:pt x="669" y="350"/>
                    <a:pt x="668" y="337"/>
                    <a:pt x="674" y="328"/>
                  </a:cubicBezTo>
                  <a:cubicBezTo>
                    <a:pt x="677" y="324"/>
                    <a:pt x="682" y="316"/>
                    <a:pt x="682" y="316"/>
                  </a:cubicBezTo>
                  <a:cubicBezTo>
                    <a:pt x="683" y="309"/>
                    <a:pt x="688" y="294"/>
                    <a:pt x="688" y="294"/>
                  </a:cubicBezTo>
                  <a:cubicBezTo>
                    <a:pt x="687" y="278"/>
                    <a:pt x="688" y="272"/>
                    <a:pt x="680" y="260"/>
                  </a:cubicBezTo>
                  <a:cubicBezTo>
                    <a:pt x="677" y="249"/>
                    <a:pt x="673" y="242"/>
                    <a:pt x="662" y="238"/>
                  </a:cubicBezTo>
                  <a:cubicBezTo>
                    <a:pt x="651" y="205"/>
                    <a:pt x="589" y="209"/>
                    <a:pt x="568" y="208"/>
                  </a:cubicBezTo>
                  <a:cubicBezTo>
                    <a:pt x="550" y="202"/>
                    <a:pt x="530" y="197"/>
                    <a:pt x="514" y="186"/>
                  </a:cubicBezTo>
                  <a:cubicBezTo>
                    <a:pt x="510" y="175"/>
                    <a:pt x="514" y="181"/>
                    <a:pt x="500" y="172"/>
                  </a:cubicBezTo>
                  <a:cubicBezTo>
                    <a:pt x="496" y="170"/>
                    <a:pt x="488" y="168"/>
                    <a:pt x="488" y="168"/>
                  </a:cubicBezTo>
                  <a:cubicBezTo>
                    <a:pt x="480" y="156"/>
                    <a:pt x="474" y="136"/>
                    <a:pt x="462" y="128"/>
                  </a:cubicBezTo>
                  <a:cubicBezTo>
                    <a:pt x="455" y="118"/>
                    <a:pt x="448" y="123"/>
                    <a:pt x="438" y="126"/>
                  </a:cubicBezTo>
                  <a:cubicBezTo>
                    <a:pt x="435" y="116"/>
                    <a:pt x="430" y="110"/>
                    <a:pt x="422" y="104"/>
                  </a:cubicBezTo>
                  <a:cubicBezTo>
                    <a:pt x="413" y="77"/>
                    <a:pt x="401" y="74"/>
                    <a:pt x="372" y="72"/>
                  </a:cubicBezTo>
                  <a:cubicBezTo>
                    <a:pt x="362" y="69"/>
                    <a:pt x="355" y="62"/>
                    <a:pt x="346" y="56"/>
                  </a:cubicBezTo>
                  <a:cubicBezTo>
                    <a:pt x="341" y="49"/>
                    <a:pt x="333" y="41"/>
                    <a:pt x="326" y="36"/>
                  </a:cubicBezTo>
                  <a:cubicBezTo>
                    <a:pt x="318" y="24"/>
                    <a:pt x="268" y="12"/>
                    <a:pt x="252" y="8"/>
                  </a:cubicBezTo>
                  <a:cubicBezTo>
                    <a:pt x="229" y="2"/>
                    <a:pt x="265" y="11"/>
                    <a:pt x="228" y="4"/>
                  </a:cubicBezTo>
                  <a:cubicBezTo>
                    <a:pt x="223" y="3"/>
                    <a:pt x="212" y="0"/>
                    <a:pt x="212" y="0"/>
                  </a:cubicBezTo>
                  <a:cubicBezTo>
                    <a:pt x="183" y="1"/>
                    <a:pt x="163" y="4"/>
                    <a:pt x="136" y="6"/>
                  </a:cubicBezTo>
                  <a:cubicBezTo>
                    <a:pt x="113" y="12"/>
                    <a:pt x="66" y="12"/>
                    <a:pt x="66" y="12"/>
                  </a:cubicBezTo>
                  <a:cubicBezTo>
                    <a:pt x="64" y="12"/>
                    <a:pt x="48" y="14"/>
                    <a:pt x="44" y="16"/>
                  </a:cubicBezTo>
                  <a:cubicBezTo>
                    <a:pt x="35" y="20"/>
                    <a:pt x="28" y="28"/>
                    <a:pt x="26" y="26"/>
                  </a:cubicBezTo>
                  <a:cubicBezTo>
                    <a:pt x="25" y="25"/>
                    <a:pt x="29" y="23"/>
                    <a:pt x="30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6c6675"/>
                </a:gs>
                <a:gs pos="100000">
                  <a:srgbClr val="c2b7d3"/>
                </a:gs>
              </a:gsLst>
              <a:lin ang="5400000"/>
            </a:gradFill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9" name="未知"/>
          <p:cNvSpPr/>
          <p:nvPr/>
        </p:nvSpPr>
        <p:spPr>
          <a:xfrm rot="20104200">
            <a:off x="5376960" y="2084040"/>
            <a:ext cx="823680" cy="457200"/>
          </a:xfrm>
          <a:custGeom>
            <a:avLst/>
            <a:gdLst/>
            <a:ahLst/>
            <a:rect l="l" t="t" r="r" b="b"/>
            <a:pathLst>
              <a:path w="1010" h="642">
                <a:moveTo>
                  <a:pt x="612" y="152"/>
                </a:moveTo>
                <a:cubicBezTo>
                  <a:pt x="577" y="141"/>
                  <a:pt x="569" y="169"/>
                  <a:pt x="559" y="199"/>
                </a:cubicBezTo>
                <a:cubicBezTo>
                  <a:pt x="546" y="194"/>
                  <a:pt x="530" y="194"/>
                  <a:pt x="520" y="185"/>
                </a:cubicBezTo>
                <a:cubicBezTo>
                  <a:pt x="504" y="171"/>
                  <a:pt x="487" y="153"/>
                  <a:pt x="467" y="146"/>
                </a:cubicBezTo>
                <a:cubicBezTo>
                  <a:pt x="420" y="130"/>
                  <a:pt x="441" y="136"/>
                  <a:pt x="407" y="126"/>
                </a:cubicBezTo>
                <a:cubicBezTo>
                  <a:pt x="375" y="132"/>
                  <a:pt x="358" y="127"/>
                  <a:pt x="348" y="159"/>
                </a:cubicBezTo>
                <a:cubicBezTo>
                  <a:pt x="363" y="182"/>
                  <a:pt x="369" y="191"/>
                  <a:pt x="361" y="218"/>
                </a:cubicBezTo>
                <a:cubicBezTo>
                  <a:pt x="327" y="208"/>
                  <a:pt x="329" y="192"/>
                  <a:pt x="308" y="225"/>
                </a:cubicBezTo>
                <a:cubicBezTo>
                  <a:pt x="320" y="266"/>
                  <a:pt x="310" y="265"/>
                  <a:pt x="268" y="271"/>
                </a:cubicBezTo>
                <a:cubicBezTo>
                  <a:pt x="270" y="295"/>
                  <a:pt x="272" y="320"/>
                  <a:pt x="275" y="344"/>
                </a:cubicBezTo>
                <a:cubicBezTo>
                  <a:pt x="277" y="359"/>
                  <a:pt x="289" y="369"/>
                  <a:pt x="275" y="384"/>
                </a:cubicBezTo>
                <a:cubicBezTo>
                  <a:pt x="270" y="389"/>
                  <a:pt x="262" y="389"/>
                  <a:pt x="255" y="391"/>
                </a:cubicBezTo>
                <a:cubicBezTo>
                  <a:pt x="234" y="386"/>
                  <a:pt x="216" y="378"/>
                  <a:pt x="195" y="391"/>
                </a:cubicBezTo>
                <a:cubicBezTo>
                  <a:pt x="132" y="432"/>
                  <a:pt x="232" y="393"/>
                  <a:pt x="162" y="417"/>
                </a:cubicBezTo>
                <a:cubicBezTo>
                  <a:pt x="128" y="411"/>
                  <a:pt x="114" y="400"/>
                  <a:pt x="83" y="391"/>
                </a:cubicBezTo>
                <a:cubicBezTo>
                  <a:pt x="63" y="371"/>
                  <a:pt x="51" y="364"/>
                  <a:pt x="23" y="357"/>
                </a:cubicBezTo>
                <a:cubicBezTo>
                  <a:pt x="16" y="359"/>
                  <a:pt x="6" y="357"/>
                  <a:pt x="3" y="364"/>
                </a:cubicBezTo>
                <a:cubicBezTo>
                  <a:pt x="0" y="372"/>
                  <a:pt x="15" y="405"/>
                  <a:pt x="23" y="410"/>
                </a:cubicBezTo>
                <a:cubicBezTo>
                  <a:pt x="58" y="432"/>
                  <a:pt x="121" y="443"/>
                  <a:pt x="162" y="457"/>
                </a:cubicBezTo>
                <a:cubicBezTo>
                  <a:pt x="166" y="464"/>
                  <a:pt x="167" y="476"/>
                  <a:pt x="175" y="477"/>
                </a:cubicBezTo>
                <a:cubicBezTo>
                  <a:pt x="237" y="485"/>
                  <a:pt x="303" y="457"/>
                  <a:pt x="361" y="437"/>
                </a:cubicBezTo>
                <a:cubicBezTo>
                  <a:pt x="363" y="430"/>
                  <a:pt x="362" y="422"/>
                  <a:pt x="367" y="417"/>
                </a:cubicBezTo>
                <a:cubicBezTo>
                  <a:pt x="372" y="412"/>
                  <a:pt x="380" y="409"/>
                  <a:pt x="387" y="410"/>
                </a:cubicBezTo>
                <a:cubicBezTo>
                  <a:pt x="418" y="414"/>
                  <a:pt x="464" y="434"/>
                  <a:pt x="493" y="444"/>
                </a:cubicBezTo>
                <a:cubicBezTo>
                  <a:pt x="502" y="457"/>
                  <a:pt x="511" y="470"/>
                  <a:pt x="520" y="483"/>
                </a:cubicBezTo>
                <a:cubicBezTo>
                  <a:pt x="526" y="492"/>
                  <a:pt x="504" y="544"/>
                  <a:pt x="500" y="556"/>
                </a:cubicBezTo>
                <a:cubicBezTo>
                  <a:pt x="506" y="587"/>
                  <a:pt x="517" y="620"/>
                  <a:pt x="540" y="642"/>
                </a:cubicBezTo>
                <a:cubicBezTo>
                  <a:pt x="559" y="613"/>
                  <a:pt x="557" y="594"/>
                  <a:pt x="593" y="583"/>
                </a:cubicBezTo>
                <a:cubicBezTo>
                  <a:pt x="611" y="563"/>
                  <a:pt x="629" y="568"/>
                  <a:pt x="652" y="556"/>
                </a:cubicBezTo>
                <a:cubicBezTo>
                  <a:pt x="679" y="541"/>
                  <a:pt x="698" y="516"/>
                  <a:pt x="725" y="503"/>
                </a:cubicBezTo>
                <a:cubicBezTo>
                  <a:pt x="744" y="494"/>
                  <a:pt x="766" y="493"/>
                  <a:pt x="785" y="483"/>
                </a:cubicBezTo>
                <a:cubicBezTo>
                  <a:pt x="806" y="472"/>
                  <a:pt x="821" y="464"/>
                  <a:pt x="844" y="457"/>
                </a:cubicBezTo>
                <a:cubicBezTo>
                  <a:pt x="890" y="426"/>
                  <a:pt x="869" y="435"/>
                  <a:pt x="904" y="424"/>
                </a:cubicBezTo>
                <a:cubicBezTo>
                  <a:pt x="921" y="406"/>
                  <a:pt x="933" y="392"/>
                  <a:pt x="957" y="384"/>
                </a:cubicBezTo>
                <a:cubicBezTo>
                  <a:pt x="976" y="365"/>
                  <a:pt x="987" y="346"/>
                  <a:pt x="1010" y="331"/>
                </a:cubicBezTo>
                <a:cubicBezTo>
                  <a:pt x="989" y="312"/>
                  <a:pt x="985" y="285"/>
                  <a:pt x="977" y="258"/>
                </a:cubicBezTo>
                <a:cubicBezTo>
                  <a:pt x="975" y="238"/>
                  <a:pt x="972" y="219"/>
                  <a:pt x="970" y="199"/>
                </a:cubicBezTo>
                <a:cubicBezTo>
                  <a:pt x="967" y="159"/>
                  <a:pt x="969" y="119"/>
                  <a:pt x="963" y="79"/>
                </a:cubicBezTo>
                <a:cubicBezTo>
                  <a:pt x="960" y="57"/>
                  <a:pt x="945" y="60"/>
                  <a:pt x="930" y="53"/>
                </a:cubicBezTo>
                <a:cubicBezTo>
                  <a:pt x="878" y="27"/>
                  <a:pt x="826" y="19"/>
                  <a:pt x="771" y="0"/>
                </a:cubicBezTo>
                <a:cubicBezTo>
                  <a:pt x="740" y="11"/>
                  <a:pt x="753" y="17"/>
                  <a:pt x="732" y="40"/>
                </a:cubicBezTo>
                <a:cubicBezTo>
                  <a:pt x="713" y="93"/>
                  <a:pt x="718" y="87"/>
                  <a:pt x="665" y="106"/>
                </a:cubicBezTo>
                <a:cubicBezTo>
                  <a:pt x="609" y="86"/>
                  <a:pt x="675" y="46"/>
                  <a:pt x="619" y="26"/>
                </a:cubicBezTo>
                <a:cubicBezTo>
                  <a:pt x="615" y="31"/>
                  <a:pt x="608" y="34"/>
                  <a:pt x="606" y="40"/>
                </a:cubicBezTo>
                <a:cubicBezTo>
                  <a:pt x="602" y="50"/>
                  <a:pt x="608" y="66"/>
                  <a:pt x="599" y="73"/>
                </a:cubicBezTo>
                <a:cubicBezTo>
                  <a:pt x="593" y="78"/>
                  <a:pt x="586" y="64"/>
                  <a:pt x="579" y="60"/>
                </a:cubicBezTo>
                <a:cubicBezTo>
                  <a:pt x="573" y="57"/>
                  <a:pt x="566" y="55"/>
                  <a:pt x="559" y="53"/>
                </a:cubicBezTo>
                <a:cubicBezTo>
                  <a:pt x="548" y="89"/>
                  <a:pt x="580" y="117"/>
                  <a:pt x="599" y="146"/>
                </a:cubicBezTo>
                <a:cubicBezTo>
                  <a:pt x="570" y="165"/>
                  <a:pt x="571" y="161"/>
                  <a:pt x="612" y="152"/>
                </a:cubicBezTo>
                <a:close/>
              </a:path>
            </a:pathLst>
          </a:custGeom>
          <a:gradFill rotWithShape="0">
            <a:gsLst>
              <a:gs pos="0">
                <a:srgbClr val="d086b7"/>
              </a:gs>
              <a:gs pos="100000">
                <a:srgbClr val="5f3d54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未知"/>
          <p:cNvSpPr/>
          <p:nvPr/>
        </p:nvSpPr>
        <p:spPr>
          <a:xfrm rot="20104200">
            <a:off x="5935680" y="1885680"/>
            <a:ext cx="1930320" cy="1216080"/>
          </a:xfrm>
          <a:custGeom>
            <a:avLst/>
            <a:gdLst/>
            <a:ahLst/>
            <a:rect l="l" t="t" r="r" b="b"/>
            <a:pathLst>
              <a:path w="2367" h="1708">
                <a:moveTo>
                  <a:pt x="76" y="279"/>
                </a:moveTo>
                <a:cubicBezTo>
                  <a:pt x="91" y="324"/>
                  <a:pt x="88" y="316"/>
                  <a:pt x="76" y="358"/>
                </a:cubicBezTo>
                <a:cubicBezTo>
                  <a:pt x="83" y="386"/>
                  <a:pt x="88" y="392"/>
                  <a:pt x="109" y="411"/>
                </a:cubicBezTo>
                <a:cubicBezTo>
                  <a:pt x="104" y="477"/>
                  <a:pt x="107" y="508"/>
                  <a:pt x="62" y="550"/>
                </a:cubicBezTo>
                <a:cubicBezTo>
                  <a:pt x="65" y="572"/>
                  <a:pt x="76" y="594"/>
                  <a:pt x="76" y="616"/>
                </a:cubicBezTo>
                <a:cubicBezTo>
                  <a:pt x="76" y="650"/>
                  <a:pt x="55" y="687"/>
                  <a:pt x="36" y="715"/>
                </a:cubicBezTo>
                <a:cubicBezTo>
                  <a:pt x="43" y="761"/>
                  <a:pt x="59" y="785"/>
                  <a:pt x="23" y="821"/>
                </a:cubicBezTo>
                <a:cubicBezTo>
                  <a:pt x="18" y="834"/>
                  <a:pt x="14" y="848"/>
                  <a:pt x="9" y="861"/>
                </a:cubicBezTo>
                <a:cubicBezTo>
                  <a:pt x="0" y="888"/>
                  <a:pt x="41" y="920"/>
                  <a:pt x="56" y="934"/>
                </a:cubicBezTo>
                <a:cubicBezTo>
                  <a:pt x="58" y="967"/>
                  <a:pt x="50" y="1002"/>
                  <a:pt x="62" y="1033"/>
                </a:cubicBezTo>
                <a:cubicBezTo>
                  <a:pt x="70" y="1053"/>
                  <a:pt x="101" y="1049"/>
                  <a:pt x="122" y="1053"/>
                </a:cubicBezTo>
                <a:cubicBezTo>
                  <a:pt x="176" y="1063"/>
                  <a:pt x="198" y="1087"/>
                  <a:pt x="251" y="1103"/>
                </a:cubicBezTo>
                <a:cubicBezTo>
                  <a:pt x="276" y="1119"/>
                  <a:pt x="332" y="1111"/>
                  <a:pt x="360" y="1119"/>
                </a:cubicBezTo>
                <a:cubicBezTo>
                  <a:pt x="385" y="1146"/>
                  <a:pt x="438" y="1154"/>
                  <a:pt x="473" y="1166"/>
                </a:cubicBezTo>
                <a:cubicBezTo>
                  <a:pt x="493" y="1173"/>
                  <a:pt x="532" y="1186"/>
                  <a:pt x="532" y="1186"/>
                </a:cubicBezTo>
                <a:cubicBezTo>
                  <a:pt x="557" y="1210"/>
                  <a:pt x="534" y="1192"/>
                  <a:pt x="579" y="1205"/>
                </a:cubicBezTo>
                <a:cubicBezTo>
                  <a:pt x="621" y="1217"/>
                  <a:pt x="663" y="1232"/>
                  <a:pt x="705" y="1245"/>
                </a:cubicBezTo>
                <a:cubicBezTo>
                  <a:pt x="733" y="1264"/>
                  <a:pt x="765" y="1268"/>
                  <a:pt x="797" y="1278"/>
                </a:cubicBezTo>
                <a:cubicBezTo>
                  <a:pt x="843" y="1293"/>
                  <a:pt x="890" y="1308"/>
                  <a:pt x="936" y="1325"/>
                </a:cubicBezTo>
                <a:cubicBezTo>
                  <a:pt x="960" y="1334"/>
                  <a:pt x="984" y="1337"/>
                  <a:pt x="1009" y="1344"/>
                </a:cubicBezTo>
                <a:cubicBezTo>
                  <a:pt x="1023" y="1348"/>
                  <a:pt x="1049" y="1358"/>
                  <a:pt x="1049" y="1358"/>
                </a:cubicBezTo>
                <a:cubicBezTo>
                  <a:pt x="1093" y="1349"/>
                  <a:pt x="1114" y="1378"/>
                  <a:pt x="1157" y="1388"/>
                </a:cubicBezTo>
                <a:cubicBezTo>
                  <a:pt x="1171" y="1403"/>
                  <a:pt x="1199" y="1396"/>
                  <a:pt x="1214" y="1411"/>
                </a:cubicBezTo>
                <a:cubicBezTo>
                  <a:pt x="1233" y="1430"/>
                  <a:pt x="1249" y="1482"/>
                  <a:pt x="1268" y="1502"/>
                </a:cubicBezTo>
                <a:cubicBezTo>
                  <a:pt x="1291" y="1565"/>
                  <a:pt x="1286" y="1534"/>
                  <a:pt x="1281" y="1629"/>
                </a:cubicBezTo>
                <a:cubicBezTo>
                  <a:pt x="1283" y="1651"/>
                  <a:pt x="1278" y="1675"/>
                  <a:pt x="1287" y="1695"/>
                </a:cubicBezTo>
                <a:cubicBezTo>
                  <a:pt x="1293" y="1708"/>
                  <a:pt x="1309" y="1683"/>
                  <a:pt x="1327" y="1675"/>
                </a:cubicBezTo>
                <a:cubicBezTo>
                  <a:pt x="1358" y="1661"/>
                  <a:pt x="1400" y="1655"/>
                  <a:pt x="1433" y="1649"/>
                </a:cubicBezTo>
                <a:cubicBezTo>
                  <a:pt x="1414" y="1594"/>
                  <a:pt x="1407" y="1610"/>
                  <a:pt x="1492" y="1603"/>
                </a:cubicBezTo>
                <a:cubicBezTo>
                  <a:pt x="1509" y="1597"/>
                  <a:pt x="1528" y="1596"/>
                  <a:pt x="1545" y="1589"/>
                </a:cubicBezTo>
                <a:cubicBezTo>
                  <a:pt x="1551" y="1587"/>
                  <a:pt x="1553" y="1579"/>
                  <a:pt x="1559" y="1576"/>
                </a:cubicBezTo>
                <a:cubicBezTo>
                  <a:pt x="1571" y="1569"/>
                  <a:pt x="1585" y="1568"/>
                  <a:pt x="1598" y="1563"/>
                </a:cubicBezTo>
                <a:cubicBezTo>
                  <a:pt x="1631" y="1532"/>
                  <a:pt x="1682" y="1529"/>
                  <a:pt x="1724" y="1517"/>
                </a:cubicBezTo>
                <a:cubicBezTo>
                  <a:pt x="1741" y="1491"/>
                  <a:pt x="1744" y="1463"/>
                  <a:pt x="1757" y="1437"/>
                </a:cubicBezTo>
                <a:cubicBezTo>
                  <a:pt x="1774" y="1401"/>
                  <a:pt x="1764" y="1431"/>
                  <a:pt x="1784" y="1404"/>
                </a:cubicBezTo>
                <a:cubicBezTo>
                  <a:pt x="1812" y="1367"/>
                  <a:pt x="1819" y="1343"/>
                  <a:pt x="1857" y="1318"/>
                </a:cubicBezTo>
                <a:cubicBezTo>
                  <a:pt x="1892" y="1295"/>
                  <a:pt x="2013" y="1300"/>
                  <a:pt x="2055" y="1291"/>
                </a:cubicBezTo>
                <a:cubicBezTo>
                  <a:pt x="2097" y="1282"/>
                  <a:pt x="2090" y="1252"/>
                  <a:pt x="2108" y="1265"/>
                </a:cubicBezTo>
                <a:cubicBezTo>
                  <a:pt x="2154" y="1254"/>
                  <a:pt x="2151" y="1376"/>
                  <a:pt x="2161" y="1371"/>
                </a:cubicBezTo>
                <a:cubicBezTo>
                  <a:pt x="2187" y="1392"/>
                  <a:pt x="2235" y="1381"/>
                  <a:pt x="2267" y="1391"/>
                </a:cubicBezTo>
                <a:cubicBezTo>
                  <a:pt x="2299" y="1401"/>
                  <a:pt x="2339" y="1428"/>
                  <a:pt x="2353" y="1431"/>
                </a:cubicBezTo>
                <a:cubicBezTo>
                  <a:pt x="2367" y="1434"/>
                  <a:pt x="2362" y="1431"/>
                  <a:pt x="2353" y="1411"/>
                </a:cubicBezTo>
                <a:cubicBezTo>
                  <a:pt x="2344" y="1391"/>
                  <a:pt x="2331" y="1341"/>
                  <a:pt x="2300" y="1311"/>
                </a:cubicBezTo>
                <a:cubicBezTo>
                  <a:pt x="2269" y="1281"/>
                  <a:pt x="2194" y="1266"/>
                  <a:pt x="2168" y="1232"/>
                </a:cubicBezTo>
                <a:cubicBezTo>
                  <a:pt x="2199" y="1184"/>
                  <a:pt x="2176" y="1141"/>
                  <a:pt x="2141" y="1106"/>
                </a:cubicBezTo>
                <a:cubicBezTo>
                  <a:pt x="2117" y="1108"/>
                  <a:pt x="2091" y="1105"/>
                  <a:pt x="2068" y="1113"/>
                </a:cubicBezTo>
                <a:cubicBezTo>
                  <a:pt x="2061" y="1115"/>
                  <a:pt x="2067" y="1128"/>
                  <a:pt x="2062" y="1133"/>
                </a:cubicBezTo>
                <a:cubicBezTo>
                  <a:pt x="2057" y="1138"/>
                  <a:pt x="2049" y="1137"/>
                  <a:pt x="2042" y="1139"/>
                </a:cubicBezTo>
                <a:cubicBezTo>
                  <a:pt x="2044" y="1124"/>
                  <a:pt x="2052" y="1108"/>
                  <a:pt x="2049" y="1093"/>
                </a:cubicBezTo>
                <a:cubicBezTo>
                  <a:pt x="2047" y="1085"/>
                  <a:pt x="2034" y="1086"/>
                  <a:pt x="2029" y="1080"/>
                </a:cubicBezTo>
                <a:cubicBezTo>
                  <a:pt x="2025" y="1075"/>
                  <a:pt x="2026" y="1065"/>
                  <a:pt x="2022" y="1060"/>
                </a:cubicBezTo>
                <a:cubicBezTo>
                  <a:pt x="2010" y="1046"/>
                  <a:pt x="1986" y="1032"/>
                  <a:pt x="1969" y="1027"/>
                </a:cubicBezTo>
                <a:cubicBezTo>
                  <a:pt x="1927" y="998"/>
                  <a:pt x="1959" y="1028"/>
                  <a:pt x="1943" y="947"/>
                </a:cubicBezTo>
                <a:cubicBezTo>
                  <a:pt x="1934" y="923"/>
                  <a:pt x="1928" y="880"/>
                  <a:pt x="1909" y="861"/>
                </a:cubicBezTo>
                <a:cubicBezTo>
                  <a:pt x="1896" y="841"/>
                  <a:pt x="1880" y="819"/>
                  <a:pt x="1863" y="828"/>
                </a:cubicBezTo>
                <a:cubicBezTo>
                  <a:pt x="1854" y="854"/>
                  <a:pt x="1812" y="887"/>
                  <a:pt x="1804" y="914"/>
                </a:cubicBezTo>
                <a:cubicBezTo>
                  <a:pt x="1752" y="903"/>
                  <a:pt x="1722" y="887"/>
                  <a:pt x="1704" y="835"/>
                </a:cubicBezTo>
                <a:cubicBezTo>
                  <a:pt x="1699" y="799"/>
                  <a:pt x="1686" y="768"/>
                  <a:pt x="1651" y="749"/>
                </a:cubicBezTo>
                <a:cubicBezTo>
                  <a:pt x="1639" y="742"/>
                  <a:pt x="1612" y="735"/>
                  <a:pt x="1612" y="735"/>
                </a:cubicBezTo>
                <a:cubicBezTo>
                  <a:pt x="1593" y="717"/>
                  <a:pt x="1577" y="715"/>
                  <a:pt x="1552" y="709"/>
                </a:cubicBezTo>
                <a:cubicBezTo>
                  <a:pt x="1525" y="717"/>
                  <a:pt x="1515" y="717"/>
                  <a:pt x="1499" y="742"/>
                </a:cubicBezTo>
                <a:cubicBezTo>
                  <a:pt x="1508" y="768"/>
                  <a:pt x="1509" y="795"/>
                  <a:pt x="1519" y="821"/>
                </a:cubicBezTo>
                <a:cubicBezTo>
                  <a:pt x="1511" y="843"/>
                  <a:pt x="1499" y="855"/>
                  <a:pt x="1486" y="874"/>
                </a:cubicBezTo>
                <a:cubicBezTo>
                  <a:pt x="1492" y="894"/>
                  <a:pt x="1506" y="934"/>
                  <a:pt x="1506" y="934"/>
                </a:cubicBezTo>
                <a:cubicBezTo>
                  <a:pt x="1504" y="976"/>
                  <a:pt x="1507" y="1019"/>
                  <a:pt x="1499" y="1060"/>
                </a:cubicBezTo>
                <a:cubicBezTo>
                  <a:pt x="1498" y="1067"/>
                  <a:pt x="1486" y="1064"/>
                  <a:pt x="1479" y="1066"/>
                </a:cubicBezTo>
                <a:cubicBezTo>
                  <a:pt x="1466" y="1070"/>
                  <a:pt x="1439" y="1080"/>
                  <a:pt x="1439" y="1080"/>
                </a:cubicBezTo>
                <a:cubicBezTo>
                  <a:pt x="1441" y="1094"/>
                  <a:pt x="1449" y="1168"/>
                  <a:pt x="1453" y="1186"/>
                </a:cubicBezTo>
                <a:cubicBezTo>
                  <a:pt x="1456" y="1199"/>
                  <a:pt x="1466" y="1225"/>
                  <a:pt x="1466" y="1225"/>
                </a:cubicBezTo>
                <a:cubicBezTo>
                  <a:pt x="1436" y="1235"/>
                  <a:pt x="1410" y="1234"/>
                  <a:pt x="1386" y="1212"/>
                </a:cubicBezTo>
                <a:cubicBezTo>
                  <a:pt x="1373" y="1167"/>
                  <a:pt x="1391" y="1219"/>
                  <a:pt x="1360" y="1172"/>
                </a:cubicBezTo>
                <a:cubicBezTo>
                  <a:pt x="1358" y="1169"/>
                  <a:pt x="1348" y="1136"/>
                  <a:pt x="1347" y="1133"/>
                </a:cubicBezTo>
                <a:cubicBezTo>
                  <a:pt x="1354" y="1111"/>
                  <a:pt x="1366" y="1102"/>
                  <a:pt x="1373" y="1080"/>
                </a:cubicBezTo>
                <a:cubicBezTo>
                  <a:pt x="1371" y="1069"/>
                  <a:pt x="1373" y="1057"/>
                  <a:pt x="1367" y="1047"/>
                </a:cubicBezTo>
                <a:cubicBezTo>
                  <a:pt x="1338" y="999"/>
                  <a:pt x="1263" y="989"/>
                  <a:pt x="1214" y="974"/>
                </a:cubicBezTo>
                <a:cubicBezTo>
                  <a:pt x="1204" y="964"/>
                  <a:pt x="1200" y="948"/>
                  <a:pt x="1188" y="941"/>
                </a:cubicBezTo>
                <a:cubicBezTo>
                  <a:pt x="1164" y="926"/>
                  <a:pt x="1128" y="923"/>
                  <a:pt x="1102" y="914"/>
                </a:cubicBezTo>
                <a:cubicBezTo>
                  <a:pt x="1098" y="907"/>
                  <a:pt x="1092" y="901"/>
                  <a:pt x="1089" y="894"/>
                </a:cubicBezTo>
                <a:cubicBezTo>
                  <a:pt x="1083" y="881"/>
                  <a:pt x="1075" y="855"/>
                  <a:pt x="1075" y="855"/>
                </a:cubicBezTo>
                <a:cubicBezTo>
                  <a:pt x="1070" y="825"/>
                  <a:pt x="1069" y="810"/>
                  <a:pt x="1049" y="788"/>
                </a:cubicBezTo>
                <a:cubicBezTo>
                  <a:pt x="1037" y="755"/>
                  <a:pt x="1038" y="779"/>
                  <a:pt x="1062" y="755"/>
                </a:cubicBezTo>
                <a:cubicBezTo>
                  <a:pt x="1068" y="749"/>
                  <a:pt x="1070" y="741"/>
                  <a:pt x="1075" y="735"/>
                </a:cubicBezTo>
                <a:cubicBezTo>
                  <a:pt x="1102" y="702"/>
                  <a:pt x="1142" y="688"/>
                  <a:pt x="1181" y="676"/>
                </a:cubicBezTo>
                <a:cubicBezTo>
                  <a:pt x="1185" y="669"/>
                  <a:pt x="1191" y="664"/>
                  <a:pt x="1194" y="656"/>
                </a:cubicBezTo>
                <a:cubicBezTo>
                  <a:pt x="1198" y="643"/>
                  <a:pt x="1194" y="628"/>
                  <a:pt x="1201" y="616"/>
                </a:cubicBezTo>
                <a:cubicBezTo>
                  <a:pt x="1207" y="606"/>
                  <a:pt x="1271" y="599"/>
                  <a:pt x="1287" y="596"/>
                </a:cubicBezTo>
                <a:cubicBezTo>
                  <a:pt x="1301" y="556"/>
                  <a:pt x="1281" y="584"/>
                  <a:pt x="1267" y="543"/>
                </a:cubicBezTo>
                <a:cubicBezTo>
                  <a:pt x="1292" y="520"/>
                  <a:pt x="1315" y="534"/>
                  <a:pt x="1340" y="550"/>
                </a:cubicBezTo>
                <a:cubicBezTo>
                  <a:pt x="1356" y="506"/>
                  <a:pt x="1340" y="508"/>
                  <a:pt x="1400" y="517"/>
                </a:cubicBezTo>
                <a:cubicBezTo>
                  <a:pt x="1411" y="515"/>
                  <a:pt x="1425" y="518"/>
                  <a:pt x="1433" y="510"/>
                </a:cubicBezTo>
                <a:cubicBezTo>
                  <a:pt x="1458" y="485"/>
                  <a:pt x="1431" y="456"/>
                  <a:pt x="1413" y="444"/>
                </a:cubicBezTo>
                <a:cubicBezTo>
                  <a:pt x="1420" y="423"/>
                  <a:pt x="1435" y="390"/>
                  <a:pt x="1413" y="371"/>
                </a:cubicBezTo>
                <a:cubicBezTo>
                  <a:pt x="1401" y="361"/>
                  <a:pt x="1382" y="376"/>
                  <a:pt x="1367" y="378"/>
                </a:cubicBezTo>
                <a:cubicBezTo>
                  <a:pt x="1355" y="413"/>
                  <a:pt x="1386" y="435"/>
                  <a:pt x="1340" y="451"/>
                </a:cubicBezTo>
                <a:cubicBezTo>
                  <a:pt x="1333" y="443"/>
                  <a:pt x="1317" y="428"/>
                  <a:pt x="1314" y="418"/>
                </a:cubicBezTo>
                <a:cubicBezTo>
                  <a:pt x="1310" y="405"/>
                  <a:pt x="1316" y="388"/>
                  <a:pt x="1307" y="378"/>
                </a:cubicBezTo>
                <a:cubicBezTo>
                  <a:pt x="1300" y="369"/>
                  <a:pt x="1285" y="373"/>
                  <a:pt x="1274" y="371"/>
                </a:cubicBezTo>
                <a:cubicBezTo>
                  <a:pt x="1264" y="344"/>
                  <a:pt x="1272" y="325"/>
                  <a:pt x="1281" y="298"/>
                </a:cubicBezTo>
                <a:cubicBezTo>
                  <a:pt x="1269" y="242"/>
                  <a:pt x="1260" y="258"/>
                  <a:pt x="1201" y="265"/>
                </a:cubicBezTo>
                <a:cubicBezTo>
                  <a:pt x="1184" y="313"/>
                  <a:pt x="1190" y="343"/>
                  <a:pt x="1221" y="384"/>
                </a:cubicBezTo>
                <a:cubicBezTo>
                  <a:pt x="1227" y="400"/>
                  <a:pt x="1235" y="413"/>
                  <a:pt x="1221" y="431"/>
                </a:cubicBezTo>
                <a:cubicBezTo>
                  <a:pt x="1217" y="436"/>
                  <a:pt x="1208" y="435"/>
                  <a:pt x="1201" y="437"/>
                </a:cubicBezTo>
                <a:cubicBezTo>
                  <a:pt x="1188" y="441"/>
                  <a:pt x="1161" y="451"/>
                  <a:pt x="1161" y="451"/>
                </a:cubicBezTo>
                <a:cubicBezTo>
                  <a:pt x="1111" y="438"/>
                  <a:pt x="1141" y="435"/>
                  <a:pt x="1122" y="398"/>
                </a:cubicBezTo>
                <a:cubicBezTo>
                  <a:pt x="1111" y="376"/>
                  <a:pt x="1070" y="371"/>
                  <a:pt x="1049" y="365"/>
                </a:cubicBezTo>
                <a:cubicBezTo>
                  <a:pt x="1036" y="351"/>
                  <a:pt x="1002" y="331"/>
                  <a:pt x="983" y="325"/>
                </a:cubicBezTo>
                <a:cubicBezTo>
                  <a:pt x="924" y="334"/>
                  <a:pt x="939" y="333"/>
                  <a:pt x="930" y="391"/>
                </a:cubicBezTo>
                <a:cubicBezTo>
                  <a:pt x="885" y="375"/>
                  <a:pt x="899" y="325"/>
                  <a:pt x="863" y="312"/>
                </a:cubicBezTo>
                <a:cubicBezTo>
                  <a:pt x="851" y="307"/>
                  <a:pt x="837" y="307"/>
                  <a:pt x="824" y="305"/>
                </a:cubicBezTo>
                <a:cubicBezTo>
                  <a:pt x="813" y="274"/>
                  <a:pt x="830" y="261"/>
                  <a:pt x="817" y="226"/>
                </a:cubicBezTo>
                <a:cubicBezTo>
                  <a:pt x="813" y="216"/>
                  <a:pt x="791" y="204"/>
                  <a:pt x="784" y="199"/>
                </a:cubicBezTo>
                <a:cubicBezTo>
                  <a:pt x="780" y="192"/>
                  <a:pt x="777" y="185"/>
                  <a:pt x="771" y="179"/>
                </a:cubicBezTo>
                <a:cubicBezTo>
                  <a:pt x="765" y="173"/>
                  <a:pt x="756" y="172"/>
                  <a:pt x="751" y="166"/>
                </a:cubicBezTo>
                <a:cubicBezTo>
                  <a:pt x="742" y="155"/>
                  <a:pt x="748" y="136"/>
                  <a:pt x="738" y="126"/>
                </a:cubicBezTo>
                <a:cubicBezTo>
                  <a:pt x="726" y="114"/>
                  <a:pt x="669" y="108"/>
                  <a:pt x="658" y="106"/>
                </a:cubicBezTo>
                <a:cubicBezTo>
                  <a:pt x="626" y="59"/>
                  <a:pt x="611" y="49"/>
                  <a:pt x="552" y="40"/>
                </a:cubicBezTo>
                <a:cubicBezTo>
                  <a:pt x="544" y="14"/>
                  <a:pt x="538" y="9"/>
                  <a:pt x="513" y="0"/>
                </a:cubicBezTo>
                <a:cubicBezTo>
                  <a:pt x="492" y="21"/>
                  <a:pt x="468" y="45"/>
                  <a:pt x="440" y="53"/>
                </a:cubicBezTo>
                <a:cubicBezTo>
                  <a:pt x="389" y="104"/>
                  <a:pt x="323" y="135"/>
                  <a:pt x="254" y="153"/>
                </a:cubicBezTo>
                <a:cubicBezTo>
                  <a:pt x="229" y="169"/>
                  <a:pt x="197" y="183"/>
                  <a:pt x="168" y="192"/>
                </a:cubicBezTo>
                <a:cubicBezTo>
                  <a:pt x="142" y="210"/>
                  <a:pt x="118" y="214"/>
                  <a:pt x="102" y="245"/>
                </a:cubicBezTo>
                <a:cubicBezTo>
                  <a:pt x="98" y="252"/>
                  <a:pt x="91" y="277"/>
                  <a:pt x="89" y="285"/>
                </a:cubicBezTo>
                <a:cubicBezTo>
                  <a:pt x="87" y="292"/>
                  <a:pt x="88" y="308"/>
                  <a:pt x="82" y="305"/>
                </a:cubicBezTo>
                <a:cubicBezTo>
                  <a:pt x="74" y="301"/>
                  <a:pt x="78" y="288"/>
                  <a:pt x="76" y="279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未知"/>
          <p:cNvSpPr/>
          <p:nvPr/>
        </p:nvSpPr>
        <p:spPr>
          <a:xfrm rot="20104200">
            <a:off x="6361200" y="3282480"/>
            <a:ext cx="1317600" cy="1127160"/>
          </a:xfrm>
          <a:custGeom>
            <a:avLst/>
            <a:gdLst/>
            <a:ahLst/>
            <a:rect l="l" t="t" r="r" b="b"/>
            <a:pathLst>
              <a:path w="1615" h="1583">
                <a:moveTo>
                  <a:pt x="14" y="20"/>
                </a:moveTo>
                <a:cubicBezTo>
                  <a:pt x="18" y="51"/>
                  <a:pt x="24" y="82"/>
                  <a:pt x="27" y="113"/>
                </a:cubicBezTo>
                <a:cubicBezTo>
                  <a:pt x="31" y="155"/>
                  <a:pt x="18" y="203"/>
                  <a:pt x="40" y="239"/>
                </a:cubicBezTo>
                <a:cubicBezTo>
                  <a:pt x="47" y="251"/>
                  <a:pt x="59" y="260"/>
                  <a:pt x="67" y="272"/>
                </a:cubicBezTo>
                <a:cubicBezTo>
                  <a:pt x="66" y="272"/>
                  <a:pt x="27" y="284"/>
                  <a:pt x="27" y="285"/>
                </a:cubicBezTo>
                <a:cubicBezTo>
                  <a:pt x="25" y="293"/>
                  <a:pt x="49" y="313"/>
                  <a:pt x="54" y="318"/>
                </a:cubicBezTo>
                <a:cubicBezTo>
                  <a:pt x="67" y="362"/>
                  <a:pt x="89" y="399"/>
                  <a:pt x="100" y="444"/>
                </a:cubicBezTo>
                <a:cubicBezTo>
                  <a:pt x="107" y="476"/>
                  <a:pt x="101" y="493"/>
                  <a:pt x="133" y="503"/>
                </a:cubicBezTo>
                <a:cubicBezTo>
                  <a:pt x="142" y="529"/>
                  <a:pt x="158" y="548"/>
                  <a:pt x="166" y="576"/>
                </a:cubicBezTo>
                <a:cubicBezTo>
                  <a:pt x="170" y="569"/>
                  <a:pt x="179" y="564"/>
                  <a:pt x="179" y="556"/>
                </a:cubicBezTo>
                <a:cubicBezTo>
                  <a:pt x="179" y="531"/>
                  <a:pt x="148" y="484"/>
                  <a:pt x="140" y="457"/>
                </a:cubicBezTo>
                <a:cubicBezTo>
                  <a:pt x="135" y="355"/>
                  <a:pt x="133" y="287"/>
                  <a:pt x="80" y="205"/>
                </a:cubicBezTo>
                <a:cubicBezTo>
                  <a:pt x="69" y="173"/>
                  <a:pt x="50" y="147"/>
                  <a:pt x="93" y="133"/>
                </a:cubicBezTo>
                <a:cubicBezTo>
                  <a:pt x="104" y="135"/>
                  <a:pt x="120" y="130"/>
                  <a:pt x="127" y="139"/>
                </a:cubicBezTo>
                <a:cubicBezTo>
                  <a:pt x="139" y="156"/>
                  <a:pt x="134" y="179"/>
                  <a:pt x="140" y="199"/>
                </a:cubicBezTo>
                <a:cubicBezTo>
                  <a:pt x="151" y="237"/>
                  <a:pt x="164" y="304"/>
                  <a:pt x="193" y="331"/>
                </a:cubicBezTo>
                <a:cubicBezTo>
                  <a:pt x="208" y="382"/>
                  <a:pt x="205" y="465"/>
                  <a:pt x="246" y="503"/>
                </a:cubicBezTo>
                <a:cubicBezTo>
                  <a:pt x="254" y="531"/>
                  <a:pt x="258" y="542"/>
                  <a:pt x="279" y="563"/>
                </a:cubicBezTo>
                <a:cubicBezTo>
                  <a:pt x="285" y="582"/>
                  <a:pt x="304" y="615"/>
                  <a:pt x="319" y="629"/>
                </a:cubicBezTo>
                <a:cubicBezTo>
                  <a:pt x="321" y="658"/>
                  <a:pt x="312" y="833"/>
                  <a:pt x="365" y="848"/>
                </a:cubicBezTo>
                <a:cubicBezTo>
                  <a:pt x="384" y="853"/>
                  <a:pt x="404" y="852"/>
                  <a:pt x="424" y="854"/>
                </a:cubicBezTo>
                <a:cubicBezTo>
                  <a:pt x="455" y="876"/>
                  <a:pt x="449" y="894"/>
                  <a:pt x="491" y="907"/>
                </a:cubicBezTo>
                <a:cubicBezTo>
                  <a:pt x="503" y="920"/>
                  <a:pt x="559" y="955"/>
                  <a:pt x="577" y="960"/>
                </a:cubicBezTo>
                <a:cubicBezTo>
                  <a:pt x="597" y="973"/>
                  <a:pt x="607" y="986"/>
                  <a:pt x="630" y="993"/>
                </a:cubicBezTo>
                <a:cubicBezTo>
                  <a:pt x="651" y="1008"/>
                  <a:pt x="662" y="1025"/>
                  <a:pt x="683" y="1040"/>
                </a:cubicBezTo>
                <a:cubicBezTo>
                  <a:pt x="709" y="1080"/>
                  <a:pt x="758" y="1075"/>
                  <a:pt x="802" y="1079"/>
                </a:cubicBezTo>
                <a:cubicBezTo>
                  <a:pt x="841" y="1093"/>
                  <a:pt x="854" y="1117"/>
                  <a:pt x="881" y="1146"/>
                </a:cubicBezTo>
                <a:cubicBezTo>
                  <a:pt x="883" y="1152"/>
                  <a:pt x="882" y="1161"/>
                  <a:pt x="888" y="1165"/>
                </a:cubicBezTo>
                <a:cubicBezTo>
                  <a:pt x="900" y="1173"/>
                  <a:pt x="928" y="1179"/>
                  <a:pt x="928" y="1179"/>
                </a:cubicBezTo>
                <a:cubicBezTo>
                  <a:pt x="987" y="1241"/>
                  <a:pt x="992" y="1237"/>
                  <a:pt x="1080" y="1245"/>
                </a:cubicBezTo>
                <a:cubicBezTo>
                  <a:pt x="1146" y="1288"/>
                  <a:pt x="1097" y="1260"/>
                  <a:pt x="1139" y="1305"/>
                </a:cubicBezTo>
                <a:cubicBezTo>
                  <a:pt x="1149" y="1354"/>
                  <a:pt x="1137" y="1332"/>
                  <a:pt x="1186" y="1364"/>
                </a:cubicBezTo>
                <a:cubicBezTo>
                  <a:pt x="1193" y="1368"/>
                  <a:pt x="1206" y="1377"/>
                  <a:pt x="1206" y="1377"/>
                </a:cubicBezTo>
                <a:cubicBezTo>
                  <a:pt x="1204" y="1386"/>
                  <a:pt x="1199" y="1395"/>
                  <a:pt x="1199" y="1404"/>
                </a:cubicBezTo>
                <a:cubicBezTo>
                  <a:pt x="1199" y="1448"/>
                  <a:pt x="1262" y="1497"/>
                  <a:pt x="1298" y="1510"/>
                </a:cubicBezTo>
                <a:cubicBezTo>
                  <a:pt x="1321" y="1531"/>
                  <a:pt x="1346" y="1539"/>
                  <a:pt x="1371" y="1556"/>
                </a:cubicBezTo>
                <a:cubicBezTo>
                  <a:pt x="1434" y="1543"/>
                  <a:pt x="1421" y="1566"/>
                  <a:pt x="1471" y="1583"/>
                </a:cubicBezTo>
                <a:cubicBezTo>
                  <a:pt x="1510" y="1568"/>
                  <a:pt x="1488" y="1546"/>
                  <a:pt x="1477" y="1516"/>
                </a:cubicBezTo>
                <a:cubicBezTo>
                  <a:pt x="1530" y="1500"/>
                  <a:pt x="1533" y="1531"/>
                  <a:pt x="1563" y="1563"/>
                </a:cubicBezTo>
                <a:cubicBezTo>
                  <a:pt x="1576" y="1561"/>
                  <a:pt x="1595" y="1567"/>
                  <a:pt x="1603" y="1556"/>
                </a:cubicBezTo>
                <a:cubicBezTo>
                  <a:pt x="1615" y="1539"/>
                  <a:pt x="1571" y="1474"/>
                  <a:pt x="1557" y="1463"/>
                </a:cubicBezTo>
                <a:cubicBezTo>
                  <a:pt x="1546" y="1454"/>
                  <a:pt x="1530" y="1456"/>
                  <a:pt x="1517" y="1450"/>
                </a:cubicBezTo>
                <a:cubicBezTo>
                  <a:pt x="1455" y="1419"/>
                  <a:pt x="1423" y="1422"/>
                  <a:pt x="1345" y="1417"/>
                </a:cubicBezTo>
                <a:cubicBezTo>
                  <a:pt x="1320" y="1345"/>
                  <a:pt x="1338" y="1274"/>
                  <a:pt x="1345" y="1199"/>
                </a:cubicBezTo>
                <a:cubicBezTo>
                  <a:pt x="1341" y="1181"/>
                  <a:pt x="1346" y="1156"/>
                  <a:pt x="1331" y="1146"/>
                </a:cubicBezTo>
                <a:cubicBezTo>
                  <a:pt x="1314" y="1135"/>
                  <a:pt x="1292" y="1137"/>
                  <a:pt x="1272" y="1132"/>
                </a:cubicBezTo>
                <a:cubicBezTo>
                  <a:pt x="1234" y="1107"/>
                  <a:pt x="1182" y="1094"/>
                  <a:pt x="1139" y="1079"/>
                </a:cubicBezTo>
                <a:cubicBezTo>
                  <a:pt x="1128" y="1081"/>
                  <a:pt x="1116" y="1090"/>
                  <a:pt x="1106" y="1086"/>
                </a:cubicBezTo>
                <a:cubicBezTo>
                  <a:pt x="1080" y="1075"/>
                  <a:pt x="1100" y="1000"/>
                  <a:pt x="1100" y="1000"/>
                </a:cubicBezTo>
                <a:cubicBezTo>
                  <a:pt x="1106" y="985"/>
                  <a:pt x="1130" y="991"/>
                  <a:pt x="1146" y="987"/>
                </a:cubicBezTo>
                <a:cubicBezTo>
                  <a:pt x="1144" y="971"/>
                  <a:pt x="1142" y="956"/>
                  <a:pt x="1139" y="940"/>
                </a:cubicBezTo>
                <a:cubicBezTo>
                  <a:pt x="1138" y="933"/>
                  <a:pt x="1130" y="927"/>
                  <a:pt x="1133" y="921"/>
                </a:cubicBezTo>
                <a:cubicBezTo>
                  <a:pt x="1136" y="915"/>
                  <a:pt x="1146" y="916"/>
                  <a:pt x="1153" y="914"/>
                </a:cubicBezTo>
                <a:cubicBezTo>
                  <a:pt x="1203" y="837"/>
                  <a:pt x="1159" y="813"/>
                  <a:pt x="1100" y="795"/>
                </a:cubicBezTo>
                <a:cubicBezTo>
                  <a:pt x="1074" y="801"/>
                  <a:pt x="1059" y="813"/>
                  <a:pt x="1034" y="821"/>
                </a:cubicBezTo>
                <a:cubicBezTo>
                  <a:pt x="1002" y="851"/>
                  <a:pt x="1023" y="870"/>
                  <a:pt x="1007" y="914"/>
                </a:cubicBezTo>
                <a:cubicBezTo>
                  <a:pt x="1002" y="929"/>
                  <a:pt x="960" y="936"/>
                  <a:pt x="947" y="940"/>
                </a:cubicBezTo>
                <a:cubicBezTo>
                  <a:pt x="906" y="935"/>
                  <a:pt x="896" y="926"/>
                  <a:pt x="861" y="914"/>
                </a:cubicBezTo>
                <a:cubicBezTo>
                  <a:pt x="834" y="924"/>
                  <a:pt x="824" y="928"/>
                  <a:pt x="795" y="921"/>
                </a:cubicBezTo>
                <a:cubicBezTo>
                  <a:pt x="748" y="870"/>
                  <a:pt x="821" y="951"/>
                  <a:pt x="769" y="887"/>
                </a:cubicBezTo>
                <a:cubicBezTo>
                  <a:pt x="756" y="871"/>
                  <a:pt x="737" y="862"/>
                  <a:pt x="722" y="848"/>
                </a:cubicBezTo>
                <a:cubicBezTo>
                  <a:pt x="718" y="835"/>
                  <a:pt x="711" y="822"/>
                  <a:pt x="709" y="808"/>
                </a:cubicBezTo>
                <a:cubicBezTo>
                  <a:pt x="697" y="724"/>
                  <a:pt x="722" y="753"/>
                  <a:pt x="689" y="722"/>
                </a:cubicBezTo>
                <a:cubicBezTo>
                  <a:pt x="687" y="715"/>
                  <a:pt x="681" y="709"/>
                  <a:pt x="683" y="702"/>
                </a:cubicBezTo>
                <a:cubicBezTo>
                  <a:pt x="688" y="687"/>
                  <a:pt x="709" y="662"/>
                  <a:pt x="709" y="662"/>
                </a:cubicBezTo>
                <a:cubicBezTo>
                  <a:pt x="716" y="592"/>
                  <a:pt x="724" y="593"/>
                  <a:pt x="742" y="537"/>
                </a:cubicBezTo>
                <a:cubicBezTo>
                  <a:pt x="725" y="501"/>
                  <a:pt x="714" y="483"/>
                  <a:pt x="676" y="470"/>
                </a:cubicBezTo>
                <a:cubicBezTo>
                  <a:pt x="646" y="426"/>
                  <a:pt x="661" y="442"/>
                  <a:pt x="636" y="417"/>
                </a:cubicBezTo>
                <a:cubicBezTo>
                  <a:pt x="629" y="393"/>
                  <a:pt x="618" y="383"/>
                  <a:pt x="603" y="364"/>
                </a:cubicBezTo>
                <a:cubicBezTo>
                  <a:pt x="589" y="346"/>
                  <a:pt x="586" y="321"/>
                  <a:pt x="570" y="305"/>
                </a:cubicBezTo>
                <a:cubicBezTo>
                  <a:pt x="544" y="279"/>
                  <a:pt x="519" y="272"/>
                  <a:pt x="484" y="265"/>
                </a:cubicBezTo>
                <a:cubicBezTo>
                  <a:pt x="472" y="246"/>
                  <a:pt x="461" y="225"/>
                  <a:pt x="451" y="205"/>
                </a:cubicBezTo>
                <a:cubicBezTo>
                  <a:pt x="445" y="193"/>
                  <a:pt x="445" y="178"/>
                  <a:pt x="438" y="166"/>
                </a:cubicBezTo>
                <a:cubicBezTo>
                  <a:pt x="413" y="125"/>
                  <a:pt x="341" y="118"/>
                  <a:pt x="299" y="113"/>
                </a:cubicBezTo>
                <a:cubicBezTo>
                  <a:pt x="264" y="101"/>
                  <a:pt x="229" y="98"/>
                  <a:pt x="193" y="93"/>
                </a:cubicBezTo>
                <a:cubicBezTo>
                  <a:pt x="167" y="69"/>
                  <a:pt x="141" y="37"/>
                  <a:pt x="107" y="27"/>
                </a:cubicBezTo>
                <a:cubicBezTo>
                  <a:pt x="80" y="0"/>
                  <a:pt x="68" y="8"/>
                  <a:pt x="27" y="13"/>
                </a:cubicBezTo>
                <a:cubicBezTo>
                  <a:pt x="5" y="21"/>
                  <a:pt x="0" y="20"/>
                  <a:pt x="14" y="20"/>
                </a:cubicBez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lin ang="689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未知"/>
          <p:cNvSpPr/>
          <p:nvPr/>
        </p:nvSpPr>
        <p:spPr>
          <a:xfrm rot="20104200">
            <a:off x="6935760" y="2239560"/>
            <a:ext cx="88920" cy="69840"/>
          </a:xfrm>
          <a:custGeom>
            <a:avLst/>
            <a:gdLst/>
            <a:ahLst/>
            <a:rect l="l" t="t" r="r" b="b"/>
            <a:pathLst>
              <a:path w="110" h="99">
                <a:moveTo>
                  <a:pt x="18" y="20"/>
                </a:moveTo>
                <a:cubicBezTo>
                  <a:pt x="7" y="52"/>
                  <a:pt x="0" y="88"/>
                  <a:pt x="38" y="99"/>
                </a:cubicBezTo>
                <a:cubicBezTo>
                  <a:pt x="62" y="91"/>
                  <a:pt x="85" y="84"/>
                  <a:pt x="110" y="79"/>
                </a:cubicBezTo>
                <a:cubicBezTo>
                  <a:pt x="104" y="44"/>
                  <a:pt x="102" y="11"/>
                  <a:pt x="64" y="0"/>
                </a:cubicBezTo>
                <a:cubicBezTo>
                  <a:pt x="53" y="2"/>
                  <a:pt x="41" y="2"/>
                  <a:pt x="31" y="6"/>
                </a:cubicBezTo>
                <a:cubicBezTo>
                  <a:pt x="25" y="9"/>
                  <a:pt x="18" y="20"/>
                  <a:pt x="18" y="20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32f50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未知"/>
          <p:cNvSpPr/>
          <p:nvPr/>
        </p:nvSpPr>
        <p:spPr>
          <a:xfrm rot="20104200">
            <a:off x="6897600" y="1903320"/>
            <a:ext cx="403200" cy="392040"/>
          </a:xfrm>
          <a:custGeom>
            <a:avLst/>
            <a:gdLst/>
            <a:ahLst/>
            <a:rect l="l" t="t" r="r" b="b"/>
            <a:pathLst>
              <a:path w="495" h="550">
                <a:moveTo>
                  <a:pt x="46" y="0"/>
                </a:moveTo>
                <a:cubicBezTo>
                  <a:pt x="20" y="9"/>
                  <a:pt x="9" y="13"/>
                  <a:pt x="0" y="40"/>
                </a:cubicBezTo>
                <a:cubicBezTo>
                  <a:pt x="11" y="113"/>
                  <a:pt x="12" y="121"/>
                  <a:pt x="79" y="146"/>
                </a:cubicBezTo>
                <a:cubicBezTo>
                  <a:pt x="106" y="171"/>
                  <a:pt x="137" y="174"/>
                  <a:pt x="172" y="179"/>
                </a:cubicBezTo>
                <a:cubicBezTo>
                  <a:pt x="191" y="198"/>
                  <a:pt x="202" y="217"/>
                  <a:pt x="225" y="232"/>
                </a:cubicBezTo>
                <a:cubicBezTo>
                  <a:pt x="245" y="263"/>
                  <a:pt x="272" y="282"/>
                  <a:pt x="285" y="318"/>
                </a:cubicBezTo>
                <a:cubicBezTo>
                  <a:pt x="278" y="353"/>
                  <a:pt x="271" y="357"/>
                  <a:pt x="252" y="384"/>
                </a:cubicBezTo>
                <a:cubicBezTo>
                  <a:pt x="262" y="440"/>
                  <a:pt x="262" y="429"/>
                  <a:pt x="298" y="464"/>
                </a:cubicBezTo>
                <a:cubicBezTo>
                  <a:pt x="322" y="487"/>
                  <a:pt x="319" y="501"/>
                  <a:pt x="351" y="510"/>
                </a:cubicBezTo>
                <a:cubicBezTo>
                  <a:pt x="370" y="529"/>
                  <a:pt x="384" y="541"/>
                  <a:pt x="410" y="550"/>
                </a:cubicBezTo>
                <a:cubicBezTo>
                  <a:pt x="417" y="548"/>
                  <a:pt x="431" y="550"/>
                  <a:pt x="430" y="543"/>
                </a:cubicBezTo>
                <a:cubicBezTo>
                  <a:pt x="428" y="528"/>
                  <a:pt x="404" y="504"/>
                  <a:pt x="404" y="504"/>
                </a:cubicBezTo>
                <a:cubicBezTo>
                  <a:pt x="408" y="499"/>
                  <a:pt x="411" y="491"/>
                  <a:pt x="417" y="490"/>
                </a:cubicBezTo>
                <a:cubicBezTo>
                  <a:pt x="455" y="483"/>
                  <a:pt x="438" y="517"/>
                  <a:pt x="450" y="477"/>
                </a:cubicBezTo>
                <a:cubicBezTo>
                  <a:pt x="446" y="470"/>
                  <a:pt x="443" y="463"/>
                  <a:pt x="437" y="457"/>
                </a:cubicBezTo>
                <a:cubicBezTo>
                  <a:pt x="431" y="451"/>
                  <a:pt x="422" y="450"/>
                  <a:pt x="417" y="444"/>
                </a:cubicBezTo>
                <a:cubicBezTo>
                  <a:pt x="401" y="425"/>
                  <a:pt x="395" y="402"/>
                  <a:pt x="377" y="384"/>
                </a:cubicBezTo>
                <a:cubicBezTo>
                  <a:pt x="392" y="342"/>
                  <a:pt x="418" y="367"/>
                  <a:pt x="444" y="384"/>
                </a:cubicBezTo>
                <a:cubicBezTo>
                  <a:pt x="484" y="377"/>
                  <a:pt x="495" y="386"/>
                  <a:pt x="470" y="325"/>
                </a:cubicBezTo>
                <a:cubicBezTo>
                  <a:pt x="467" y="318"/>
                  <a:pt x="456" y="317"/>
                  <a:pt x="450" y="312"/>
                </a:cubicBezTo>
                <a:cubicBezTo>
                  <a:pt x="428" y="294"/>
                  <a:pt x="405" y="288"/>
                  <a:pt x="377" y="279"/>
                </a:cubicBezTo>
                <a:cubicBezTo>
                  <a:pt x="369" y="252"/>
                  <a:pt x="369" y="242"/>
                  <a:pt x="344" y="226"/>
                </a:cubicBezTo>
                <a:cubicBezTo>
                  <a:pt x="330" y="180"/>
                  <a:pt x="350" y="231"/>
                  <a:pt x="318" y="192"/>
                </a:cubicBezTo>
                <a:cubicBezTo>
                  <a:pt x="313" y="186"/>
                  <a:pt x="308" y="159"/>
                  <a:pt x="305" y="153"/>
                </a:cubicBezTo>
                <a:cubicBezTo>
                  <a:pt x="293" y="129"/>
                  <a:pt x="275" y="122"/>
                  <a:pt x="252" y="113"/>
                </a:cubicBezTo>
                <a:cubicBezTo>
                  <a:pt x="195" y="128"/>
                  <a:pt x="238" y="107"/>
                  <a:pt x="205" y="80"/>
                </a:cubicBezTo>
                <a:cubicBezTo>
                  <a:pt x="186" y="64"/>
                  <a:pt x="157" y="70"/>
                  <a:pt x="132" y="67"/>
                </a:cubicBezTo>
                <a:cubicBezTo>
                  <a:pt x="105" y="38"/>
                  <a:pt x="125" y="21"/>
                  <a:pt x="86" y="7"/>
                </a:cubicBezTo>
                <a:cubicBezTo>
                  <a:pt x="82" y="14"/>
                  <a:pt x="81" y="27"/>
                  <a:pt x="73" y="27"/>
                </a:cubicBezTo>
                <a:cubicBezTo>
                  <a:pt x="66" y="27"/>
                  <a:pt x="71" y="12"/>
                  <a:pt x="66" y="7"/>
                </a:cubicBezTo>
                <a:cubicBezTo>
                  <a:pt x="61" y="2"/>
                  <a:pt x="46" y="0"/>
                  <a:pt x="46" y="0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32f50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未知"/>
          <p:cNvSpPr/>
          <p:nvPr/>
        </p:nvSpPr>
        <p:spPr>
          <a:xfrm rot="20104200">
            <a:off x="6449760" y="2058840"/>
            <a:ext cx="233280" cy="185760"/>
          </a:xfrm>
          <a:custGeom>
            <a:avLst/>
            <a:gdLst/>
            <a:ahLst/>
            <a:rect l="l" t="t" r="r" b="b"/>
            <a:pathLst>
              <a:path w="287" h="261">
                <a:moveTo>
                  <a:pt x="118" y="130"/>
                </a:moveTo>
                <a:cubicBezTo>
                  <a:pt x="107" y="87"/>
                  <a:pt x="119" y="109"/>
                  <a:pt x="71" y="77"/>
                </a:cubicBezTo>
                <a:cubicBezTo>
                  <a:pt x="65" y="73"/>
                  <a:pt x="52" y="64"/>
                  <a:pt x="52" y="64"/>
                </a:cubicBezTo>
                <a:cubicBezTo>
                  <a:pt x="54" y="53"/>
                  <a:pt x="48" y="37"/>
                  <a:pt x="58" y="31"/>
                </a:cubicBezTo>
                <a:cubicBezTo>
                  <a:pt x="68" y="25"/>
                  <a:pt x="105" y="39"/>
                  <a:pt x="118" y="44"/>
                </a:cubicBezTo>
                <a:cubicBezTo>
                  <a:pt x="131" y="0"/>
                  <a:pt x="142" y="11"/>
                  <a:pt x="191" y="17"/>
                </a:cubicBezTo>
                <a:cubicBezTo>
                  <a:pt x="210" y="37"/>
                  <a:pt x="216" y="47"/>
                  <a:pt x="244" y="37"/>
                </a:cubicBezTo>
                <a:cubicBezTo>
                  <a:pt x="250" y="41"/>
                  <a:pt x="255" y="50"/>
                  <a:pt x="263" y="50"/>
                </a:cubicBezTo>
                <a:cubicBezTo>
                  <a:pt x="287" y="50"/>
                  <a:pt x="269" y="12"/>
                  <a:pt x="283" y="57"/>
                </a:cubicBezTo>
                <a:cubicBezTo>
                  <a:pt x="276" y="93"/>
                  <a:pt x="273" y="93"/>
                  <a:pt x="250" y="117"/>
                </a:cubicBezTo>
                <a:cubicBezTo>
                  <a:pt x="252" y="124"/>
                  <a:pt x="257" y="130"/>
                  <a:pt x="257" y="137"/>
                </a:cubicBezTo>
                <a:cubicBezTo>
                  <a:pt x="257" y="261"/>
                  <a:pt x="257" y="204"/>
                  <a:pt x="191" y="249"/>
                </a:cubicBezTo>
                <a:cubicBezTo>
                  <a:pt x="155" y="216"/>
                  <a:pt x="197" y="259"/>
                  <a:pt x="171" y="216"/>
                </a:cubicBezTo>
                <a:cubicBezTo>
                  <a:pt x="151" y="183"/>
                  <a:pt x="69" y="191"/>
                  <a:pt x="52" y="190"/>
                </a:cubicBezTo>
                <a:cubicBezTo>
                  <a:pt x="43" y="164"/>
                  <a:pt x="38" y="136"/>
                  <a:pt x="18" y="117"/>
                </a:cubicBezTo>
                <a:cubicBezTo>
                  <a:pt x="0" y="55"/>
                  <a:pt x="71" y="117"/>
                  <a:pt x="91" y="123"/>
                </a:cubicBezTo>
                <a:cubicBezTo>
                  <a:pt x="93" y="130"/>
                  <a:pt x="91" y="141"/>
                  <a:pt x="98" y="143"/>
                </a:cubicBezTo>
                <a:cubicBezTo>
                  <a:pt x="106" y="145"/>
                  <a:pt x="116" y="138"/>
                  <a:pt x="118" y="130"/>
                </a:cubicBezTo>
                <a:cubicBezTo>
                  <a:pt x="119" y="124"/>
                  <a:pt x="104" y="117"/>
                  <a:pt x="104" y="117"/>
                </a:cubicBezTo>
                <a:cubicBezTo>
                  <a:pt x="104" y="117"/>
                  <a:pt x="113" y="126"/>
                  <a:pt x="118" y="130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32f50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未知"/>
          <p:cNvSpPr/>
          <p:nvPr/>
        </p:nvSpPr>
        <p:spPr>
          <a:xfrm rot="20104200">
            <a:off x="6797160" y="1657080"/>
            <a:ext cx="208080" cy="272880"/>
          </a:xfrm>
          <a:custGeom>
            <a:avLst/>
            <a:gdLst/>
            <a:ahLst/>
            <a:rect l="l" t="t" r="r" b="b"/>
            <a:pathLst>
              <a:path w="255" h="383">
                <a:moveTo>
                  <a:pt x="115" y="302"/>
                </a:moveTo>
                <a:cubicBezTo>
                  <a:pt x="92" y="287"/>
                  <a:pt x="78" y="286"/>
                  <a:pt x="62" y="263"/>
                </a:cubicBezTo>
                <a:cubicBezTo>
                  <a:pt x="53" y="231"/>
                  <a:pt x="45" y="244"/>
                  <a:pt x="22" y="223"/>
                </a:cubicBezTo>
                <a:cubicBezTo>
                  <a:pt x="48" y="214"/>
                  <a:pt x="59" y="218"/>
                  <a:pt x="69" y="190"/>
                </a:cubicBezTo>
                <a:cubicBezTo>
                  <a:pt x="54" y="147"/>
                  <a:pt x="40" y="148"/>
                  <a:pt x="102" y="157"/>
                </a:cubicBezTo>
                <a:cubicBezTo>
                  <a:pt x="129" y="148"/>
                  <a:pt x="133" y="136"/>
                  <a:pt x="142" y="110"/>
                </a:cubicBezTo>
                <a:cubicBezTo>
                  <a:pt x="104" y="99"/>
                  <a:pt x="100" y="97"/>
                  <a:pt x="56" y="104"/>
                </a:cubicBezTo>
                <a:cubicBezTo>
                  <a:pt x="47" y="102"/>
                  <a:pt x="36" y="103"/>
                  <a:pt x="29" y="97"/>
                </a:cubicBezTo>
                <a:cubicBezTo>
                  <a:pt x="0" y="74"/>
                  <a:pt x="59" y="46"/>
                  <a:pt x="75" y="44"/>
                </a:cubicBezTo>
                <a:cubicBezTo>
                  <a:pt x="99" y="40"/>
                  <a:pt x="124" y="39"/>
                  <a:pt x="148" y="37"/>
                </a:cubicBezTo>
                <a:cubicBezTo>
                  <a:pt x="173" y="0"/>
                  <a:pt x="201" y="12"/>
                  <a:pt x="241" y="24"/>
                </a:cubicBezTo>
                <a:cubicBezTo>
                  <a:pt x="246" y="38"/>
                  <a:pt x="255" y="50"/>
                  <a:pt x="241" y="64"/>
                </a:cubicBezTo>
                <a:cubicBezTo>
                  <a:pt x="230" y="75"/>
                  <a:pt x="201" y="90"/>
                  <a:pt x="201" y="90"/>
                </a:cubicBezTo>
                <a:cubicBezTo>
                  <a:pt x="192" y="119"/>
                  <a:pt x="204" y="121"/>
                  <a:pt x="228" y="137"/>
                </a:cubicBezTo>
                <a:cubicBezTo>
                  <a:pt x="226" y="150"/>
                  <a:pt x="230" y="166"/>
                  <a:pt x="221" y="176"/>
                </a:cubicBezTo>
                <a:cubicBezTo>
                  <a:pt x="218" y="179"/>
                  <a:pt x="173" y="192"/>
                  <a:pt x="161" y="196"/>
                </a:cubicBezTo>
                <a:cubicBezTo>
                  <a:pt x="155" y="246"/>
                  <a:pt x="158" y="248"/>
                  <a:pt x="115" y="263"/>
                </a:cubicBezTo>
                <a:cubicBezTo>
                  <a:pt x="117" y="281"/>
                  <a:pt x="147" y="383"/>
                  <a:pt x="115" y="302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32f50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未知"/>
          <p:cNvSpPr/>
          <p:nvPr/>
        </p:nvSpPr>
        <p:spPr>
          <a:xfrm rot="20104200">
            <a:off x="7016760" y="1396800"/>
            <a:ext cx="725400" cy="760320"/>
          </a:xfrm>
          <a:custGeom>
            <a:avLst/>
            <a:gdLst/>
            <a:ahLst/>
            <a:rect l="l" t="t" r="r" b="b"/>
            <a:pathLst>
              <a:path w="890" h="1068">
                <a:moveTo>
                  <a:pt x="185" y="378"/>
                </a:moveTo>
                <a:cubicBezTo>
                  <a:pt x="193" y="402"/>
                  <a:pt x="193" y="417"/>
                  <a:pt x="212" y="431"/>
                </a:cubicBezTo>
                <a:cubicBezTo>
                  <a:pt x="225" y="441"/>
                  <a:pt x="252" y="457"/>
                  <a:pt x="252" y="457"/>
                </a:cubicBezTo>
                <a:cubicBezTo>
                  <a:pt x="256" y="464"/>
                  <a:pt x="259" y="471"/>
                  <a:pt x="265" y="477"/>
                </a:cubicBezTo>
                <a:cubicBezTo>
                  <a:pt x="271" y="483"/>
                  <a:pt x="280" y="484"/>
                  <a:pt x="285" y="490"/>
                </a:cubicBezTo>
                <a:cubicBezTo>
                  <a:pt x="289" y="495"/>
                  <a:pt x="287" y="504"/>
                  <a:pt x="291" y="510"/>
                </a:cubicBezTo>
                <a:cubicBezTo>
                  <a:pt x="294" y="515"/>
                  <a:pt x="300" y="519"/>
                  <a:pt x="305" y="523"/>
                </a:cubicBezTo>
                <a:cubicBezTo>
                  <a:pt x="317" y="563"/>
                  <a:pt x="310" y="562"/>
                  <a:pt x="358" y="570"/>
                </a:cubicBezTo>
                <a:cubicBezTo>
                  <a:pt x="356" y="583"/>
                  <a:pt x="358" y="598"/>
                  <a:pt x="351" y="609"/>
                </a:cubicBezTo>
                <a:cubicBezTo>
                  <a:pt x="347" y="615"/>
                  <a:pt x="334" y="609"/>
                  <a:pt x="331" y="616"/>
                </a:cubicBezTo>
                <a:cubicBezTo>
                  <a:pt x="321" y="642"/>
                  <a:pt x="345" y="644"/>
                  <a:pt x="358" y="649"/>
                </a:cubicBezTo>
                <a:cubicBezTo>
                  <a:pt x="360" y="664"/>
                  <a:pt x="354" y="683"/>
                  <a:pt x="364" y="695"/>
                </a:cubicBezTo>
                <a:cubicBezTo>
                  <a:pt x="370" y="702"/>
                  <a:pt x="384" y="695"/>
                  <a:pt x="391" y="689"/>
                </a:cubicBezTo>
                <a:cubicBezTo>
                  <a:pt x="402" y="680"/>
                  <a:pt x="394" y="659"/>
                  <a:pt x="404" y="649"/>
                </a:cubicBezTo>
                <a:cubicBezTo>
                  <a:pt x="409" y="644"/>
                  <a:pt x="417" y="644"/>
                  <a:pt x="424" y="642"/>
                </a:cubicBezTo>
                <a:cubicBezTo>
                  <a:pt x="428" y="655"/>
                  <a:pt x="437" y="668"/>
                  <a:pt x="437" y="682"/>
                </a:cubicBezTo>
                <a:cubicBezTo>
                  <a:pt x="437" y="698"/>
                  <a:pt x="422" y="726"/>
                  <a:pt x="417" y="742"/>
                </a:cubicBezTo>
                <a:cubicBezTo>
                  <a:pt x="430" y="814"/>
                  <a:pt x="432" y="824"/>
                  <a:pt x="490" y="861"/>
                </a:cubicBezTo>
                <a:cubicBezTo>
                  <a:pt x="506" y="906"/>
                  <a:pt x="519" y="916"/>
                  <a:pt x="543" y="954"/>
                </a:cubicBezTo>
                <a:cubicBezTo>
                  <a:pt x="557" y="1005"/>
                  <a:pt x="550" y="1001"/>
                  <a:pt x="603" y="1013"/>
                </a:cubicBezTo>
                <a:cubicBezTo>
                  <a:pt x="632" y="1033"/>
                  <a:pt x="662" y="1038"/>
                  <a:pt x="695" y="1046"/>
                </a:cubicBezTo>
                <a:cubicBezTo>
                  <a:pt x="713" y="1066"/>
                  <a:pt x="722" y="1068"/>
                  <a:pt x="748" y="1060"/>
                </a:cubicBezTo>
                <a:cubicBezTo>
                  <a:pt x="778" y="1028"/>
                  <a:pt x="753" y="984"/>
                  <a:pt x="742" y="947"/>
                </a:cubicBezTo>
                <a:cubicBezTo>
                  <a:pt x="732" y="868"/>
                  <a:pt x="693" y="735"/>
                  <a:pt x="788" y="702"/>
                </a:cubicBezTo>
                <a:cubicBezTo>
                  <a:pt x="786" y="682"/>
                  <a:pt x="785" y="662"/>
                  <a:pt x="781" y="642"/>
                </a:cubicBezTo>
                <a:cubicBezTo>
                  <a:pt x="778" y="629"/>
                  <a:pt x="772" y="616"/>
                  <a:pt x="768" y="603"/>
                </a:cubicBezTo>
                <a:cubicBezTo>
                  <a:pt x="766" y="596"/>
                  <a:pt x="761" y="583"/>
                  <a:pt x="761" y="583"/>
                </a:cubicBezTo>
                <a:cubicBezTo>
                  <a:pt x="784" y="562"/>
                  <a:pt x="812" y="559"/>
                  <a:pt x="841" y="550"/>
                </a:cubicBezTo>
                <a:cubicBezTo>
                  <a:pt x="890" y="518"/>
                  <a:pt x="873" y="471"/>
                  <a:pt x="821" y="457"/>
                </a:cubicBezTo>
                <a:cubicBezTo>
                  <a:pt x="777" y="465"/>
                  <a:pt x="771" y="481"/>
                  <a:pt x="742" y="450"/>
                </a:cubicBezTo>
                <a:cubicBezTo>
                  <a:pt x="748" y="446"/>
                  <a:pt x="754" y="439"/>
                  <a:pt x="761" y="437"/>
                </a:cubicBezTo>
                <a:cubicBezTo>
                  <a:pt x="778" y="432"/>
                  <a:pt x="801" y="443"/>
                  <a:pt x="814" y="431"/>
                </a:cubicBezTo>
                <a:cubicBezTo>
                  <a:pt x="839" y="407"/>
                  <a:pt x="801" y="384"/>
                  <a:pt x="788" y="378"/>
                </a:cubicBezTo>
                <a:cubicBezTo>
                  <a:pt x="764" y="366"/>
                  <a:pt x="732" y="367"/>
                  <a:pt x="708" y="364"/>
                </a:cubicBezTo>
                <a:cubicBezTo>
                  <a:pt x="683" y="356"/>
                  <a:pt x="677" y="351"/>
                  <a:pt x="669" y="325"/>
                </a:cubicBezTo>
                <a:cubicBezTo>
                  <a:pt x="683" y="277"/>
                  <a:pt x="662" y="324"/>
                  <a:pt x="695" y="311"/>
                </a:cubicBezTo>
                <a:cubicBezTo>
                  <a:pt x="702" y="308"/>
                  <a:pt x="704" y="298"/>
                  <a:pt x="708" y="292"/>
                </a:cubicBezTo>
                <a:cubicBezTo>
                  <a:pt x="693" y="269"/>
                  <a:pt x="688" y="260"/>
                  <a:pt x="662" y="252"/>
                </a:cubicBezTo>
                <a:cubicBezTo>
                  <a:pt x="657" y="239"/>
                  <a:pt x="659" y="222"/>
                  <a:pt x="649" y="212"/>
                </a:cubicBezTo>
                <a:cubicBezTo>
                  <a:pt x="639" y="202"/>
                  <a:pt x="589" y="192"/>
                  <a:pt x="569" y="186"/>
                </a:cubicBezTo>
                <a:cubicBezTo>
                  <a:pt x="560" y="156"/>
                  <a:pt x="523" y="131"/>
                  <a:pt x="497" y="113"/>
                </a:cubicBezTo>
                <a:cubicBezTo>
                  <a:pt x="487" y="99"/>
                  <a:pt x="473" y="88"/>
                  <a:pt x="463" y="73"/>
                </a:cubicBezTo>
                <a:cubicBezTo>
                  <a:pt x="459" y="67"/>
                  <a:pt x="462" y="58"/>
                  <a:pt x="457" y="53"/>
                </a:cubicBezTo>
                <a:cubicBezTo>
                  <a:pt x="452" y="48"/>
                  <a:pt x="444" y="49"/>
                  <a:pt x="437" y="47"/>
                </a:cubicBezTo>
                <a:cubicBezTo>
                  <a:pt x="427" y="17"/>
                  <a:pt x="432" y="2"/>
                  <a:pt x="397" y="14"/>
                </a:cubicBezTo>
                <a:cubicBezTo>
                  <a:pt x="395" y="40"/>
                  <a:pt x="405" y="71"/>
                  <a:pt x="391" y="93"/>
                </a:cubicBezTo>
                <a:cubicBezTo>
                  <a:pt x="374" y="120"/>
                  <a:pt x="334" y="60"/>
                  <a:pt x="324" y="53"/>
                </a:cubicBezTo>
                <a:cubicBezTo>
                  <a:pt x="341" y="5"/>
                  <a:pt x="315" y="13"/>
                  <a:pt x="278" y="0"/>
                </a:cubicBezTo>
                <a:cubicBezTo>
                  <a:pt x="261" y="5"/>
                  <a:pt x="248" y="4"/>
                  <a:pt x="238" y="20"/>
                </a:cubicBezTo>
                <a:cubicBezTo>
                  <a:pt x="223" y="45"/>
                  <a:pt x="218" y="114"/>
                  <a:pt x="205" y="133"/>
                </a:cubicBezTo>
                <a:cubicBezTo>
                  <a:pt x="201" y="139"/>
                  <a:pt x="192" y="137"/>
                  <a:pt x="185" y="139"/>
                </a:cubicBezTo>
                <a:cubicBezTo>
                  <a:pt x="179" y="137"/>
                  <a:pt x="173" y="133"/>
                  <a:pt x="166" y="133"/>
                </a:cubicBezTo>
                <a:cubicBezTo>
                  <a:pt x="146" y="133"/>
                  <a:pt x="125" y="132"/>
                  <a:pt x="106" y="139"/>
                </a:cubicBezTo>
                <a:cubicBezTo>
                  <a:pt x="99" y="142"/>
                  <a:pt x="102" y="153"/>
                  <a:pt x="99" y="159"/>
                </a:cubicBezTo>
                <a:cubicBezTo>
                  <a:pt x="88" y="182"/>
                  <a:pt x="83" y="197"/>
                  <a:pt x="60" y="206"/>
                </a:cubicBezTo>
                <a:cubicBezTo>
                  <a:pt x="34" y="230"/>
                  <a:pt x="50" y="240"/>
                  <a:pt x="66" y="265"/>
                </a:cubicBezTo>
                <a:cubicBezTo>
                  <a:pt x="37" y="284"/>
                  <a:pt x="19" y="288"/>
                  <a:pt x="0" y="318"/>
                </a:cubicBezTo>
                <a:cubicBezTo>
                  <a:pt x="24" y="333"/>
                  <a:pt x="38" y="330"/>
                  <a:pt x="46" y="358"/>
                </a:cubicBezTo>
                <a:cubicBezTo>
                  <a:pt x="34" y="376"/>
                  <a:pt x="31" y="409"/>
                  <a:pt x="66" y="404"/>
                </a:cubicBezTo>
                <a:cubicBezTo>
                  <a:pt x="106" y="398"/>
                  <a:pt x="145" y="387"/>
                  <a:pt x="185" y="378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32f50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未知"/>
          <p:cNvSpPr/>
          <p:nvPr/>
        </p:nvSpPr>
        <p:spPr>
          <a:xfrm rot="20104200">
            <a:off x="7367760" y="3578400"/>
            <a:ext cx="407880" cy="155520"/>
          </a:xfrm>
          <a:custGeom>
            <a:avLst/>
            <a:gdLst/>
            <a:ahLst/>
            <a:rect l="l" t="t" r="r" b="b"/>
            <a:pathLst>
              <a:path w="500" h="218">
                <a:moveTo>
                  <a:pt x="486" y="166"/>
                </a:moveTo>
                <a:cubicBezTo>
                  <a:pt x="466" y="153"/>
                  <a:pt x="456" y="140"/>
                  <a:pt x="433" y="133"/>
                </a:cubicBezTo>
                <a:cubicBezTo>
                  <a:pt x="416" y="114"/>
                  <a:pt x="402" y="117"/>
                  <a:pt x="380" y="106"/>
                </a:cubicBezTo>
                <a:cubicBezTo>
                  <a:pt x="342" y="87"/>
                  <a:pt x="301" y="67"/>
                  <a:pt x="261" y="53"/>
                </a:cubicBezTo>
                <a:cubicBezTo>
                  <a:pt x="218" y="10"/>
                  <a:pt x="154" y="17"/>
                  <a:pt x="96" y="7"/>
                </a:cubicBezTo>
                <a:cubicBezTo>
                  <a:pt x="67" y="9"/>
                  <a:pt x="36" y="0"/>
                  <a:pt x="10" y="13"/>
                </a:cubicBezTo>
                <a:cubicBezTo>
                  <a:pt x="0" y="18"/>
                  <a:pt x="5" y="43"/>
                  <a:pt x="16" y="47"/>
                </a:cubicBezTo>
                <a:cubicBezTo>
                  <a:pt x="54" y="59"/>
                  <a:pt x="95" y="51"/>
                  <a:pt x="135" y="53"/>
                </a:cubicBezTo>
                <a:cubicBezTo>
                  <a:pt x="162" y="78"/>
                  <a:pt x="140" y="79"/>
                  <a:pt x="115" y="86"/>
                </a:cubicBezTo>
                <a:cubicBezTo>
                  <a:pt x="168" y="100"/>
                  <a:pt x="221" y="99"/>
                  <a:pt x="274" y="113"/>
                </a:cubicBezTo>
                <a:cubicBezTo>
                  <a:pt x="284" y="123"/>
                  <a:pt x="288" y="140"/>
                  <a:pt x="301" y="146"/>
                </a:cubicBezTo>
                <a:cubicBezTo>
                  <a:pt x="319" y="155"/>
                  <a:pt x="341" y="153"/>
                  <a:pt x="360" y="159"/>
                </a:cubicBezTo>
                <a:cubicBezTo>
                  <a:pt x="375" y="218"/>
                  <a:pt x="423" y="190"/>
                  <a:pt x="486" y="186"/>
                </a:cubicBezTo>
                <a:cubicBezTo>
                  <a:pt x="494" y="164"/>
                  <a:pt x="500" y="166"/>
                  <a:pt x="486" y="166"/>
                </a:cubicBezTo>
                <a:close/>
              </a:path>
            </a:pathLst>
          </a:custGeom>
          <a:solidFill>
            <a:srgbClr val="77e27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未知"/>
          <p:cNvSpPr/>
          <p:nvPr/>
        </p:nvSpPr>
        <p:spPr>
          <a:xfrm rot="20104200">
            <a:off x="7746840" y="3559320"/>
            <a:ext cx="268560" cy="112680"/>
          </a:xfrm>
          <a:custGeom>
            <a:avLst/>
            <a:gdLst/>
            <a:ahLst/>
            <a:rect l="l" t="t" r="r" b="b"/>
            <a:pathLst>
              <a:path w="328" h="159">
                <a:moveTo>
                  <a:pt x="96" y="52"/>
                </a:moveTo>
                <a:cubicBezTo>
                  <a:pt x="98" y="61"/>
                  <a:pt x="98" y="71"/>
                  <a:pt x="102" y="79"/>
                </a:cubicBezTo>
                <a:cubicBezTo>
                  <a:pt x="114" y="103"/>
                  <a:pt x="127" y="81"/>
                  <a:pt x="102" y="105"/>
                </a:cubicBezTo>
                <a:cubicBezTo>
                  <a:pt x="82" y="98"/>
                  <a:pt x="0" y="88"/>
                  <a:pt x="36" y="125"/>
                </a:cubicBezTo>
                <a:cubicBezTo>
                  <a:pt x="52" y="142"/>
                  <a:pt x="137" y="144"/>
                  <a:pt x="142" y="145"/>
                </a:cubicBezTo>
                <a:cubicBezTo>
                  <a:pt x="170" y="153"/>
                  <a:pt x="178" y="159"/>
                  <a:pt x="208" y="151"/>
                </a:cubicBezTo>
                <a:cubicBezTo>
                  <a:pt x="235" y="114"/>
                  <a:pt x="258" y="123"/>
                  <a:pt x="308" y="118"/>
                </a:cubicBezTo>
                <a:cubicBezTo>
                  <a:pt x="328" y="87"/>
                  <a:pt x="321" y="84"/>
                  <a:pt x="288" y="72"/>
                </a:cubicBezTo>
                <a:cubicBezTo>
                  <a:pt x="263" y="0"/>
                  <a:pt x="106" y="51"/>
                  <a:pt x="76" y="52"/>
                </a:cubicBezTo>
                <a:cubicBezTo>
                  <a:pt x="100" y="67"/>
                  <a:pt x="96" y="73"/>
                  <a:pt x="96" y="52"/>
                </a:cubicBezTo>
                <a:close/>
              </a:path>
            </a:pathLst>
          </a:custGeom>
          <a:solidFill>
            <a:srgbClr val="77e27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未知"/>
          <p:cNvSpPr/>
          <p:nvPr/>
        </p:nvSpPr>
        <p:spPr>
          <a:xfrm rot="20104200">
            <a:off x="6357960" y="2015640"/>
            <a:ext cx="163440" cy="81000"/>
          </a:xfrm>
          <a:custGeom>
            <a:avLst/>
            <a:gdLst/>
            <a:ahLst/>
            <a:rect l="l" t="t" r="r" b="b"/>
            <a:pathLst>
              <a:path w="200" h="114">
                <a:moveTo>
                  <a:pt x="152" y="0"/>
                </a:moveTo>
                <a:cubicBezTo>
                  <a:pt x="97" y="5"/>
                  <a:pt x="47" y="9"/>
                  <a:pt x="0" y="40"/>
                </a:cubicBezTo>
                <a:cubicBezTo>
                  <a:pt x="10" y="87"/>
                  <a:pt x="12" y="70"/>
                  <a:pt x="40" y="100"/>
                </a:cubicBezTo>
                <a:cubicBezTo>
                  <a:pt x="70" y="95"/>
                  <a:pt x="92" y="83"/>
                  <a:pt x="119" y="93"/>
                </a:cubicBezTo>
                <a:cubicBezTo>
                  <a:pt x="141" y="114"/>
                  <a:pt x="160" y="102"/>
                  <a:pt x="186" y="93"/>
                </a:cubicBezTo>
                <a:cubicBezTo>
                  <a:pt x="200" y="72"/>
                  <a:pt x="200" y="56"/>
                  <a:pt x="186" y="33"/>
                </a:cubicBezTo>
                <a:cubicBezTo>
                  <a:pt x="173" y="11"/>
                  <a:pt x="152" y="27"/>
                  <a:pt x="152" y="0"/>
                </a:cubicBezTo>
                <a:close/>
              </a:path>
            </a:pathLst>
          </a:custGeom>
          <a:gradFill rotWithShape="0">
            <a:gsLst>
              <a:gs pos="0">
                <a:srgbClr val="7067af"/>
              </a:gs>
              <a:gs pos="100000">
                <a:srgbClr val="332f50"/>
              </a:gs>
            </a:gsLst>
            <a:lin ang="6894000"/>
          </a:gradFill>
          <a:ln w="936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未知"/>
          <p:cNvSpPr/>
          <p:nvPr/>
        </p:nvSpPr>
        <p:spPr>
          <a:xfrm rot="20104200">
            <a:off x="5996160" y="2619360"/>
            <a:ext cx="1939680" cy="1100160"/>
          </a:xfrm>
          <a:custGeom>
            <a:avLst/>
            <a:gdLst/>
            <a:ahLst/>
            <a:rect l="l" t="t" r="r" b="b"/>
            <a:pathLst>
              <a:path w="2378" h="1545">
                <a:moveTo>
                  <a:pt x="343" y="69"/>
                </a:moveTo>
                <a:cubicBezTo>
                  <a:pt x="306" y="104"/>
                  <a:pt x="339" y="112"/>
                  <a:pt x="284" y="102"/>
                </a:cubicBezTo>
                <a:cubicBezTo>
                  <a:pt x="263" y="81"/>
                  <a:pt x="271" y="57"/>
                  <a:pt x="251" y="35"/>
                </a:cubicBezTo>
                <a:cubicBezTo>
                  <a:pt x="209" y="50"/>
                  <a:pt x="235" y="34"/>
                  <a:pt x="224" y="108"/>
                </a:cubicBezTo>
                <a:cubicBezTo>
                  <a:pt x="218" y="145"/>
                  <a:pt x="180" y="194"/>
                  <a:pt x="151" y="221"/>
                </a:cubicBezTo>
                <a:cubicBezTo>
                  <a:pt x="141" y="255"/>
                  <a:pt x="111" y="278"/>
                  <a:pt x="98" y="313"/>
                </a:cubicBezTo>
                <a:cubicBezTo>
                  <a:pt x="96" y="329"/>
                  <a:pt x="99" y="346"/>
                  <a:pt x="92" y="360"/>
                </a:cubicBezTo>
                <a:cubicBezTo>
                  <a:pt x="89" y="366"/>
                  <a:pt x="78" y="362"/>
                  <a:pt x="72" y="366"/>
                </a:cubicBezTo>
                <a:cubicBezTo>
                  <a:pt x="56" y="376"/>
                  <a:pt x="42" y="395"/>
                  <a:pt x="26" y="406"/>
                </a:cubicBezTo>
                <a:cubicBezTo>
                  <a:pt x="4" y="470"/>
                  <a:pt x="18" y="511"/>
                  <a:pt x="39" y="572"/>
                </a:cubicBezTo>
                <a:cubicBezTo>
                  <a:pt x="0" y="597"/>
                  <a:pt x="4" y="616"/>
                  <a:pt x="19" y="658"/>
                </a:cubicBezTo>
                <a:cubicBezTo>
                  <a:pt x="25" y="732"/>
                  <a:pt x="27" y="788"/>
                  <a:pt x="92" y="830"/>
                </a:cubicBezTo>
                <a:cubicBezTo>
                  <a:pt x="96" y="842"/>
                  <a:pt x="108" y="885"/>
                  <a:pt x="112" y="889"/>
                </a:cubicBezTo>
                <a:cubicBezTo>
                  <a:pt x="129" y="907"/>
                  <a:pt x="136" y="909"/>
                  <a:pt x="157" y="920"/>
                </a:cubicBezTo>
                <a:cubicBezTo>
                  <a:pt x="178" y="931"/>
                  <a:pt x="176" y="933"/>
                  <a:pt x="199" y="941"/>
                </a:cubicBezTo>
                <a:cubicBezTo>
                  <a:pt x="234" y="978"/>
                  <a:pt x="231" y="976"/>
                  <a:pt x="277" y="995"/>
                </a:cubicBezTo>
                <a:cubicBezTo>
                  <a:pt x="297" y="1003"/>
                  <a:pt x="326" y="1016"/>
                  <a:pt x="346" y="1025"/>
                </a:cubicBezTo>
                <a:cubicBezTo>
                  <a:pt x="377" y="1039"/>
                  <a:pt x="368" y="1042"/>
                  <a:pt x="400" y="1052"/>
                </a:cubicBezTo>
                <a:cubicBezTo>
                  <a:pt x="438" y="997"/>
                  <a:pt x="440" y="1031"/>
                  <a:pt x="475" y="1052"/>
                </a:cubicBezTo>
                <a:cubicBezTo>
                  <a:pt x="487" y="1059"/>
                  <a:pt x="536" y="1070"/>
                  <a:pt x="549" y="1075"/>
                </a:cubicBezTo>
                <a:cubicBezTo>
                  <a:pt x="557" y="1102"/>
                  <a:pt x="548" y="1125"/>
                  <a:pt x="568" y="1145"/>
                </a:cubicBezTo>
                <a:cubicBezTo>
                  <a:pt x="575" y="1168"/>
                  <a:pt x="600" y="1197"/>
                  <a:pt x="613" y="1217"/>
                </a:cubicBezTo>
                <a:cubicBezTo>
                  <a:pt x="627" y="1262"/>
                  <a:pt x="635" y="1206"/>
                  <a:pt x="641" y="1187"/>
                </a:cubicBezTo>
                <a:cubicBezTo>
                  <a:pt x="654" y="1192"/>
                  <a:pt x="668" y="1196"/>
                  <a:pt x="681" y="1201"/>
                </a:cubicBezTo>
                <a:cubicBezTo>
                  <a:pt x="692" y="1205"/>
                  <a:pt x="718" y="1373"/>
                  <a:pt x="751" y="1346"/>
                </a:cubicBezTo>
                <a:cubicBezTo>
                  <a:pt x="766" y="1386"/>
                  <a:pt x="776" y="1355"/>
                  <a:pt x="808" y="1385"/>
                </a:cubicBezTo>
                <a:cubicBezTo>
                  <a:pt x="823" y="1399"/>
                  <a:pt x="812" y="1398"/>
                  <a:pt x="827" y="1413"/>
                </a:cubicBezTo>
                <a:cubicBezTo>
                  <a:pt x="830" y="1401"/>
                  <a:pt x="840" y="1350"/>
                  <a:pt x="853" y="1331"/>
                </a:cubicBezTo>
                <a:cubicBezTo>
                  <a:pt x="866" y="1312"/>
                  <a:pt x="892" y="1308"/>
                  <a:pt x="907" y="1301"/>
                </a:cubicBezTo>
                <a:cubicBezTo>
                  <a:pt x="914" y="1300"/>
                  <a:pt x="936" y="1291"/>
                  <a:pt x="943" y="1289"/>
                </a:cubicBezTo>
                <a:cubicBezTo>
                  <a:pt x="966" y="1266"/>
                  <a:pt x="971" y="1285"/>
                  <a:pt x="979" y="1254"/>
                </a:cubicBezTo>
                <a:cubicBezTo>
                  <a:pt x="994" y="1276"/>
                  <a:pt x="999" y="1285"/>
                  <a:pt x="1025" y="1293"/>
                </a:cubicBezTo>
                <a:cubicBezTo>
                  <a:pt x="1092" y="1273"/>
                  <a:pt x="1112" y="1290"/>
                  <a:pt x="1158" y="1320"/>
                </a:cubicBezTo>
                <a:cubicBezTo>
                  <a:pt x="1162" y="1313"/>
                  <a:pt x="1165" y="1306"/>
                  <a:pt x="1171" y="1300"/>
                </a:cubicBezTo>
                <a:cubicBezTo>
                  <a:pt x="1177" y="1294"/>
                  <a:pt x="1186" y="1293"/>
                  <a:pt x="1191" y="1287"/>
                </a:cubicBezTo>
                <a:cubicBezTo>
                  <a:pt x="1200" y="1276"/>
                  <a:pt x="1199" y="1260"/>
                  <a:pt x="1204" y="1247"/>
                </a:cubicBezTo>
                <a:cubicBezTo>
                  <a:pt x="1245" y="1252"/>
                  <a:pt x="1282" y="1250"/>
                  <a:pt x="1317" y="1273"/>
                </a:cubicBezTo>
                <a:cubicBezTo>
                  <a:pt x="1327" y="1305"/>
                  <a:pt x="1339" y="1301"/>
                  <a:pt x="1370" y="1293"/>
                </a:cubicBezTo>
                <a:cubicBezTo>
                  <a:pt x="1398" y="1300"/>
                  <a:pt x="1409" y="1315"/>
                  <a:pt x="1436" y="1307"/>
                </a:cubicBezTo>
                <a:cubicBezTo>
                  <a:pt x="1453" y="1332"/>
                  <a:pt x="1467" y="1358"/>
                  <a:pt x="1489" y="1379"/>
                </a:cubicBezTo>
                <a:cubicBezTo>
                  <a:pt x="1497" y="1405"/>
                  <a:pt x="1494" y="1443"/>
                  <a:pt x="1509" y="1465"/>
                </a:cubicBezTo>
                <a:cubicBezTo>
                  <a:pt x="1526" y="1490"/>
                  <a:pt x="1562" y="1528"/>
                  <a:pt x="1588" y="1545"/>
                </a:cubicBezTo>
                <a:cubicBezTo>
                  <a:pt x="1602" y="1505"/>
                  <a:pt x="1602" y="1461"/>
                  <a:pt x="1608" y="1419"/>
                </a:cubicBezTo>
                <a:cubicBezTo>
                  <a:pt x="1600" y="1364"/>
                  <a:pt x="1586" y="1313"/>
                  <a:pt x="1568" y="1260"/>
                </a:cubicBezTo>
                <a:cubicBezTo>
                  <a:pt x="1582" y="1182"/>
                  <a:pt x="1577" y="1197"/>
                  <a:pt x="1661" y="1187"/>
                </a:cubicBezTo>
                <a:cubicBezTo>
                  <a:pt x="1685" y="1151"/>
                  <a:pt x="1752" y="1095"/>
                  <a:pt x="1793" y="1081"/>
                </a:cubicBezTo>
                <a:cubicBezTo>
                  <a:pt x="1810" y="1035"/>
                  <a:pt x="1789" y="975"/>
                  <a:pt x="1773" y="929"/>
                </a:cubicBezTo>
                <a:cubicBezTo>
                  <a:pt x="1775" y="914"/>
                  <a:pt x="1771" y="896"/>
                  <a:pt x="1780" y="883"/>
                </a:cubicBezTo>
                <a:cubicBezTo>
                  <a:pt x="1795" y="860"/>
                  <a:pt x="1816" y="938"/>
                  <a:pt x="1819" y="947"/>
                </a:cubicBezTo>
                <a:cubicBezTo>
                  <a:pt x="1854" y="936"/>
                  <a:pt x="1858" y="896"/>
                  <a:pt x="1867" y="866"/>
                </a:cubicBezTo>
                <a:cubicBezTo>
                  <a:pt x="1902" y="878"/>
                  <a:pt x="1869" y="840"/>
                  <a:pt x="1893" y="817"/>
                </a:cubicBezTo>
                <a:cubicBezTo>
                  <a:pt x="1917" y="739"/>
                  <a:pt x="1893" y="752"/>
                  <a:pt x="1992" y="744"/>
                </a:cubicBezTo>
                <a:cubicBezTo>
                  <a:pt x="2040" y="713"/>
                  <a:pt x="1996" y="674"/>
                  <a:pt x="2032" y="638"/>
                </a:cubicBezTo>
                <a:cubicBezTo>
                  <a:pt x="2061" y="609"/>
                  <a:pt x="2109" y="615"/>
                  <a:pt x="2144" y="598"/>
                </a:cubicBezTo>
                <a:cubicBezTo>
                  <a:pt x="2188" y="576"/>
                  <a:pt x="2139" y="595"/>
                  <a:pt x="2184" y="565"/>
                </a:cubicBezTo>
                <a:cubicBezTo>
                  <a:pt x="2188" y="563"/>
                  <a:pt x="2220" y="553"/>
                  <a:pt x="2224" y="552"/>
                </a:cubicBezTo>
                <a:cubicBezTo>
                  <a:pt x="2211" y="588"/>
                  <a:pt x="2209" y="597"/>
                  <a:pt x="2173" y="602"/>
                </a:cubicBezTo>
                <a:cubicBezTo>
                  <a:pt x="2181" y="629"/>
                  <a:pt x="2160" y="623"/>
                  <a:pt x="2184" y="638"/>
                </a:cubicBezTo>
                <a:cubicBezTo>
                  <a:pt x="2210" y="636"/>
                  <a:pt x="2237" y="637"/>
                  <a:pt x="2263" y="631"/>
                </a:cubicBezTo>
                <a:cubicBezTo>
                  <a:pt x="2286" y="626"/>
                  <a:pt x="2271" y="610"/>
                  <a:pt x="2283" y="598"/>
                </a:cubicBezTo>
                <a:cubicBezTo>
                  <a:pt x="2308" y="573"/>
                  <a:pt x="2320" y="573"/>
                  <a:pt x="2349" y="565"/>
                </a:cubicBezTo>
                <a:cubicBezTo>
                  <a:pt x="2378" y="538"/>
                  <a:pt x="2347" y="540"/>
                  <a:pt x="2323" y="532"/>
                </a:cubicBezTo>
                <a:cubicBezTo>
                  <a:pt x="2321" y="525"/>
                  <a:pt x="2316" y="519"/>
                  <a:pt x="2316" y="512"/>
                </a:cubicBezTo>
                <a:cubicBezTo>
                  <a:pt x="2316" y="494"/>
                  <a:pt x="2335" y="490"/>
                  <a:pt x="2316" y="472"/>
                </a:cubicBezTo>
                <a:cubicBezTo>
                  <a:pt x="2306" y="462"/>
                  <a:pt x="2290" y="464"/>
                  <a:pt x="2277" y="459"/>
                </a:cubicBezTo>
                <a:cubicBezTo>
                  <a:pt x="2253" y="461"/>
                  <a:pt x="2215" y="497"/>
                  <a:pt x="2182" y="431"/>
                </a:cubicBezTo>
                <a:cubicBezTo>
                  <a:pt x="2169" y="430"/>
                  <a:pt x="2223" y="409"/>
                  <a:pt x="2221" y="401"/>
                </a:cubicBezTo>
                <a:cubicBezTo>
                  <a:pt x="2211" y="353"/>
                  <a:pt x="2191" y="398"/>
                  <a:pt x="2157" y="386"/>
                </a:cubicBezTo>
                <a:cubicBezTo>
                  <a:pt x="2155" y="386"/>
                  <a:pt x="2131" y="374"/>
                  <a:pt x="2113" y="386"/>
                </a:cubicBezTo>
                <a:cubicBezTo>
                  <a:pt x="2089" y="402"/>
                  <a:pt x="2081" y="411"/>
                  <a:pt x="2053" y="419"/>
                </a:cubicBezTo>
                <a:cubicBezTo>
                  <a:pt x="2028" y="501"/>
                  <a:pt x="2069" y="404"/>
                  <a:pt x="2035" y="473"/>
                </a:cubicBezTo>
                <a:cubicBezTo>
                  <a:pt x="2019" y="505"/>
                  <a:pt x="2021" y="496"/>
                  <a:pt x="1996" y="521"/>
                </a:cubicBezTo>
                <a:cubicBezTo>
                  <a:pt x="1965" y="542"/>
                  <a:pt x="1875" y="561"/>
                  <a:pt x="1846" y="575"/>
                </a:cubicBezTo>
                <a:cubicBezTo>
                  <a:pt x="1817" y="589"/>
                  <a:pt x="1844" y="600"/>
                  <a:pt x="1822" y="608"/>
                </a:cubicBezTo>
                <a:cubicBezTo>
                  <a:pt x="1782" y="625"/>
                  <a:pt x="1728" y="613"/>
                  <a:pt x="1711" y="623"/>
                </a:cubicBezTo>
                <a:cubicBezTo>
                  <a:pt x="1686" y="633"/>
                  <a:pt x="1693" y="652"/>
                  <a:pt x="1672" y="665"/>
                </a:cubicBezTo>
                <a:cubicBezTo>
                  <a:pt x="1651" y="678"/>
                  <a:pt x="1605" y="723"/>
                  <a:pt x="1588" y="701"/>
                </a:cubicBezTo>
                <a:cubicBezTo>
                  <a:pt x="1588" y="683"/>
                  <a:pt x="1588" y="554"/>
                  <a:pt x="1570" y="536"/>
                </a:cubicBezTo>
                <a:cubicBezTo>
                  <a:pt x="1530" y="483"/>
                  <a:pt x="1533" y="464"/>
                  <a:pt x="1495" y="439"/>
                </a:cubicBezTo>
                <a:cubicBezTo>
                  <a:pt x="1495" y="431"/>
                  <a:pt x="1389" y="384"/>
                  <a:pt x="1343" y="380"/>
                </a:cubicBezTo>
                <a:cubicBezTo>
                  <a:pt x="1259" y="356"/>
                  <a:pt x="1217" y="339"/>
                  <a:pt x="1138" y="313"/>
                </a:cubicBezTo>
                <a:cubicBezTo>
                  <a:pt x="1092" y="296"/>
                  <a:pt x="901" y="235"/>
                  <a:pt x="853" y="221"/>
                </a:cubicBezTo>
                <a:cubicBezTo>
                  <a:pt x="765" y="188"/>
                  <a:pt x="622" y="132"/>
                  <a:pt x="535" y="115"/>
                </a:cubicBezTo>
                <a:cubicBezTo>
                  <a:pt x="453" y="119"/>
                  <a:pt x="343" y="0"/>
                  <a:pt x="343" y="69"/>
                </a:cubicBez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467517"/>
              </a:gs>
            </a:gsLst>
            <a:lin ang="689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"/>
          <p:cNvSpPr/>
          <p:nvPr/>
        </p:nvSpPr>
        <p:spPr>
          <a:xfrm>
            <a:off x="1699560" y="276084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"/>
          <p:cNvSpPr/>
          <p:nvPr/>
        </p:nvSpPr>
        <p:spPr>
          <a:xfrm>
            <a:off x="3037680" y="28036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"/>
          <p:cNvSpPr/>
          <p:nvPr/>
        </p:nvSpPr>
        <p:spPr>
          <a:xfrm>
            <a:off x="7660080" y="448776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. AMERIC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"/>
          <p:cNvSpPr/>
          <p:nvPr/>
        </p:nvSpPr>
        <p:spPr>
          <a:xfrm>
            <a:off x="3647520" y="497520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EANI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"/>
          <p:cNvSpPr/>
          <p:nvPr/>
        </p:nvSpPr>
        <p:spPr>
          <a:xfrm>
            <a:off x="1133280" y="396540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"/>
          <p:cNvSpPr/>
          <p:nvPr/>
        </p:nvSpPr>
        <p:spPr>
          <a:xfrm>
            <a:off x="1452600" y="3103560"/>
            <a:ext cx="96840" cy="9684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422280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"/>
          <p:cNvSpPr/>
          <p:nvPr/>
        </p:nvSpPr>
        <p:spPr>
          <a:xfrm>
            <a:off x="3290760" y="399096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"/>
          <p:cNvSpPr/>
          <p:nvPr/>
        </p:nvSpPr>
        <p:spPr>
          <a:xfrm>
            <a:off x="7816680" y="473400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"/>
          <p:cNvSpPr/>
          <p:nvPr/>
        </p:nvSpPr>
        <p:spPr>
          <a:xfrm>
            <a:off x="6073920" y="255420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"/>
          <p:cNvSpPr/>
          <p:nvPr/>
        </p:nvSpPr>
        <p:spPr>
          <a:xfrm>
            <a:off x="2685960" y="411336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"/>
          <p:cNvSpPr/>
          <p:nvPr/>
        </p:nvSpPr>
        <p:spPr>
          <a:xfrm>
            <a:off x="3645000" y="512460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"/>
          <p:cNvSpPr/>
          <p:nvPr/>
        </p:nvSpPr>
        <p:spPr>
          <a:xfrm>
            <a:off x="5799240" y="2314440"/>
            <a:ext cx="1923840" cy="1924200"/>
          </a:xfrm>
          <a:prstGeom prst="ellipse">
            <a:avLst/>
          </a:prstGeom>
          <a:gradFill rotWithShape="0">
            <a:gsLst>
              <a:gs pos="0">
                <a:srgbClr val="754617">
                  <a:alpha val="67058"/>
                </a:srgbClr>
              </a:gs>
              <a:gs pos="100000">
                <a:srgbClr val="ff9933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"/>
          <p:cNvSpPr/>
          <p:nvPr/>
        </p:nvSpPr>
        <p:spPr>
          <a:xfrm>
            <a:off x="1643040" y="2664000"/>
            <a:ext cx="96840" cy="9684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"/>
          <p:cNvSpPr/>
          <p:nvPr/>
        </p:nvSpPr>
        <p:spPr>
          <a:xfrm>
            <a:off x="1739880" y="3151080"/>
            <a:ext cx="96840" cy="9684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"/>
          <p:cNvSpPr/>
          <p:nvPr/>
        </p:nvSpPr>
        <p:spPr>
          <a:xfrm>
            <a:off x="3513240" y="330984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"/>
          <p:cNvSpPr/>
          <p:nvPr/>
        </p:nvSpPr>
        <p:spPr>
          <a:xfrm>
            <a:off x="1389240" y="2471760"/>
            <a:ext cx="1076040" cy="1076400"/>
          </a:xfrm>
          <a:prstGeom prst="ellipse">
            <a:avLst/>
          </a:prstGeom>
          <a:noFill/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"/>
          <p:cNvSpPr/>
          <p:nvPr/>
        </p:nvSpPr>
        <p:spPr>
          <a:xfrm>
            <a:off x="1647720" y="2933640"/>
            <a:ext cx="96840" cy="9684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"/>
          <p:cNvSpPr/>
          <p:nvPr/>
        </p:nvSpPr>
        <p:spPr>
          <a:xfrm>
            <a:off x="3511440" y="371952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"/>
          <p:cNvSpPr/>
          <p:nvPr/>
        </p:nvSpPr>
        <p:spPr>
          <a:xfrm>
            <a:off x="3608280" y="363708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"/>
          <p:cNvSpPr/>
          <p:nvPr/>
        </p:nvSpPr>
        <p:spPr>
          <a:xfrm>
            <a:off x="5742000" y="2257560"/>
            <a:ext cx="2030400" cy="2030400"/>
          </a:xfrm>
          <a:prstGeom prst="donut">
            <a:avLst>
              <a:gd name="adj" fmla="val 3217"/>
            </a:avLst>
          </a:prstGeom>
          <a:gradFill rotWithShape="0">
            <a:gsLst>
              <a:gs pos="0">
                <a:srgbClr val="181000">
                  <a:alpha val="0"/>
                </a:srgbClr>
              </a:gs>
              <a:gs pos="50000">
                <a:srgbClr val="996600">
                  <a:alpha val="68235"/>
                </a:srgbClr>
              </a:gs>
              <a:gs pos="100000">
                <a:srgbClr val="181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"/>
          <p:cNvSpPr/>
          <p:nvPr/>
        </p:nvSpPr>
        <p:spPr>
          <a:xfrm>
            <a:off x="4194000" y="3425760"/>
            <a:ext cx="1741680" cy="909720"/>
          </a:xfrm>
          <a:prstGeom prst="wedgeRectCallout">
            <a:avLst>
              <a:gd name="adj1" fmla="val 60666"/>
              <a:gd name="adj2" fmla="val -46509"/>
            </a:avLst>
          </a:prstGeom>
          <a:solidFill>
            <a:srgbClr val="ff6600">
              <a:alpha val="3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Arial Black"/>
              </a:rPr>
              <a:t>Los Angeles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"/>
          <p:cNvSpPr/>
          <p:nvPr/>
        </p:nvSpPr>
        <p:spPr>
          <a:xfrm>
            <a:off x="6122880" y="3354480"/>
            <a:ext cx="96840" cy="968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"/>
          <p:cNvSpPr/>
          <p:nvPr/>
        </p:nvSpPr>
        <p:spPr>
          <a:xfrm>
            <a:off x="7248600" y="3152880"/>
            <a:ext cx="96840" cy="968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"/>
          <p:cNvSpPr/>
          <p:nvPr/>
        </p:nvSpPr>
        <p:spPr>
          <a:xfrm>
            <a:off x="6242040" y="3473280"/>
            <a:ext cx="96840" cy="968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"/>
          <p:cNvSpPr/>
          <p:nvPr/>
        </p:nvSpPr>
        <p:spPr>
          <a:xfrm>
            <a:off x="6217200" y="266400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. AMERICA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"/>
          <p:cNvSpPr/>
          <p:nvPr/>
        </p:nvSpPr>
        <p:spPr>
          <a:xfrm>
            <a:off x="1812960" y="428796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"/>
          <p:cNvSpPr/>
          <p:nvPr/>
        </p:nvSpPr>
        <p:spPr>
          <a:xfrm>
            <a:off x="1339920" y="518148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"/>
          <p:cNvSpPr/>
          <p:nvPr/>
        </p:nvSpPr>
        <p:spPr>
          <a:xfrm>
            <a:off x="3933720" y="252252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"/>
          <p:cNvSpPr/>
          <p:nvPr/>
        </p:nvSpPr>
        <p:spPr>
          <a:xfrm>
            <a:off x="2168640" y="363708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"/>
          <p:cNvSpPr/>
          <p:nvPr/>
        </p:nvSpPr>
        <p:spPr>
          <a:xfrm>
            <a:off x="7816680" y="5205240"/>
            <a:ext cx="96840" cy="968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"/>
          <p:cNvSpPr/>
          <p:nvPr/>
        </p:nvSpPr>
        <p:spPr>
          <a:xfrm>
            <a:off x="6700680" y="3865680"/>
            <a:ext cx="96840" cy="9684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260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7E96-CDFE-40AE-9359-6A3E8DB01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924360" y="3717720"/>
            <a:ext cx="47448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701800" y="270972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ffffff"/>
                </a:solidFill>
                <a:effectLst>
                  <a:outerShdw dist="38160" dir="5400000" blurRad="0" rotWithShape="0">
                    <a:srgbClr val="4d4d4d">
                      <a:alpha val="77000"/>
                    </a:srgbClr>
                  </a:outerShdw>
                </a:effectLst>
                <a:latin typeface="黑体"/>
              </a:rPr>
              <a:t>- </a:t>
            </a:r>
            <a:r>
              <a:rPr b="1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ffffff"/>
                </a:solidFill>
                <a:effectLst>
                  <a:outerShdw dist="38160" dir="5400000" blurRad="0" rotWithShape="0">
                    <a:srgbClr val="4d4d4d">
                      <a:alpha val="77000"/>
                    </a:srgbClr>
                  </a:outerShdw>
                </a:effectLst>
                <a:latin typeface="黑体"/>
              </a:rPr>
              <a:t>感谢您的关注！</a:t>
            </a:r>
            <a:endParaRPr b="1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ffffff"/>
              </a:solidFill>
              <a:effectLst>
                <a:outerShdw dist="38160" dir="5400000" blurRad="0" rotWithShape="0">
                  <a:srgbClr val="4d4d4d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E0CC6-DA75-440D-B2A6-A669D4EB93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21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6BA3-33F9-4172-A466-200760018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8:22:41Z</dcterms:created>
  <dc:creator/>
  <dc:description/>
  <dc:language>en-US</dc:language>
  <cp:lastModifiedBy>user</cp:lastModifiedBy>
  <dcterms:modified xsi:type="dcterms:W3CDTF">2015-01-11T08:30:26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