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EDA4-889A-4A67-8E78-1463B029B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7E41-B877-4D5C-88A7-7F201139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30C7-80F9-492A-8DE2-6C14B9705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A76A-C7D7-4B9E-8E3A-7957E8DD7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F5D7-277D-4F46-B74C-17794DDA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6F1C-7B01-4BA6-86DD-38749F9F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0CE7-ADAE-4BE8-B28C-B513EA0D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ED3B-7479-4CB7-84F9-70D14F89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0A73-5753-4796-84AB-2C708DB9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79D6-0D12-49B0-9278-9DFB61D2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9C6A-E830-4BBE-8C3F-37BC73FF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0F4D-B147-4013-A359-D5076687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6182-0986-45B1-9EDC-510035314B15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9220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炫丽蓝色圣诞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4928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Calibri"/>
              </a:rPr>
              <a:t>Company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22320" y="473220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11280" y="206280"/>
            <a:ext cx="62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411280" y="1200240"/>
            <a:ext cx="62755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17375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17375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2692800" y="4803840"/>
            <a:ext cx="40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 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8466120" cy="5143680"/>
            <a:chOff x="0" y="0"/>
            <a:chExt cx="8466120" cy="5143680"/>
          </a:xfrm>
        </p:grpSpPr>
        <p:sp>
          <p:nvSpPr>
            <p:cNvPr id="5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285920"/>
              <a:ext cx="846612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Box 7"/>
            <p:cNvSpPr/>
            <p:nvPr/>
          </p:nvSpPr>
          <p:spPr>
            <a:xfrm rot="20926800">
              <a:off x="1946880" y="267624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15:04:52Z</dcterms:created>
  <dc:creator/>
  <dc:description/>
  <dc:language>en-US</dc:language>
  <cp:lastModifiedBy>Ric6000</cp:lastModifiedBy>
  <dcterms:modified xsi:type="dcterms:W3CDTF">2015-01-10T11:44:4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