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5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5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DDCAD-1062-48C8-8BB8-6CA86915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8BA72-6950-4FAF-AABC-0D1C1FE4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C2206-D41B-47A6-99C8-9BD93CF6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317E1-77B1-4BE7-8A3B-B686304A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A3A60-29C6-4776-902B-CA5229EB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4920"/>
            <a:ext cx="82296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BE152-DD61-4A2F-A0CA-238B252C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89BDC-8151-48FB-BB9B-0534A167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44E79-2194-4B98-BECA-B059EE1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1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8571B-03E3-474C-8C7F-0D0E9924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1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4D8E0-75DD-4358-BE6C-4F0F653D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48C71-D16C-4F32-A1B6-0149F8E7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5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5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1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1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1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3E87D-5859-47CE-B4A6-7B2CD90C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4920"/>
            <a:ext cx="82296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5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9C12005E-4506-4C44-90EE-2C487FCF4A1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93320" y="4203360"/>
            <a:ext cx="7373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3610-21C2-4E0B-9DD6-62883DE24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6040" algn="ctr">
              <a:spcAft>
                <a:spcPts val="9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22160" algn="ctr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88920" algn="ctr">
              <a:spcAft>
                <a:spcPts val="9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889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889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320" y="4203360"/>
            <a:ext cx="7373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74480" y="5086440"/>
            <a:ext cx="48070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11640" y="60166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63680" y="244440"/>
            <a:ext cx="13906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62280" y="1839600"/>
            <a:ext cx="5057280" cy="3596760"/>
            <a:chOff x="1862280" y="1839600"/>
            <a:chExt cx="5057280" cy="3596760"/>
          </a:xfrm>
        </p:grpSpPr>
        <p:sp>
          <p:nvSpPr>
            <p:cNvPr id="89" name="WordArt 3"/>
            <p:cNvSpPr txBox="1"/>
            <p:nvPr/>
          </p:nvSpPr>
          <p:spPr>
            <a:xfrm>
              <a:off x="3623400" y="1866960"/>
              <a:ext cx="2588040" cy="33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4323600" y="1455120"/>
              <a:ext cx="660960" cy="4407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4381200" y="237600"/>
              <a:ext cx="660960" cy="4362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4345200" y="2722680"/>
              <a:ext cx="660600" cy="44848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4553280" y="-56880"/>
              <a:ext cx="196200" cy="4486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8100000">
              <a:off x="2022120" y="1980360"/>
              <a:ext cx="704880" cy="739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53720" y="2111760"/>
              <a:ext cx="4041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单击添加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4556160" y="1161360"/>
              <a:ext cx="196200" cy="4530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8920" y="3336480"/>
              <a:ext cx="3918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单击添加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8100000">
              <a:off x="2022120" y="3257280"/>
              <a:ext cx="724320" cy="752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2205720" y="3379680"/>
              <a:ext cx="379800" cy="50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黑体"/>
                </a:rPr>
                <a:t>2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4491000" y="2383200"/>
              <a:ext cx="196200" cy="4529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8100000">
              <a:off x="2028960" y="4522320"/>
              <a:ext cx="737280" cy="765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205360" y="4621680"/>
              <a:ext cx="379800" cy="50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黑体"/>
                </a:rPr>
                <a:t>3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40480" y="4623120"/>
              <a:ext cx="3979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单击添加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2180520" y="2056320"/>
              <a:ext cx="330120" cy="57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黑体"/>
                </a:rPr>
                <a:t>1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2825640"/>
            <a:ext cx="1562040" cy="441360"/>
          </a:xfrm>
          <a:prstGeom prst="roundRect">
            <a:avLst>
              <a:gd name="adj" fmla="val 8120"/>
            </a:avLst>
          </a:prstGeom>
          <a:gradFill rotWithShape="0">
            <a:gsLst>
              <a:gs pos="0">
                <a:srgbClr val="777777">
                  <a:alpha val="1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9840" y="3948120"/>
            <a:ext cx="7312320" cy="1236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77777">
                  <a:alpha val="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65600" y="2152800"/>
            <a:ext cx="1562040" cy="66348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0f0f0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7013"/>
                </a:solidFill>
                <a:latin typeface="Arial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02240" y="1620720"/>
            <a:ext cx="48888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959200" y="3378240"/>
            <a:ext cx="436320" cy="2144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507440" y="3378240"/>
            <a:ext cx="430200" cy="218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3040" y="3568680"/>
            <a:ext cx="1563840" cy="66348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0f0f0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7013"/>
                </a:solidFill>
                <a:latin typeface="Arial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02200" y="3568680"/>
            <a:ext cx="1563840" cy="66348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0f0f0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7013"/>
                </a:solidFill>
                <a:latin typeface="Arial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65600" y="3568680"/>
            <a:ext cx="1562040" cy="66348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0f0f0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7013"/>
                </a:solidFill>
                <a:latin typeface="Arial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9" idx="2"/>
          </p:cNvCxnSpPr>
          <p:nvPr/>
        </p:nvCxnSpPr>
        <p:spPr>
          <a:xfrm flipV="1" rot="10800000">
            <a:off x="4544280" y="2814120"/>
            <a:ext cx="1080" cy="408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9" idx="2"/>
          </p:cNvCxnSpPr>
          <p:nvPr/>
        </p:nvCxnSpPr>
        <p:spPr>
          <a:xfrm rot="5400000">
            <a:off x="3143880" y="1822320"/>
            <a:ext cx="410400" cy="23914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2"/>
          </p:cNvCxnSpPr>
          <p:nvPr/>
        </p:nvCxnSpPr>
        <p:spPr>
          <a:xfrm flipH="1" rot="16200000">
            <a:off x="5410080" y="1950480"/>
            <a:ext cx="408960" cy="213624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369040" y="3422520"/>
            <a:ext cx="423720" cy="198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3040" y="4245120"/>
            <a:ext cx="1571760" cy="439560"/>
          </a:xfrm>
          <a:prstGeom prst="roundRect">
            <a:avLst>
              <a:gd name="adj" fmla="val 8120"/>
            </a:avLst>
          </a:prstGeom>
          <a:gradFill rotWithShape="0">
            <a:gsLst>
              <a:gs pos="0">
                <a:srgbClr val="777777">
                  <a:alpha val="1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59120" y="4245120"/>
            <a:ext cx="1562040" cy="439560"/>
          </a:xfrm>
          <a:prstGeom prst="roundRect">
            <a:avLst>
              <a:gd name="adj" fmla="val 8120"/>
            </a:avLst>
          </a:prstGeom>
          <a:gradFill rotWithShape="0">
            <a:gsLst>
              <a:gs pos="0">
                <a:srgbClr val="777777">
                  <a:alpha val="1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97520" y="4245120"/>
            <a:ext cx="1563840" cy="439560"/>
          </a:xfrm>
          <a:prstGeom prst="roundRect">
            <a:avLst>
              <a:gd name="adj" fmla="val 8120"/>
            </a:avLst>
          </a:prstGeom>
          <a:gradFill rotWithShape="0">
            <a:gsLst>
              <a:gs pos="0">
                <a:srgbClr val="777777">
                  <a:alpha val="1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432080" y="3198960"/>
            <a:ext cx="1439640" cy="353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49840" y="1757520"/>
            <a:ext cx="1439640" cy="353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23040" y="3198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849840" y="3198960"/>
            <a:ext cx="1439640" cy="353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978520" y="3198960"/>
            <a:ext cx="1441440" cy="353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54320" y="31989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9200" y="3214800"/>
            <a:ext cx="10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8200" y="1779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3320" y="4203360"/>
            <a:ext cx="7373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感谢您的关注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301840" y="5267160"/>
            <a:ext cx="4572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4920" y="6378480"/>
            <a:ext cx="55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/>
  <dc:language>en-US</dc:language>
  <cp:lastModifiedBy>Sven</cp:lastModifiedBy>
  <dcterms:modified xsi:type="dcterms:W3CDTF">2015-01-11T12:09:40Z</dcterms:modified>
  <cp:revision>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