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60" y="4064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0" y="1700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560" y="4064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0" y="4064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9000" y="1700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1440" y="1700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560" y="4064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9000" y="4064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1440" y="4064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65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3600" y="1700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00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560" y="4064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65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3600" y="1700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0" y="4064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0" y="1700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60" y="4064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60" y="4064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3600" y="1700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560" y="4064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0" y="4064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9000" y="1700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1440" y="1700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60" y="4064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9000" y="4064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1440" y="4064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600" y="1700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600" y="1700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" y="4064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600" y="1700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0" y="4064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0" y="1700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560" y="4064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c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66560" y="1628640"/>
            <a:ext cx="8210880" cy="522936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74520" y="-38160"/>
            <a:ext cx="9310680" cy="1757520"/>
            <a:chOff x="-74520" y="-38160"/>
            <a:chExt cx="9310680" cy="1757520"/>
          </a:xfrm>
        </p:grpSpPr>
        <p:pic>
          <p:nvPicPr>
            <p:cNvPr id="2" name="Rectangle 5" descr=""/>
            <p:cNvPicPr/>
            <p:nvPr/>
          </p:nvPicPr>
          <p:blipFill>
            <a:blip r:embed="rId2"/>
            <a:stretch/>
          </p:blipFill>
          <p:spPr>
            <a:xfrm>
              <a:off x="-74520" y="-38160"/>
              <a:ext cx="9310680" cy="17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-30240" y="4320"/>
              <a:ext cx="9174240" cy="16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665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1_101201101313_1"/>
          <p:cNvPicPr/>
          <p:nvPr/>
        </p:nvPicPr>
        <p:blipFill>
          <a:blip r:embed="rId3"/>
          <a:stretch/>
        </p:blipFill>
        <p:spPr>
          <a:xfrm>
            <a:off x="-30240" y="-93600"/>
            <a:ext cx="9174240" cy="1508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组合 17" descr=""/>
          <p:cNvPicPr/>
          <p:nvPr/>
        </p:nvPicPr>
        <p:blipFill>
          <a:blip r:embed="rId4"/>
          <a:stretch/>
        </p:blipFill>
        <p:spPr>
          <a:xfrm>
            <a:off x="7412040" y="6345360"/>
            <a:ext cx="1854360" cy="3841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2"/>
          <p:cNvSpPr/>
          <p:nvPr/>
        </p:nvSpPr>
        <p:spPr>
          <a:xfrm>
            <a:off x="6929280" y="61437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fld id="{C1617E8D-2CBA-47D0-8DEA-06A6E140F17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c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_101201101313_1"/>
          <p:cNvPicPr/>
          <p:nvPr/>
        </p:nvPicPr>
        <p:blipFill>
          <a:blip r:embed="rId2"/>
          <a:stretch/>
        </p:blipFill>
        <p:spPr>
          <a:xfrm>
            <a:off x="-101520" y="-20520"/>
            <a:ext cx="9267840" cy="6949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c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紫色简约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780000" y="5300640"/>
            <a:ext cx="1388880" cy="349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c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669080" y="620640"/>
            <a:ext cx="1389240" cy="349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2:52:53Z</dcterms:created>
  <dc:creator>Dragon</dc:creator>
  <dc:description/>
  <dc:language>en-US</dc:language>
  <cp:lastModifiedBy>Dragon</cp:lastModifiedBy>
  <dcterms:modified xsi:type="dcterms:W3CDTF">2015-01-11T06:43:07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