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7AF6-E063-4AD4-8F9E-C1D06B890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7576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BB66-BFA6-4370-88F4-990F2E0E0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3C64-A8EF-4A90-B656-7BF67FC6C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8FD9-AB53-4EB6-9F50-47B4B9FF6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4F792-26F0-4C7C-9D49-2DABFCA1D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FA553-5ADC-4300-808C-FFD36D7D4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20701-153B-4C5E-8811-059C1258A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8A59F-4706-45F0-BA80-690F32B99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A8AFF-2837-4BB3-8AA9-7B151D8F6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5E54F-20BB-429B-83A7-6ABF077E8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F5312-7B89-41F0-AFC1-84FAEC6F4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CD74-1DE5-4E0B-BBE7-320E7D2F1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7966D-86E8-4127-B21A-BF9212F15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7DAE9-5590-4AEC-B1AE-8638D6517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7576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3B90C-A283-4A26-884A-98AB74F2E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168D4-5FBB-45B5-93D5-7195289C7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87E5C-96B3-4997-B825-0CF3B79B1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BB20-B473-4867-A05B-7EFA21560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D936-F513-432F-BA0A-109563040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1DC3-CFDF-4077-96B8-226E4505E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0E83-8A65-4DC5-ADF7-14A550142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E572-8AC2-47C7-A011-F011CCE99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854F-FC33-41F4-B918-5429A2BD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76B1-B607-4AF8-A7DC-493479661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352E6-292D-465E-BD60-34B7B4CBF2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7F09E-21EF-4DA2-B0AD-81D4961533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6360" y="63817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7T16:02:24Z</dcterms:created>
  <dc:creator>Administrator</dc:creator>
  <dc:description/>
  <dc:language>en-US</dc:language>
  <cp:lastModifiedBy/>
  <dcterms:modified xsi:type="dcterms:W3CDTF">2015-01-11T15:13:13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