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72026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743-8B9A-4C0E-98DF-40A7F58D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874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538080"/>
            <a:ext cx="874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32F-9A24-41E8-92E9-8E2E8942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872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53808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8720" y="353808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3D3-48B6-4B76-800D-D4BD478B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42884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240" y="142884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53808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53808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240" y="353808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93C-BA2C-47C8-8699-EC889BB0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DAD2-4603-4302-BB00-000360C2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640" y="1428840"/>
            <a:ext cx="87487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F9DF-2752-4458-97BF-2655E006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87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5868-C81C-48EC-A6C9-15158D2A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4269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8720" y="1428840"/>
            <a:ext cx="4269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F0DF-FB33-4DD3-B0B4-4089BB75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1D29-9D1E-48D9-B3E7-3D6DD2E1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640" y="244440"/>
            <a:ext cx="87487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67D1-226F-41B6-9242-FE0AA426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8720" y="1428840"/>
            <a:ext cx="4269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640" y="353808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2EBB-1046-490B-99ED-7957D0A9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428840"/>
            <a:ext cx="87487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589-AB70-4227-A1EC-E1A6177B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4269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872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8720" y="353808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E210-5F6A-405F-BE3A-BC585815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872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640" y="3538080"/>
            <a:ext cx="874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A212-728C-44C0-A360-1E35F994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874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640" y="3538080"/>
            <a:ext cx="874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A466-675A-4B24-B7FD-237B6C03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872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640" y="353808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8720" y="353808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2DB0-82A7-4984-8B67-638BCD74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43760" y="142884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240" y="142884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640" y="353808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43760" y="353808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240" y="3538080"/>
            <a:ext cx="2817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F38B-8BC6-41FA-81B5-7CB2C60F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87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D0B-3D34-446A-BC26-BF0409A2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4269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8720" y="1428840"/>
            <a:ext cx="4269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E68-E9C4-42E4-89E1-53DECF11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D07-8D72-400A-933D-C2F36744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44440"/>
            <a:ext cx="87487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3C5-DABB-4BC7-982A-DE34BAF9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8720" y="1428840"/>
            <a:ext cx="4269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53808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579-AB4E-49D9-968A-31A62E70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4269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872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8720" y="353808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B8D-83BE-41F6-8542-4AC50A83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8720" y="1428840"/>
            <a:ext cx="4269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538080"/>
            <a:ext cx="874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17D-6C1E-4CDB-890E-BFCE439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44440"/>
            <a:ext cx="8748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428840"/>
            <a:ext cx="87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572080"/>
            <a:ext cx="2268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5572080"/>
            <a:ext cx="307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5640" y="5572080"/>
            <a:ext cx="226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E418-E169-461D-8597-E6F3A758E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280" y="1901880"/>
            <a:ext cx="82630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85640" y="5572080"/>
            <a:ext cx="2268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20640" y="5572080"/>
            <a:ext cx="307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65640" y="5572080"/>
            <a:ext cx="226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C54E-08C4-42C9-97B6-A73C76982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86000" y="1432080"/>
            <a:ext cx="8747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461320" y="1157760"/>
            <a:ext cx="6450480" cy="4223160"/>
            <a:chOff x="2461320" y="1157760"/>
            <a:chExt cx="6450480" cy="4223160"/>
          </a:xfrm>
        </p:grpSpPr>
        <p:sp>
          <p:nvSpPr>
            <p:cNvPr id="83" name=""/>
            <p:cNvSpPr/>
            <p:nvPr/>
          </p:nvSpPr>
          <p:spPr>
            <a:xfrm rot="360000">
              <a:off x="2694240" y="1506240"/>
              <a:ext cx="6013440" cy="3569760"/>
            </a:xfrm>
            <a:prstGeom prst="rect">
              <a:avLst/>
            </a:prstGeom>
            <a:solidFill>
              <a:srgbClr val="99cc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20000">
              <a:off x="2523960" y="1266840"/>
              <a:ext cx="6324840" cy="3717720"/>
            </a:xfrm>
            <a:prstGeom prst="rect">
              <a:avLst/>
            </a:prstGeom>
            <a:solidFill>
              <a:srgbClr val="fff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 rot="240000">
            <a:off x="3951360" y="2340000"/>
            <a:ext cx="33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b700f"/>
                </a:solidFill>
                <a:latin typeface="Arial"/>
                <a:ea typeface="方正静蕾简体"/>
              </a:rPr>
              <a:t>致我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b700f"/>
                </a:solidFill>
                <a:latin typeface="Arial"/>
                <a:ea typeface="方正静蕾简体"/>
              </a:rPr>
              <a:t>终将逝去的青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80000">
            <a:off x="2639160" y="1450440"/>
            <a:ext cx="24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39c09"/>
                </a:solidFill>
                <a:latin typeface="Renaissance"/>
              </a:rPr>
              <a:t>To Our</a:t>
            </a:r>
            <a:r>
              <a:rPr b="0" lang="zh-CN" sz="3600" spc="-1" strike="noStrike">
                <a:solidFill>
                  <a:srgbClr val="639c09"/>
                </a:solidFill>
                <a:latin typeface="DilleniaUPC"/>
                <a:ea typeface="Dotum"/>
              </a:rPr>
              <a:t> </a:t>
            </a:r>
            <a:r>
              <a:rPr b="0" lang="zh-CN" sz="2800" spc="-1" strike="noStrike">
                <a:solidFill>
                  <a:srgbClr val="639c09"/>
                </a:solidFill>
                <a:latin typeface="Renaissance"/>
              </a:rPr>
              <a:t>Y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85960" y="4140360"/>
            <a:ext cx="5640480" cy="376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40000">
            <a:off x="2857680" y="4398480"/>
            <a:ext cx="417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5a600"/>
                </a:solidFill>
                <a:latin typeface="Arial"/>
                <a:ea typeface="张海山锐线体2.0"/>
              </a:rPr>
              <a:t>她以为那是她一生最亮的月光。然而月光再亮，终究冰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557440" y="3214800"/>
            <a:ext cx="1520640" cy="1581120"/>
          </a:xfrm>
          <a:prstGeom prst="ellipse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Bella Donna"/>
                <a:ea typeface="微软雅黑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">
            <a:off x="-501120" y="5694480"/>
            <a:ext cx="8664480" cy="1239840"/>
          </a:xfrm>
          <a:prstGeom prst="rect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0000">
            <a:off x="5202360" y="1131480"/>
            <a:ext cx="1224000" cy="225360"/>
          </a:xfrm>
          <a:prstGeom prst="flowChartTerminator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360000">
            <a:off x="5043960" y="282852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9c09"/>
                </a:solidFill>
                <a:latin typeface="Renaissance"/>
              </a:rPr>
              <a:t>That To Fad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595440" y="4403880"/>
            <a:ext cx="582840" cy="610920"/>
          </a:xfrm>
          <a:prstGeom prst="ellipse">
            <a:avLst/>
          </a:prstGeom>
          <a:solidFill>
            <a:srgbClr val="85a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Y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王菲 - 致青春_clip" descr=""/>
          <p:cNvPicPr/>
          <p:nvPr/>
        </p:nvPicPr>
        <p:blipFill>
          <a:blip r:embed="rId1"/>
          <a:stretch/>
        </p:blipFill>
        <p:spPr>
          <a:xfrm>
            <a:off x="-1036800" y="55418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17520" y="4430880"/>
            <a:ext cx="1589040" cy="1589040"/>
            <a:chOff x="317520" y="4430880"/>
            <a:chExt cx="1589040" cy="1589040"/>
          </a:xfrm>
        </p:grpSpPr>
        <p:sp>
          <p:nvSpPr>
            <p:cNvPr id="96" name=""/>
            <p:cNvSpPr/>
            <p:nvPr/>
          </p:nvSpPr>
          <p:spPr>
            <a:xfrm>
              <a:off x="317520" y="4430880"/>
              <a:ext cx="1589040" cy="1589040"/>
            </a:xfrm>
            <a:prstGeom prst="ellipse">
              <a:avLst/>
            </a:prstGeom>
            <a:noFill/>
            <a:ln w="25560">
              <a:solidFill>
                <a:srgbClr val="105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7520" y="5402160"/>
              <a:ext cx="1589040" cy="360"/>
            </a:xfrm>
            <a:prstGeom prst="line">
              <a:avLst/>
            </a:prstGeom>
            <a:ln w="25560">
              <a:solidFill>
                <a:srgbClr val="105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160" y="47822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ac0000"/>
                  </a:solidFill>
                  <a:latin typeface="Arial"/>
                  <a:ea typeface="张海山锐线体2.0"/>
                </a:rPr>
                <a:t>赵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1080" y="533052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05c9c"/>
                  </a:solidFill>
                  <a:latin typeface="Arial"/>
                </a:rPr>
                <a:t>ZHAOW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9720" y="5655960"/>
              <a:ext cx="1299600" cy="360"/>
            </a:xfrm>
            <a:prstGeom prst="line">
              <a:avLst/>
            </a:prstGeom>
            <a:ln w="25560">
              <a:solidFill>
                <a:srgbClr val="105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480" y="5674680"/>
              <a:ext cx="248400" cy="230040"/>
            </a:xfrm>
            <a:prstGeom prst="rect">
              <a:avLst/>
            </a:prstGeom>
            <a:solidFill>
              <a:srgbClr val="fef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3080" y="55771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05c9c"/>
                  </a:solidFill>
                  <a:latin typeface="Arial"/>
                </a:rPr>
                <a:t>Fil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4120" y="5653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05c9c"/>
                  </a:solidFill>
                  <a:latin typeface="Arial"/>
                  <a:ea typeface="张海山锐线体2.0"/>
                </a:rPr>
                <a:t>导演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9720" y="5884920"/>
              <a:ext cx="1083960" cy="360"/>
            </a:xfrm>
            <a:prstGeom prst="line">
              <a:avLst/>
            </a:prstGeom>
            <a:ln w="19080">
              <a:solidFill>
                <a:srgbClr val="105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492680" y="56545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1.152806 0.302999 E">
                                      <p:cBhvr>
                                        <p:cTn id="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1.33403 0.339732 E">
                                      <p:cBhvr>
                                        <p:cTn id="1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2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87640" y="2124000"/>
            <a:ext cx="5400720" cy="1914480"/>
          </a:xfrm>
          <a:prstGeom prst="foldedCorner">
            <a:avLst>
              <a:gd name="adj" fmla="val 12500"/>
            </a:avLst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青春是一场</a:t>
            </a:r>
            <a:r>
              <a:rPr b="1" lang="zh-CN" sz="6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伤痛</a:t>
            </a: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，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来</a:t>
            </a: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不及了</a:t>
            </a:r>
            <a:r>
              <a:rPr b="0" lang="zh-CN" sz="44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回形针%20(1)" descr=""/>
          <p:cNvPicPr/>
          <p:nvPr/>
        </p:nvPicPr>
        <p:blipFill>
          <a:blip r:embed="rId1"/>
          <a:stretch/>
        </p:blipFill>
        <p:spPr>
          <a:xfrm rot="21540000">
            <a:off x="1915920" y="1917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3" descr=""/>
          <p:cNvPicPr/>
          <p:nvPr/>
        </p:nvPicPr>
        <p:blipFill>
          <a:blip r:embed="rId1"/>
          <a:stretch/>
        </p:blipFill>
        <p:spPr>
          <a:xfrm>
            <a:off x="5378400" y="466560"/>
            <a:ext cx="3659400" cy="514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84240" y="466560"/>
            <a:ext cx="358776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       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无论你经历过怎样的青春，当走到尽头，蓦然回首，那一瞬间你终会发现，一切迷惘与痛苦都豁然开朗，而人生已然走过，是多么美好的一段时光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       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有人说：那个让你流泪的，是你最爱的人；那个懂你眼泪的，是最爱你的人。那个为你擦干眼泪的，才是最后和你相守的人。 对于郑薇来说，一辈子爱一次就足够了，受尽伤害去跟最爱的人在一起，不如珍惜此刻陪伴在身边真心爱自己的人。那些受过的伤害，来不及了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147480" y="1380600"/>
            <a:ext cx="5657400" cy="3750840"/>
            <a:chOff x="3147480" y="1380600"/>
            <a:chExt cx="5657400" cy="3750840"/>
          </a:xfrm>
        </p:grpSpPr>
        <p:sp>
          <p:nvSpPr>
            <p:cNvPr id="136" name=""/>
            <p:cNvSpPr/>
            <p:nvPr/>
          </p:nvSpPr>
          <p:spPr>
            <a:xfrm rot="300000">
              <a:off x="3663720" y="1785960"/>
              <a:ext cx="4739760" cy="3144960"/>
            </a:xfrm>
            <a:prstGeom prst="rect">
              <a:avLst/>
            </a:prstGeom>
            <a:solidFill>
              <a:srgbClr val="99cc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20000">
              <a:off x="3203280" y="1476000"/>
              <a:ext cx="5545080" cy="3310560"/>
            </a:xfrm>
            <a:prstGeom prst="rect">
              <a:avLst/>
            </a:prstGeom>
            <a:solidFill>
              <a:srgbClr val="fff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92560" y="1360440"/>
            <a:ext cx="1155240" cy="342756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青春，将逝未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40000">
            <a:off x="3250800" y="2340000"/>
            <a:ext cx="5497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所谓的青春也抵挡不过残酷的现实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岁月的车轮碾过，年少轻狂也终究只有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次。人生的路途还很遥远，最后的最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我们只是接受了每一段年华都将会逝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事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2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2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2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00200" y="1712880"/>
            <a:ext cx="6624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5a600"/>
                </a:solidFill>
                <a:latin typeface="Arial"/>
                <a:ea typeface="方正静蕾简体"/>
              </a:rPr>
              <a:t>青春</a:t>
            </a:r>
            <a:r>
              <a:rPr b="0" lang="zh-CN" sz="4000" spc="-1" strike="noStrike">
                <a:solidFill>
                  <a:srgbClr val="85a600"/>
                </a:solidFill>
                <a:latin typeface="Arial"/>
                <a:ea typeface="方正静蕾简体"/>
              </a:rPr>
              <a:t>就是用来</a:t>
            </a:r>
            <a:r>
              <a:rPr b="1" lang="zh-CN" sz="4400" spc="-1" strike="noStrike">
                <a:solidFill>
                  <a:srgbClr val="85a600"/>
                </a:solidFill>
                <a:latin typeface="Arial"/>
                <a:ea typeface="方正静蕾简体"/>
              </a:rPr>
              <a:t>怀念</a:t>
            </a:r>
            <a:r>
              <a:rPr b="0" lang="zh-CN" sz="4000" spc="-1" strike="noStrike">
                <a:solidFill>
                  <a:srgbClr val="85a600"/>
                </a:solidFill>
                <a:latin typeface="Arial"/>
                <a:ea typeface="方正静蕾简体"/>
              </a:rPr>
              <a:t>的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5a600"/>
                </a:solidFill>
                <a:latin typeface="Arial"/>
                <a:ea typeface="方正静蕾简体"/>
              </a:rPr>
              <a:t>谨以此献给我们即将失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5a600"/>
                </a:solidFill>
                <a:latin typeface="Arial"/>
                <a:ea typeface="方正静蕾简体"/>
              </a:rPr>
              <a:t>或终将逝去的青春岁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49120" y="1884240"/>
            <a:ext cx="17960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99cc00"/>
                </a:solidFill>
                <a:latin typeface="Arial"/>
                <a:ea typeface="张海山锐线体2.0"/>
              </a:rPr>
              <a:t>青春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33520" y="48355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未完待续</a:t>
            </a:r>
            <a:r>
              <a:rPr b="0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84560" y="1186920"/>
            <a:ext cx="3095640" cy="3096000"/>
            <a:chOff x="3184560" y="1186920"/>
            <a:chExt cx="3095640" cy="3096000"/>
          </a:xfrm>
        </p:grpSpPr>
        <p:sp>
          <p:nvSpPr>
            <p:cNvPr id="144" name=""/>
            <p:cNvSpPr/>
            <p:nvPr/>
          </p:nvSpPr>
          <p:spPr>
            <a:xfrm>
              <a:off x="3184560" y="1187280"/>
              <a:ext cx="3095640" cy="3095640"/>
            </a:xfrm>
            <a:prstGeom prst="rect">
              <a:avLst/>
            </a:prstGeom>
            <a:noFill/>
            <a:ln w="12600">
              <a:solidFill>
                <a:srgbClr val="85a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84560" y="1186920"/>
              <a:ext cx="3095640" cy="3095640"/>
            </a:xfrm>
            <a:prstGeom prst="line">
              <a:avLst/>
            </a:prstGeom>
            <a:ln w="12600">
              <a:solidFill>
                <a:srgbClr val="85a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84560" y="1187280"/>
              <a:ext cx="3095640" cy="3095640"/>
            </a:xfrm>
            <a:prstGeom prst="line">
              <a:avLst/>
            </a:prstGeom>
            <a:ln w="12600">
              <a:solidFill>
                <a:srgbClr val="85a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4560" y="2733120"/>
              <a:ext cx="3095640" cy="360"/>
            </a:xfrm>
            <a:prstGeom prst="line">
              <a:avLst/>
            </a:prstGeom>
            <a:ln w="12600">
              <a:solidFill>
                <a:srgbClr val="85a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640" y="1187280"/>
              <a:ext cx="360" cy="3095640"/>
            </a:xfrm>
            <a:prstGeom prst="line">
              <a:avLst/>
            </a:prstGeom>
            <a:ln w="12600">
              <a:solidFill>
                <a:srgbClr val="85a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076840" y="56530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001080" cy="6119280"/>
            <a:chOff x="0" y="0"/>
            <a:chExt cx="9001080" cy="6119280"/>
          </a:xfrm>
        </p:grpSpPr>
        <p:sp>
          <p:nvSpPr>
            <p:cNvPr id="151" name="矩形 4"/>
            <p:cNvSpPr/>
            <p:nvPr/>
          </p:nvSpPr>
          <p:spPr>
            <a:xfrm>
              <a:off x="8276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29640"/>
              <a:ext cx="900108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7"/>
            <p:cNvSpPr/>
            <p:nvPr/>
          </p:nvSpPr>
          <p:spPr>
            <a:xfrm rot="20926800">
              <a:off x="2052360" y="3186360"/>
              <a:ext cx="496188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3" descr=""/>
          <p:cNvPicPr/>
          <p:nvPr/>
        </p:nvPicPr>
        <p:blipFill>
          <a:blip r:embed="rId1"/>
          <a:srcRect l="0" t="0" r="0" b="20630"/>
          <a:stretch/>
        </p:blipFill>
        <p:spPr>
          <a:xfrm>
            <a:off x="4932360" y="971640"/>
            <a:ext cx="3497400" cy="3887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46080" y="17114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电影《致我们终将逝去的青春》是赵薇的导演处女作，也是其在北京电影学院导演系研究生的毕业作品，电影的粗剪版被北京电影学院评为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99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分，新创北京电影学院导演系硕士生毕业作品历史最高分记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-52560" y="0"/>
            <a:ext cx="8402760" cy="618480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3" descr=""/>
          <p:cNvPicPr/>
          <p:nvPr/>
        </p:nvPicPr>
        <p:blipFill>
          <a:blip r:embed="rId2"/>
          <a:srcRect l="0" t="0" r="0" b="20787"/>
          <a:stretch/>
        </p:blipFill>
        <p:spPr>
          <a:xfrm>
            <a:off x="7918560" y="9360"/>
            <a:ext cx="1800000" cy="1968840"/>
          </a:xfrm>
          <a:prstGeom prst="rect">
            <a:avLst/>
          </a:prstGeom>
          <a:ln w="63360">
            <a:solidFill>
              <a:srgbClr val="85a6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-52560" y="5153040"/>
            <a:ext cx="7971120" cy="1038240"/>
          </a:xfrm>
          <a:prstGeom prst="rect">
            <a:avLst/>
          </a:prstGeom>
          <a:solidFill>
            <a:srgbClr val="1c1c1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tangle 3" descr=""/>
          <p:cNvPicPr/>
          <p:nvPr/>
        </p:nvPicPr>
        <p:blipFill>
          <a:blip r:embed="rId3"/>
          <a:stretch/>
        </p:blipFill>
        <p:spPr>
          <a:xfrm>
            <a:off x="7918560" y="3586320"/>
            <a:ext cx="1800000" cy="2544480"/>
          </a:xfrm>
          <a:prstGeom prst="rect">
            <a:avLst/>
          </a:prstGeom>
          <a:ln w="63360">
            <a:solidFill>
              <a:srgbClr val="85a600"/>
            </a:solidFill>
            <a:miter/>
          </a:ln>
        </p:spPr>
      </p:pic>
      <p:pic>
        <p:nvPicPr>
          <p:cNvPr id="112" name="Rectangle 3" descr=""/>
          <p:cNvPicPr/>
          <p:nvPr/>
        </p:nvPicPr>
        <p:blipFill>
          <a:blip r:embed="rId4"/>
          <a:srcRect l="0" t="0" r="0" b="10808"/>
          <a:stretch/>
        </p:blipFill>
        <p:spPr>
          <a:xfrm>
            <a:off x="7918560" y="1987560"/>
            <a:ext cx="1800000" cy="1598760"/>
          </a:xfrm>
          <a:prstGeom prst="rect">
            <a:avLst/>
          </a:prstGeom>
          <a:ln w="63360">
            <a:solidFill>
              <a:srgbClr val="85a6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461880" y="5322960"/>
            <a:ext cx="53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导演：赵薇      编剧：李楠       编制：关锦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1880" y="5672160"/>
            <a:ext cx="46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主演：韩庚   赵又廷   杨子珊   刘雅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73080" y="1327320"/>
          <a:ext cx="7634160" cy="4081320"/>
        </p:xfrm>
        <a:graphic>
          <a:graphicData uri="http://schemas.openxmlformats.org/drawingml/2006/table">
            <a:tbl>
              <a:tblPr/>
              <a:tblGrid>
                <a:gridCol w="2068560"/>
                <a:gridCol w="2239920"/>
                <a:gridCol w="33256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张海山锐线体2.0"/>
                        </a:rPr>
                        <a:t>角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张海山锐线体2.0"/>
                        </a:rPr>
                        <a:t>演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张海山锐线体2.0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林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韩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检察院检察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陈孝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赵又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中建二分公司副经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郑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杨子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中建二分公司秘书（后辞职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朱小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刘雅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郑微的同学、舍友、好朋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阮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讲疏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郑微的同学、舍友、好朋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施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佟丽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郑微的情敌、林静的追求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张天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包贝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郑微的学长、好朋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许开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郑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郑微的追求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黎维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张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郑微大学室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赵世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黄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阮菀的前男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吴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孙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阮菀的丈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曾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王嘉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张海山锐线体2.0"/>
                          <a:ea typeface="张海山锐线体2.0"/>
                        </a:rPr>
                        <a:t>郑微情敌，陈孝正的追求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974880" y="571680"/>
            <a:ext cx="1869840" cy="3996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方正静蕾简体"/>
              </a:rPr>
              <a:t>青春人物导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900000" y="942840"/>
            <a:ext cx="8084520" cy="4936320"/>
            <a:chOff x="900000" y="942840"/>
            <a:chExt cx="8084520" cy="4936320"/>
          </a:xfrm>
        </p:grpSpPr>
        <p:sp>
          <p:nvSpPr>
            <p:cNvPr id="118" name=""/>
            <p:cNvSpPr/>
            <p:nvPr/>
          </p:nvSpPr>
          <p:spPr>
            <a:xfrm rot="240000">
              <a:off x="1970280" y="1189080"/>
              <a:ext cx="6867000" cy="4456080"/>
            </a:xfrm>
            <a:prstGeom prst="rect">
              <a:avLst/>
            </a:prstGeom>
            <a:solidFill>
              <a:srgbClr val="99c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942840"/>
              <a:ext cx="7787880" cy="4584600"/>
            </a:xfrm>
            <a:prstGeom prst="rect">
              <a:avLst/>
            </a:prstGeom>
            <a:solidFill>
              <a:srgbClr val="fff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353960" y="1147680"/>
            <a:ext cx="6840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《致我们终将逝去的青春》中，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18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岁的郑微终于如愿考上青梅竹马邻家大哥哥林静所在学校的邻校，等她满怀期冀地步入大学校园，却遭遇打击——林静出国留学，杳无音信。郑微倍感失落，患难时刻与室友朱小北、阮莞、黎维娟及师哥老张结下深厚友谊，同时富家公子许开阳对郑微展开了疯狂的追求，而备受男生欢迎的阮莞用她特有的清冷守护着对于爱情的忠贞。一次偶然的误会使郑微与老张室友陈孝正结为死敌，在一次次地反击中，郑微发现自己爱上了这个表面冷酷、内心善良的高材生，于是疯狂地反击演变为死缠烂打地追求，而陈孝正也终于在强攻之下缴械投降，欢喜冤家终成甜蜜恋人。大四毕业之际郑微的生活再次经受考验：陈孝正迫于家庭压力选择出国留学，却迟迟不敢告诉郑微。感觉再次被欺骗的郑微痛苦地离开陈孝正，却遇到搂着新欢的许开阳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       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多年后，郑微已蜕变为职场上的白领丽人，竟再次品尝命运的无常：带着悔意和爱意的林静和陈孝正同时回到她的生活里！郑微，这个昔日的玉面小飞龙，将怎样面对生活和青春赐予她的迷雾和抉择…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                       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                     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2013.04.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2560" y="379440"/>
            <a:ext cx="412200" cy="3996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方正静蕾简体"/>
              </a:rPr>
              <a:t>关于《致青春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87640" y="2124000"/>
            <a:ext cx="5400720" cy="1914480"/>
          </a:xfrm>
          <a:prstGeom prst="foldedCorner">
            <a:avLst>
              <a:gd name="adj" fmla="val 12500"/>
            </a:avLst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青春是一场</a:t>
            </a:r>
            <a:r>
              <a:rPr b="1" lang="zh-CN" sz="6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远行</a:t>
            </a: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，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回</a:t>
            </a: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不去了</a:t>
            </a:r>
            <a:r>
              <a:rPr b="0" lang="zh-CN" sz="44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回形针%20(1)" descr=""/>
          <p:cNvPicPr/>
          <p:nvPr/>
        </p:nvPicPr>
        <p:blipFill>
          <a:blip r:embed="rId1"/>
          <a:stretch/>
        </p:blipFill>
        <p:spPr>
          <a:xfrm rot="21540000">
            <a:off x="1915920" y="1917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71640" y="492120"/>
            <a:ext cx="352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 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有一天，当我年老，如果有人问我人生的哪一段时光最快乐，也许我会毫不犹豫地说，是二十岁的时候。那时，日子过得无忧无虑，因为年轻，我们有梦，关于生活，关于爱情，关于穿越世界的旅行，我们放声大哭放声大笑，最痛苦的，也不过是测验和考试罢了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　　从这些有关青春的故事中，每个人多多少少都能找到自己的影子，大学校园里亦或初入职场，年少时的我们无畏向前，敢爱敢恨，但一旦青春逝去，便再难鼓起曾经的勇气，这大约也是青春总是不断被怀念的原因，因为我们再难回到从前。我们，再也回不去了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45280" y="492120"/>
            <a:ext cx="3681360" cy="5148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370280" y="56815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087640" y="2124000"/>
            <a:ext cx="5400720" cy="1914480"/>
          </a:xfrm>
          <a:prstGeom prst="foldedCorner">
            <a:avLst>
              <a:gd name="adj" fmla="val 12500"/>
            </a:avLst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青春是一场</a:t>
            </a:r>
            <a:r>
              <a:rPr b="1" lang="zh-CN" sz="6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相逢</a:t>
            </a: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，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忘</a:t>
            </a: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不掉了</a:t>
            </a:r>
            <a:r>
              <a:rPr b="0" lang="zh-CN" sz="44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回形针%20(1)" descr=""/>
          <p:cNvPicPr/>
          <p:nvPr/>
        </p:nvPicPr>
        <p:blipFill>
          <a:blip r:embed="rId1"/>
          <a:stretch/>
        </p:blipFill>
        <p:spPr>
          <a:xfrm rot="21540000">
            <a:off x="1915920" y="1917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3" descr=""/>
          <p:cNvPicPr/>
          <p:nvPr/>
        </p:nvPicPr>
        <p:blipFill>
          <a:blip r:embed="rId1"/>
          <a:stretch/>
        </p:blipFill>
        <p:spPr>
          <a:xfrm>
            <a:off x="5324400" y="458640"/>
            <a:ext cx="3678480" cy="514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61920" y="442800"/>
            <a:ext cx="361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     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 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那是最不懂爱情的年代，却偏偏遇见最美好的爱情，甚至值得用一生去怀恋。但一天天长大成熟的我们，青春终将成为记忆中的字眼，无论它裹挟着多少苦辣酸甜，都会不疾不徐地逝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       </a:t>
            </a:r>
            <a:r>
              <a:rPr b="0" lang="zh-CN" sz="13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青春时期的爱情也许真的是一场赌博，我们无法选择遭遇的人，也无力抑制青春萌动的情感，喜欢一个人和心动都是瞬间的事，大约人年轻的时候都曾这么喜欢过一个人，有些人得到了，有些人连开口都不曾，但那份感情都如此纯粹，没有残酷现实的重压，毫无保留，不计较得失，这些情感是我们宣泄青春的一个出口，使我们的青春刻骨铭心。就算结局还是会分开也无怨无悔，只说一句：愿赌服输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LHCan</cp:lastModifiedBy>
  <dcterms:modified xsi:type="dcterms:W3CDTF">2015-01-11T06:58:0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