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E8B8-FAA6-4620-B076-49F5E2BD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2559-E82E-441A-AD4D-7809DF1F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080A-9321-48E7-A0BD-2699CB10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7627-9D1A-4B70-A52F-030032A7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723C-87BE-4ACF-8356-0E3B00F7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B3C3-AE78-4898-B12F-97C180F7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2BD4-589E-4DB5-9439-323DBD31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D8B3-51F6-4C77-B693-DF16153F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2B47-5304-4275-8C4C-5A065C90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36B4-CD47-4CAF-91B0-E32B4D5B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267C-8CD6-488D-A8A2-4E792357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FBF4-BAF3-47CE-B820-DF84CB1E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3F73-297F-4827-8778-CA6659CE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4813-B480-40FD-943A-31D61637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E3DD-68AE-4B13-A06E-F9863D6B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B79C-C53D-4BFE-95A7-DEEAB844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5361-0C3C-4726-9F5C-795699DF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0327-20FA-461F-974F-B5ED20C8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2EF1-1267-4D21-BBF0-24D0F44D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84FC-FADC-4A9C-83FE-0847D69A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331F-C671-48D9-9E75-F04A8538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9883-A51C-4AAB-B02D-6C73E318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A459-92AD-4132-B761-CF6DA27C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A62C-ED29-4416-8B59-925FF510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80" y="1636560"/>
            <a:ext cx="9145080" cy="4618080"/>
            <a:chOff x="-4680" y="1636560"/>
            <a:chExt cx="91450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8680" y="6180120"/>
              <a:ext cx="31417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4680" y="1636560"/>
              <a:ext cx="44938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8D42-CB15-4BD6-BEE9-63540BA4256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AE4C-CCAB-4FA7-B341-5418F29F018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273,16,&#24187;&#28783;&#29255; 16" TargetMode="External"/><Relationship Id="rId3" Type="http://schemas.openxmlformats.org/officeDocument/2006/relationships/hyperlink" Target="274,17,&#24187;&#28783;&#29255; 17" TargetMode="External"/><Relationship Id="rId4" Type="http://schemas.openxmlformats.org/officeDocument/2006/relationships/hyperlink" Target="275,18,&#24187;&#28783;&#29255; 18" TargetMode="External"/><Relationship Id="rId5" Type="http://schemas.openxmlformats.org/officeDocument/2006/relationships/hyperlink" Target="276,19,&#24187;&#28783;&#29255; 19" TargetMode="Externa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25520" y="54612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最小公倍数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731880" cy="434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981080" y="2895480"/>
            <a:ext cx="731880" cy="435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981080" y="3733920"/>
            <a:ext cx="731880" cy="434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981080" y="4648320"/>
            <a:ext cx="731880" cy="434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418560" y="18939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渔夫的故事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3560" y="2730600"/>
            <a:ext cx="13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学习例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63560" y="3549600"/>
            <a:ext cx="13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探讨例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3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37720" y="4387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巩固小结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75040" y="6165720"/>
            <a:ext cx="2255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模板下载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Times New Roman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249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45720" y="777960"/>
            <a:ext cx="548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顺次写出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，它们公有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倍数是哪几个？其中最小的是多少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533680" y="2362320"/>
            <a:ext cx="2286000" cy="2057400"/>
            <a:chOff x="2533680" y="2362320"/>
            <a:chExt cx="2286000" cy="2057400"/>
          </a:xfrm>
        </p:grpSpPr>
        <p:sp>
          <p:nvSpPr>
            <p:cNvPr id="200" name=""/>
            <p:cNvSpPr/>
            <p:nvPr/>
          </p:nvSpPr>
          <p:spPr>
            <a:xfrm>
              <a:off x="3168000" y="23623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33680" y="297180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40040" y="3156120"/>
              <a:ext cx="1704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8      1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0     24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83080" y="2324160"/>
            <a:ext cx="2923920" cy="2057400"/>
            <a:chOff x="3583080" y="2324160"/>
            <a:chExt cx="2923920" cy="2057400"/>
          </a:xfrm>
        </p:grpSpPr>
        <p:sp>
          <p:nvSpPr>
            <p:cNvPr id="204" name=""/>
            <p:cNvSpPr/>
            <p:nvPr/>
          </p:nvSpPr>
          <p:spPr>
            <a:xfrm>
              <a:off x="4444200" y="232416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6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09880" y="293364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83080" y="3162240"/>
              <a:ext cx="29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2      6      18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4      30      36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4191120" y="4419720"/>
            <a:ext cx="380880" cy="761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和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6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的 公 倍 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1624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868320" y="1012680"/>
            <a:ext cx="731880" cy="4352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413440" y="260280"/>
            <a:ext cx="49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两个数有没有最大的公倍数？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14960" y="1631880"/>
            <a:ext cx="43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因为每一个数的倍数的个数都是无限的，所以两个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公倍数的个数也是无限的．因此，两个数没有最大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倍数．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914400" y="3200400"/>
            <a:ext cx="731880" cy="4348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889280" y="3182760"/>
            <a:ext cx="59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0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以内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公倍数有几个？最大的是几？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30640" y="3886200"/>
            <a:ext cx="46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0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以内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公倍数有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：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4  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52320" y="44402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最大的是：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48120" y="5010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如果给定一个范围，最大公倍数是存在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920" y="182520"/>
            <a:ext cx="54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解决问题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692360"/>
            <a:ext cx="876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0507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两位好朋友每人隔不同的天数到图书馆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看书，小张</a:t>
            </a:r>
            <a:r>
              <a:rPr b="1" lang="en-US" sz="3200" spc="-1" strike="noStrike">
                <a:solidFill>
                  <a:srgbClr val="ffffcc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天去一次，小丁</a:t>
            </a:r>
            <a:r>
              <a:rPr b="1" lang="en-US" sz="3200" spc="-1" strike="noStrike">
                <a:solidFill>
                  <a:srgbClr val="ffffcc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天去一次。一个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星期一，他们两人在图书馆相遇，至少再过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少天他们又在图书馆相遇？相遇时是星期几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63040" y="3733920"/>
            <a:ext cx="456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303a8"/>
                </a:solidFill>
                <a:latin typeface="Times New Roman"/>
              </a:rPr>
              <a:t>想：要求他们至少再经过多少天又相遇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303a8"/>
                </a:solidFill>
                <a:latin typeface="Times New Roman"/>
              </a:rPr>
              <a:t>就是求</a:t>
            </a:r>
            <a:r>
              <a:rPr b="0" lang="en-US" sz="3200" spc="-1" strike="noStrike">
                <a:solidFill>
                  <a:srgbClr val="c303a8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c303a8"/>
                </a:solidFill>
                <a:latin typeface="Times New Roman"/>
              </a:rPr>
              <a:t>和</a:t>
            </a:r>
            <a:r>
              <a:rPr b="0" lang="en-US" sz="3200" spc="-1" strike="noStrike">
                <a:solidFill>
                  <a:srgbClr val="c303a8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c303a8"/>
                </a:solidFill>
                <a:latin typeface="Times New Roman"/>
              </a:rPr>
              <a:t>的最小公倍数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08960" y="4846680"/>
            <a:ext cx="630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0507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是互质数，它们的乘积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就是它们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最小公倍数，所以他们至少再过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天又在图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馆相遇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0880" y="196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用长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厘米、宽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厘米的长方形纸片分别铺下面的两个正方形。可以正好铺满哪个正方形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2133720"/>
            <a:ext cx="1079280" cy="71892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2133720"/>
            <a:ext cx="1079640" cy="71892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2852640"/>
            <a:ext cx="1079280" cy="71928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2852640"/>
            <a:ext cx="1079640" cy="71928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05520" y="3581280"/>
            <a:ext cx="1079280" cy="71928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3581280"/>
            <a:ext cx="1079640" cy="71928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4309920"/>
            <a:ext cx="1079280" cy="71928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72200" y="4309920"/>
            <a:ext cx="1079640" cy="71928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2514600"/>
            <a:ext cx="1079280" cy="71928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57400" y="2514600"/>
            <a:ext cx="1079640" cy="71928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3243240"/>
            <a:ext cx="1079280" cy="71928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3962520"/>
            <a:ext cx="1079280" cy="71892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3243240"/>
            <a:ext cx="1079640" cy="71928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57400" y="3962520"/>
            <a:ext cx="1079640" cy="71892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990720" y="2514240"/>
            <a:ext cx="2669400" cy="2593800"/>
            <a:chOff x="990720" y="2514240"/>
            <a:chExt cx="2669400" cy="2593800"/>
          </a:xfrm>
        </p:grpSpPr>
        <p:sp>
          <p:nvSpPr>
            <p:cNvPr id="241" name=""/>
            <p:cNvSpPr/>
            <p:nvPr/>
          </p:nvSpPr>
          <p:spPr>
            <a:xfrm>
              <a:off x="990720" y="2514600"/>
              <a:ext cx="2158920" cy="215892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90720" y="4648320"/>
              <a:ext cx="0" cy="4572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24440" y="4648320"/>
              <a:ext cx="0" cy="4572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67240" y="4876920"/>
              <a:ext cx="4572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990720" y="4876920"/>
              <a:ext cx="4572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00200" y="46483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6</a:t>
              </a:r>
              <a:r>
                <a:rPr b="1" lang="zh-CN" sz="2400" spc="-1" strike="noStrike">
                  <a:solidFill>
                    <a:srgbClr val="ffffcc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3200400" y="2514240"/>
              <a:ext cx="459720" cy="2133720"/>
              <a:chOff x="3200400" y="2514240"/>
              <a:chExt cx="459720" cy="2133720"/>
            </a:xfrm>
          </p:grpSpPr>
          <p:sp>
            <p:nvSpPr>
              <p:cNvPr id="248" name=""/>
              <p:cNvSpPr/>
              <p:nvPr/>
            </p:nvSpPr>
            <p:spPr>
              <a:xfrm>
                <a:off x="3200400" y="4647960"/>
                <a:ext cx="45720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200400" y="2514240"/>
                <a:ext cx="45720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3429000" y="2514240"/>
                <a:ext cx="0" cy="4572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429000" y="4190760"/>
                <a:ext cx="0" cy="4572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6200000">
                <a:off x="2706120" y="308448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cc"/>
                    </a:solidFill>
                    <a:latin typeface="Times New Roman"/>
                  </a:rPr>
                  <a:t>6</a:t>
                </a:r>
                <a:r>
                  <a:rPr b="1" lang="zh-CN" sz="2400" spc="-1" strike="noStrike">
                    <a:solidFill>
                      <a:srgbClr val="ffffcc"/>
                    </a:solidFill>
                    <a:latin typeface="Times New Roman"/>
                  </a:rPr>
                  <a:t>厘米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3" name=""/>
          <p:cNvGrpSpPr/>
          <p:nvPr/>
        </p:nvGrpSpPr>
        <p:grpSpPr>
          <a:xfrm>
            <a:off x="5105520" y="2133360"/>
            <a:ext cx="3355200" cy="3355560"/>
            <a:chOff x="5105520" y="2133360"/>
            <a:chExt cx="3355200" cy="3355560"/>
          </a:xfrm>
        </p:grpSpPr>
        <p:sp>
          <p:nvSpPr>
            <p:cNvPr id="254" name=""/>
            <p:cNvSpPr/>
            <p:nvPr/>
          </p:nvSpPr>
          <p:spPr>
            <a:xfrm>
              <a:off x="5105520" y="2149560"/>
              <a:ext cx="2879640" cy="287964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05520" y="5029200"/>
              <a:ext cx="0" cy="4572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001000" y="5029200"/>
              <a:ext cx="0" cy="4572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86600" y="5257800"/>
              <a:ext cx="9144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105520" y="5257800"/>
              <a:ext cx="8380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96240" y="502920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8</a:t>
              </a:r>
              <a:r>
                <a:rPr b="1" lang="zh-CN" sz="2400" spc="-1" strike="noStrike">
                  <a:solidFill>
                    <a:srgbClr val="ffffcc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8001000" y="2133360"/>
              <a:ext cx="459720" cy="2895480"/>
              <a:chOff x="8001000" y="2133360"/>
              <a:chExt cx="459720" cy="2895480"/>
            </a:xfrm>
          </p:grpSpPr>
          <p:sp>
            <p:nvSpPr>
              <p:cNvPr id="261" name=""/>
              <p:cNvSpPr/>
              <p:nvPr/>
            </p:nvSpPr>
            <p:spPr>
              <a:xfrm>
                <a:off x="8001000" y="5028840"/>
                <a:ext cx="45720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001000" y="2133360"/>
                <a:ext cx="45720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8229600" y="2133360"/>
                <a:ext cx="0" cy="9144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229600" y="4190760"/>
                <a:ext cx="0" cy="8380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6200000">
                <a:off x="7507080" y="30844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cc"/>
                    </a:solidFill>
                    <a:latin typeface="Times New Roman"/>
                  </a:rPr>
                  <a:t>8</a:t>
                </a:r>
                <a:r>
                  <a:rPr b="1" lang="zh-CN" sz="2400" spc="-1" strike="noStrike">
                    <a:solidFill>
                      <a:srgbClr val="ffffcc"/>
                    </a:solidFill>
                    <a:latin typeface="Times New Roman"/>
                  </a:rPr>
                  <a:t>厘米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6" name=""/>
          <p:cNvGrpSpPr/>
          <p:nvPr/>
        </p:nvGrpSpPr>
        <p:grpSpPr>
          <a:xfrm>
            <a:off x="533520" y="456840"/>
            <a:ext cx="1600200" cy="1892880"/>
            <a:chOff x="533520" y="456840"/>
            <a:chExt cx="1600200" cy="1892880"/>
          </a:xfrm>
        </p:grpSpPr>
        <p:sp>
          <p:nvSpPr>
            <p:cNvPr id="267" name=""/>
            <p:cNvSpPr/>
            <p:nvPr/>
          </p:nvSpPr>
          <p:spPr>
            <a:xfrm>
              <a:off x="533520" y="1187640"/>
              <a:ext cx="1079640" cy="717840"/>
            </a:xfrm>
            <a:prstGeom prst="rect">
              <a:avLst/>
            </a:prstGeom>
            <a:solidFill>
              <a:srgbClr val="3366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5800" y="1981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3</a:t>
              </a:r>
              <a:r>
                <a:rPr b="1" lang="zh-CN" sz="1800" spc="-1" strike="noStrike">
                  <a:solidFill>
                    <a:srgbClr val="ffffcc"/>
                  </a:solidFill>
                  <a:latin typeface="Times New Roman"/>
                </a:rPr>
                <a:t>厘米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1134720" y="995400"/>
              <a:ext cx="144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2</a:t>
              </a:r>
              <a:r>
                <a:rPr b="1" lang="zh-CN" sz="1800" spc="-1" strike="noStrike">
                  <a:solidFill>
                    <a:srgbClr val="ffffcc"/>
                  </a:solidFill>
                  <a:latin typeface="Times New Roman"/>
                </a:rPr>
                <a:t>厘米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990720" y="5392800"/>
            <a:ext cx="2895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6÷ 2=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6÷ 3=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029200" y="5486400"/>
            <a:ext cx="2895480" cy="1556280"/>
            <a:chOff x="5029200" y="5486400"/>
            <a:chExt cx="2895480" cy="1556280"/>
          </a:xfrm>
        </p:grpSpPr>
        <p:sp>
          <p:nvSpPr>
            <p:cNvPr id="272" name=""/>
            <p:cNvSpPr/>
            <p:nvPr/>
          </p:nvSpPr>
          <p:spPr>
            <a:xfrm>
              <a:off x="5029200" y="5486400"/>
              <a:ext cx="28954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8÷ 2=4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8÷ 3=2         2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48520" y="5973840"/>
              <a:ext cx="990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……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52280" y="928800"/>
            <a:ext cx="2057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的倍数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248520" y="944640"/>
            <a:ext cx="8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4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944640"/>
            <a:ext cx="6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90920" y="944640"/>
            <a:ext cx="8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0120" y="9446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562720" y="944640"/>
            <a:ext cx="8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6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76920" y="944640"/>
            <a:ext cx="8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14800" y="944640"/>
            <a:ext cx="8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944640"/>
            <a:ext cx="83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8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34320" y="944640"/>
            <a:ext cx="76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48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153280" y="83808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7400" y="2163600"/>
            <a:ext cx="53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90920" y="2163600"/>
            <a:ext cx="8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8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52680" y="2163600"/>
            <a:ext cx="83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7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2163600"/>
            <a:ext cx="8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6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76920" y="2163600"/>
            <a:ext cx="8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45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62720" y="2163600"/>
            <a:ext cx="8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54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2163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81680" y="2057400"/>
            <a:ext cx="83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280" y="3382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的公倍数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345924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2590920" y="944640"/>
            <a:ext cx="1600200" cy="1800720"/>
            <a:chOff x="2590920" y="944640"/>
            <a:chExt cx="1600200" cy="1800720"/>
          </a:xfrm>
        </p:grpSpPr>
        <p:sp>
          <p:nvSpPr>
            <p:cNvPr id="296" name=""/>
            <p:cNvSpPr/>
            <p:nvPr/>
          </p:nvSpPr>
          <p:spPr>
            <a:xfrm>
              <a:off x="3353040" y="94464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18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90920" y="21639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18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562720" y="944640"/>
            <a:ext cx="2895480" cy="1800720"/>
            <a:chOff x="5562720" y="944640"/>
            <a:chExt cx="2895480" cy="1800720"/>
          </a:xfrm>
        </p:grpSpPr>
        <p:sp>
          <p:nvSpPr>
            <p:cNvPr id="299" name=""/>
            <p:cNvSpPr/>
            <p:nvPr/>
          </p:nvSpPr>
          <p:spPr>
            <a:xfrm>
              <a:off x="7620120" y="94464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54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62720" y="21639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54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114800" y="944640"/>
            <a:ext cx="2286000" cy="1800720"/>
            <a:chOff x="4114800" y="944640"/>
            <a:chExt cx="2286000" cy="1800720"/>
          </a:xfrm>
        </p:grpSpPr>
        <p:sp>
          <p:nvSpPr>
            <p:cNvPr id="302" name=""/>
            <p:cNvSpPr/>
            <p:nvPr/>
          </p:nvSpPr>
          <p:spPr>
            <a:xfrm>
              <a:off x="5562720" y="94464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36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14800" y="21639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36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302040" y="2163600"/>
            <a:ext cx="144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的倍数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3124080" y="3260880"/>
            <a:ext cx="3505320" cy="703800"/>
            <a:chOff x="3124080" y="3260880"/>
            <a:chExt cx="3505320" cy="703800"/>
          </a:xfrm>
        </p:grpSpPr>
        <p:sp>
          <p:nvSpPr>
            <p:cNvPr id="306" name=""/>
            <p:cNvSpPr/>
            <p:nvPr/>
          </p:nvSpPr>
          <p:spPr>
            <a:xfrm>
              <a:off x="3124080" y="3383280"/>
              <a:ext cx="342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18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、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36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、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54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57800" y="326088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……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152280" y="39625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最小的公倍数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3962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610480" y="6400800"/>
            <a:ext cx="304920" cy="228600"/>
          </a:xfrm>
          <a:custGeom>
            <a:avLst/>
            <a:gdLst>
              <a:gd name="textAreaLeft" fmla="*/ 14040 w 304920"/>
              <a:gd name="textAreaRight" fmla="*/ 290880 w 30492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50" y="1350"/>
                </a:lnTo>
                <a:lnTo>
                  <a:pt x="1350" y="135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50" y="20250"/>
                </a:lnTo>
                <a:lnTo>
                  <a:pt x="27450" y="135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50" y="2025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800" h="21600">
                <a:moveTo>
                  <a:pt x="7356" y="10800"/>
                </a:moveTo>
                <a:lnTo>
                  <a:pt x="21444" y="3756"/>
                </a:lnTo>
                <a:lnTo>
                  <a:pt x="21444" y="17844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7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057400" y="1325520"/>
            <a:ext cx="53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90920" y="1325520"/>
            <a:ext cx="8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8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1325520"/>
            <a:ext cx="83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7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1325520"/>
            <a:ext cx="8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6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876920" y="1325520"/>
            <a:ext cx="8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45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62720" y="1325520"/>
            <a:ext cx="8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54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48520" y="132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781680" y="1219320"/>
            <a:ext cx="83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2280" y="36115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的公倍数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90920" y="132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562720" y="132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14800" y="132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2040" y="1325520"/>
            <a:ext cx="144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的倍数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2280" y="437364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最小的公倍数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43736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2280" y="2209680"/>
            <a:ext cx="8153280" cy="687600"/>
            <a:chOff x="152280" y="2209680"/>
            <a:chExt cx="8153280" cy="687600"/>
          </a:xfrm>
        </p:grpSpPr>
        <p:sp>
          <p:nvSpPr>
            <p:cNvPr id="327" name=""/>
            <p:cNvSpPr/>
            <p:nvPr/>
          </p:nvSpPr>
          <p:spPr>
            <a:xfrm>
              <a:off x="3200400" y="220968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……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2280" y="2315880"/>
              <a:ext cx="815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其中 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18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、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36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、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54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    </a:t>
              </a: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也是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6</a:t>
              </a: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倍数。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352680" y="3505320"/>
            <a:ext cx="3505320" cy="687600"/>
            <a:chOff x="3352680" y="3505320"/>
            <a:chExt cx="3505320" cy="687600"/>
          </a:xfrm>
        </p:grpSpPr>
        <p:sp>
          <p:nvSpPr>
            <p:cNvPr id="330" name=""/>
            <p:cNvSpPr/>
            <p:nvPr/>
          </p:nvSpPr>
          <p:spPr>
            <a:xfrm>
              <a:off x="3962160" y="368784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52680" y="3611520"/>
              <a:ext cx="342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18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、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36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、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54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86400" y="350532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……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610480" y="6400800"/>
            <a:ext cx="304920" cy="228600"/>
          </a:xfrm>
          <a:custGeom>
            <a:avLst/>
            <a:gdLst>
              <a:gd name="textAreaLeft" fmla="*/ 14040 w 304920"/>
              <a:gd name="textAreaRight" fmla="*/ 290880 w 30492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50" y="1350"/>
                </a:lnTo>
                <a:lnTo>
                  <a:pt x="1350" y="135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50" y="20250"/>
                </a:lnTo>
                <a:lnTo>
                  <a:pt x="27450" y="135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50" y="2025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800" h="21600">
                <a:moveTo>
                  <a:pt x="7356" y="10800"/>
                </a:moveTo>
                <a:lnTo>
                  <a:pt x="21444" y="3756"/>
                </a:lnTo>
                <a:lnTo>
                  <a:pt x="21444" y="17844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2209680" y="304920"/>
            <a:ext cx="4191120" cy="31971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914400" y="4022640"/>
            <a:ext cx="7162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班长说：“我们可以分成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人一组，也可以分成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人一组，都正好分完。”请大家猜猜这些学生可能有几人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打开书本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８９页完成做一做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打开作业本完成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３５页的１、２、３、４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完成同步练习的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42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页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中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点之前完成加分，给老师批）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回家作业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：预习书本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90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页新课，完成做一做与练习十七的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口算训练完成第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64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（回作给组长批）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575040" y="6165720"/>
            <a:ext cx="2255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模板下载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Times New Roman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练习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3049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老渔夫说：“我连续打三天要休息一天。”年轻的渔夫说：“我连续打五天要休息一天。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这位朋友在这一个月里，可以选哪些日子去看望他们呢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0320" y="19051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倍数有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34400" y="1905120"/>
            <a:ext cx="58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0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4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8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6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宋体"/>
              </a:rPr>
              <a:t>…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0320" y="25146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倍数有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54920" y="2514600"/>
            <a:ext cx="40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8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4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0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6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宋体"/>
              </a:rPr>
              <a:t>…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35000" y="3200400"/>
            <a:ext cx="22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有的倍数有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20760" y="2514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92360" y="1905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9880" y="3238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43320" y="2514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17920" y="190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86160" y="32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56160" y="2514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32680" y="1905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59440" y="3219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6800" y="31240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宋体"/>
              </a:rPr>
              <a:t>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18360" y="390996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其中最小的一个是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78040" y="3941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47920" y="4668840"/>
            <a:ext cx="47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几个数公有的倍数，叫做这几个数的公倍数，其中最小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个，叫做这几个数的最小公倍数．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76920" y="4724280"/>
            <a:ext cx="914400" cy="381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410080"/>
            <a:ext cx="1523880" cy="381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890640" y="2286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巩固练习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1752480"/>
            <a:ext cx="8734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8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的倍数有：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___________________________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20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的倍数有：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______________________________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8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20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公倍数有：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________________________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8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20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的最小公倍数是：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________________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72080" y="1676520"/>
            <a:ext cx="76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32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48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56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64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72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80…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92160" y="2743200"/>
            <a:ext cx="52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60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80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120…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63320" y="35053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黑体"/>
                <a:ea typeface="黑体"/>
              </a:rPr>
              <a:t>4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953960" y="35812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  <a:ea typeface="黑体"/>
              </a:rPr>
              <a:t>8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724280" y="4495680"/>
            <a:ext cx="70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黑体"/>
                <a:ea typeface="黑体"/>
              </a:rPr>
              <a:t>4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54800" y="3581280"/>
            <a:ext cx="7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…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很快找出下面的每组数的最小公倍数，并说说是怎样想的。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9800" y="2513160"/>
            <a:ext cx="6246360" cy="30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cc6600"/>
                </a:solidFill>
                <a:uFillTx/>
                <a:latin typeface="Times New Roman"/>
                <a:ea typeface="黑体"/>
                <a:hlinkClick r:id="rId2"/>
              </a:rPr>
              <a:t>3和7              </a:t>
            </a:r>
            <a:r>
              <a:rPr b="0" lang="en-US" sz="6000" spc="-1" strike="noStrike" u="sng">
                <a:solidFill>
                  <a:srgbClr val="cc6600"/>
                </a:solidFill>
                <a:uFillTx/>
                <a:latin typeface="Times New Roman"/>
                <a:ea typeface="黑体"/>
                <a:hlinkClick r:id="rId3"/>
              </a:rPr>
              <a:t>8和24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  <a:ea typeface="黑体"/>
              </a:rPr>
              <a:t>  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cc6600"/>
                </a:solidFill>
                <a:uFillTx/>
                <a:latin typeface="Times New Roman"/>
                <a:ea typeface="黑体"/>
                <a:hlinkClick r:id="rId4"/>
              </a:rPr>
              <a:t>30和5            </a:t>
            </a:r>
            <a:r>
              <a:rPr b="0" lang="en-US" sz="6000" spc="-1" strike="noStrike" u="sng">
                <a:solidFill>
                  <a:srgbClr val="cc6600"/>
                </a:solidFill>
                <a:uFillTx/>
                <a:latin typeface="Times New Roman"/>
                <a:ea typeface="黑体"/>
                <a:hlinkClick r:id="rId5"/>
              </a:rPr>
              <a:t>10和9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0"/>
            <a:ext cx="91440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41e02"/>
                </a:solidFill>
                <a:latin typeface="隶书"/>
                <a:ea typeface="隶书"/>
              </a:rPr>
              <a:t>例</a:t>
            </a:r>
            <a:r>
              <a:rPr b="0" lang="en-US" sz="8800" spc="-1" strike="noStrike">
                <a:solidFill>
                  <a:srgbClr val="c41e02"/>
                </a:solidFill>
                <a:latin typeface="隶书"/>
                <a:ea typeface="隶书"/>
              </a:rPr>
              <a:t>2</a:t>
            </a:r>
            <a:r>
              <a:rPr b="0" lang="en-US" sz="8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1" lang="zh-CN" sz="4800" spc="-1" strike="noStrike">
                <a:solidFill>
                  <a:srgbClr val="ffffcc"/>
                </a:solidFill>
                <a:latin typeface="宋体"/>
              </a:rPr>
              <a:t>用找倍数的方法，找出</a:t>
            </a:r>
            <a:r>
              <a:rPr b="1" lang="en-US" sz="4800" spc="-1" strike="noStrike">
                <a:solidFill>
                  <a:srgbClr val="ffffcc"/>
                </a:solidFill>
                <a:latin typeface="宋体"/>
              </a:rPr>
              <a:t>2</a:t>
            </a:r>
            <a:r>
              <a:rPr b="1" lang="zh-CN" sz="4800" spc="-1" strike="noStrike">
                <a:solidFill>
                  <a:srgbClr val="ffffcc"/>
                </a:solidFill>
                <a:latin typeface="宋体"/>
              </a:rPr>
              <a:t>和</a:t>
            </a:r>
            <a:r>
              <a:rPr b="1" lang="en-US" sz="4800" spc="-1" strike="noStrike">
                <a:solidFill>
                  <a:srgbClr val="ffffcc"/>
                </a:solidFill>
                <a:latin typeface="宋体"/>
              </a:rPr>
              <a:t>3</a:t>
            </a:r>
            <a:r>
              <a:rPr b="1" lang="zh-CN" sz="4800" spc="-1" strike="noStrike">
                <a:solidFill>
                  <a:srgbClr val="ffffcc"/>
                </a:solidFill>
                <a:latin typeface="宋体"/>
              </a:rPr>
              <a:t>的公倍数和它们的最小公倍数。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41148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zh-CN" sz="4000" spc="-1" strike="noStrike" u="sng">
                <a:solidFill>
                  <a:srgbClr val="c40296"/>
                </a:solidFill>
                <a:uFillTx/>
                <a:latin typeface="Times New Roman"/>
              </a:rPr>
              <a:t>如果两个数是互质数，那么它们的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c40296"/>
                </a:solidFill>
                <a:uFillTx/>
                <a:latin typeface="Times New Roman"/>
              </a:rPr>
              <a:t>最小公倍数就这两个数的乘积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063440" y="0"/>
            <a:ext cx="697716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41e02"/>
                </a:solidFill>
                <a:latin typeface="隶书"/>
                <a:ea typeface="隶书"/>
              </a:rPr>
              <a:t>例</a:t>
            </a:r>
            <a:r>
              <a:rPr b="0" lang="en-US" sz="8800" spc="-1" strike="noStrike">
                <a:solidFill>
                  <a:srgbClr val="c41e02"/>
                </a:solidFill>
                <a:latin typeface="隶书"/>
                <a:ea typeface="隶书"/>
              </a:rPr>
              <a:t>3</a:t>
            </a:r>
            <a:r>
              <a:rPr b="1" lang="en-US" sz="9600" spc="-1" strike="noStrike">
                <a:solidFill>
                  <a:srgbClr val="ffffcc"/>
                </a:solidFill>
                <a:latin typeface="隶书"/>
                <a:ea typeface="隶书"/>
              </a:rPr>
              <a:t> 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 </a:t>
            </a:r>
            <a:r>
              <a:rPr b="1" lang="zh-CN" sz="4800" spc="-1" strike="noStrike">
                <a:solidFill>
                  <a:srgbClr val="ffffcc"/>
                </a:solidFill>
                <a:latin typeface="Times New Roman"/>
              </a:rPr>
              <a:t>用找倍数的方法，找出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zh-CN" sz="4800" spc="-1" strike="noStrike">
                <a:solidFill>
                  <a:srgbClr val="ffffcc"/>
                </a:solidFill>
                <a:latin typeface="Times New Roman"/>
              </a:rPr>
              <a:t>和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Times New Roman"/>
              </a:rPr>
              <a:t>的公倍数和它们的最小公倍数。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82840" y="4300560"/>
            <a:ext cx="593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03a8"/>
                </a:solidFill>
                <a:latin typeface="Times New Roman"/>
              </a:rPr>
              <a:t>        </a:t>
            </a:r>
            <a:r>
              <a:rPr b="1" lang="zh-CN" sz="4000" spc="-1" strike="noStrike" u="sng">
                <a:solidFill>
                  <a:srgbClr val="c303a8"/>
                </a:solidFill>
                <a:uFillTx/>
                <a:latin typeface="Times New Roman"/>
              </a:rPr>
              <a:t>如果较大的数是较小的数的倍数，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c303a8"/>
                </a:solidFill>
                <a:uFillTx/>
                <a:latin typeface="Times New Roman"/>
              </a:rPr>
              <a:t>那么它们的最小公倍数就是较大的数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1828800"/>
            <a:ext cx="9144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2041b"/>
                </a:solidFill>
                <a:latin typeface="Times New Roman"/>
                <a:ea typeface="黑体"/>
              </a:rPr>
              <a:t>    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因为这两个数是互质数，所以它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们的最小公倍数就是它们的乘积。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7550280" y="5029200"/>
            <a:ext cx="954000" cy="10764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193400" y="533520"/>
            <a:ext cx="144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3</a:t>
            </a:r>
            <a:r>
              <a:rPr b="1" lang="zh-CN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和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7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050840" y="18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06160" y="1828800"/>
            <a:ext cx="5934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2041b"/>
                </a:solidFill>
                <a:latin typeface="Times New Roman"/>
                <a:ea typeface="黑体"/>
              </a:rPr>
              <a:t> 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0507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因为这两个数是倍数关系，所以它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们的最小公倍数就是较大的数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7550280" y="5029200"/>
            <a:ext cx="954000" cy="10764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346040" y="533520"/>
            <a:ext cx="190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8 </a:t>
            </a:r>
            <a:r>
              <a:rPr b="1" lang="zh-CN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和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24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33240" y="1490760"/>
            <a:ext cx="5762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因为这两个数是倍数关系，所以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它们的最小公倍数就是较大的数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7550280" y="5029200"/>
            <a:ext cx="954000" cy="10764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422360" y="762120"/>
            <a:ext cx="175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30</a:t>
            </a:r>
            <a:r>
              <a:rPr b="1" lang="zh-CN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和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04920" y="2666880"/>
            <a:ext cx="883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因为这两个数是互质数，所以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它们的最小公倍数就是它们的乘积。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7550280" y="5029200"/>
            <a:ext cx="954000" cy="10764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193760" y="685800"/>
            <a:ext cx="175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和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9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533520" y="914400"/>
            <a:ext cx="83055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imes New Roman"/>
              </a:rPr>
              <a:t>动脑筋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cc9900"/>
                </a:solidFill>
                <a:latin typeface="Times New Roman"/>
              </a:rPr>
              <a:t>73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</a:rPr>
              <a:t>路汽车</a:t>
            </a:r>
            <a:r>
              <a:rPr b="1" lang="en-US" sz="3200" spc="-1" strike="noStrike">
                <a:solidFill>
                  <a:srgbClr val="cc99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</a:rPr>
              <a:t>分钟发一次车，</a:t>
            </a:r>
            <a:r>
              <a:rPr b="1" lang="en-US" sz="3200" spc="-1" strike="noStrike">
                <a:solidFill>
                  <a:srgbClr val="cc9900"/>
                </a:solidFill>
                <a:latin typeface="Times New Roman"/>
              </a:rPr>
              <a:t>96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</a:rPr>
              <a:t>路汽车</a:t>
            </a:r>
            <a:r>
              <a:rPr b="1" lang="en-US" sz="3200" spc="-1" strike="noStrike">
                <a:solidFill>
                  <a:srgbClr val="cc99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</a:rPr>
              <a:t>分钟发一次车。</a:t>
            </a:r>
            <a:r>
              <a:rPr b="1" lang="en-US" sz="3200" spc="-1" strike="noStrike">
                <a:solidFill>
                  <a:srgbClr val="cc9900"/>
                </a:solidFill>
                <a:latin typeface="Times New Roman"/>
              </a:rPr>
              <a:t>73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</a:rPr>
              <a:t>路和</a:t>
            </a:r>
            <a:r>
              <a:rPr b="1" lang="en-US" sz="3200" spc="-1" strike="noStrike">
                <a:solidFill>
                  <a:srgbClr val="cc9900"/>
                </a:solidFill>
                <a:latin typeface="Times New Roman"/>
              </a:rPr>
              <a:t>96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</a:rPr>
              <a:t>路汽车同时出发后，再过多少时间会同时发车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575040" y="6165720"/>
            <a:ext cx="2255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模板下载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Times New Roman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581280" y="4114800"/>
            <a:ext cx="533520" cy="5335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629400" y="1981080"/>
            <a:ext cx="533520" cy="5335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05320" y="3048120"/>
            <a:ext cx="533160" cy="53316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914400" y="3048120"/>
          <a:ext cx="7238880" cy="533160"/>
        </p:xfrm>
        <a:graphic>
          <a:graphicData uri="http://schemas.openxmlformats.org/drawingml/2006/table">
            <a:tbl>
              <a:tblPr/>
              <a:tblGrid>
                <a:gridCol w="515880"/>
                <a:gridCol w="519120"/>
                <a:gridCol w="515880"/>
                <a:gridCol w="517680"/>
                <a:gridCol w="515880"/>
                <a:gridCol w="519120"/>
                <a:gridCol w="515880"/>
                <a:gridCol w="571680"/>
                <a:gridCol w="463320"/>
                <a:gridCol w="515880"/>
                <a:gridCol w="517680"/>
                <a:gridCol w="515880"/>
                <a:gridCol w="519120"/>
                <a:gridCol w="515880"/>
              </a:tblGrid>
              <a:tr h="533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7620120" y="251460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914400" y="358128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914400" y="4114800"/>
          <a:ext cx="3200400" cy="5335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533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914400" y="1981080"/>
          <a:ext cx="7238880" cy="533520"/>
        </p:xfrm>
        <a:graphic>
          <a:graphicData uri="http://schemas.openxmlformats.org/drawingml/2006/table">
            <a:tbl>
              <a:tblPr/>
              <a:tblGrid>
                <a:gridCol w="515880"/>
                <a:gridCol w="519120"/>
                <a:gridCol w="515880"/>
                <a:gridCol w="517680"/>
                <a:gridCol w="515880"/>
                <a:gridCol w="519120"/>
                <a:gridCol w="515880"/>
                <a:gridCol w="515880"/>
                <a:gridCol w="519120"/>
                <a:gridCol w="515880"/>
                <a:gridCol w="517680"/>
                <a:gridCol w="515880"/>
                <a:gridCol w="519120"/>
                <a:gridCol w="515880"/>
              </a:tblGrid>
              <a:tr h="533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"/>
          <p:cNvSpPr/>
          <p:nvPr/>
        </p:nvSpPr>
        <p:spPr>
          <a:xfrm>
            <a:off x="228600" y="744480"/>
            <a:ext cx="8458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红棋每次走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格，黄棋每次走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格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4988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6600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249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45720" y="777960"/>
            <a:ext cx="548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顺次写出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，它们公有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倍数是哪几个？其中最小的是多少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447920" y="2362320"/>
            <a:ext cx="2286000" cy="2057400"/>
            <a:chOff x="1447920" y="2362320"/>
            <a:chExt cx="2286000" cy="2057400"/>
          </a:xfrm>
        </p:grpSpPr>
        <p:sp>
          <p:nvSpPr>
            <p:cNvPr id="122" name=""/>
            <p:cNvSpPr/>
            <p:nvPr/>
          </p:nvSpPr>
          <p:spPr>
            <a:xfrm>
              <a:off x="2082240" y="23623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47920" y="297180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54280" y="3156120"/>
              <a:ext cx="1704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8      1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0     24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345200" y="2324160"/>
            <a:ext cx="2923920" cy="2057400"/>
            <a:chOff x="4345200" y="2324160"/>
            <a:chExt cx="2923920" cy="2057400"/>
          </a:xfrm>
        </p:grpSpPr>
        <p:sp>
          <p:nvSpPr>
            <p:cNvPr id="126" name=""/>
            <p:cNvSpPr/>
            <p:nvPr/>
          </p:nvSpPr>
          <p:spPr>
            <a:xfrm>
              <a:off x="5206320" y="232416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6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0" y="293364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45200" y="3162240"/>
              <a:ext cx="29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2      6      18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4      30      36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39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cc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ffffcc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ffffcc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ffffcc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3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66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66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66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249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45720" y="777960"/>
            <a:ext cx="548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顺次写出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，它们公有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倍数是哪几个？其中最小的是多少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447920" y="2362320"/>
            <a:ext cx="2286000" cy="2057400"/>
            <a:chOff x="1447920" y="2362320"/>
            <a:chExt cx="2286000" cy="2057400"/>
          </a:xfrm>
        </p:grpSpPr>
        <p:sp>
          <p:nvSpPr>
            <p:cNvPr id="133" name=""/>
            <p:cNvSpPr/>
            <p:nvPr/>
          </p:nvSpPr>
          <p:spPr>
            <a:xfrm>
              <a:off x="2082240" y="23623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297180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54280" y="3156120"/>
              <a:ext cx="1704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8      1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0     24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345200" y="2324160"/>
            <a:ext cx="2923920" cy="2057400"/>
            <a:chOff x="4345200" y="2324160"/>
            <a:chExt cx="2923920" cy="2057400"/>
          </a:xfrm>
        </p:grpSpPr>
        <p:sp>
          <p:nvSpPr>
            <p:cNvPr id="137" name=""/>
            <p:cNvSpPr/>
            <p:nvPr/>
          </p:nvSpPr>
          <p:spPr>
            <a:xfrm>
              <a:off x="5206320" y="232416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6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0" y="293364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45200" y="3162240"/>
              <a:ext cx="29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2      6      18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4      30      36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249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45720" y="777960"/>
            <a:ext cx="548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顺次写出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，它们公有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倍数是哪几个？其中最小的是多少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828800" y="2362320"/>
            <a:ext cx="2286000" cy="2057400"/>
            <a:chOff x="1828800" y="2362320"/>
            <a:chExt cx="2286000" cy="2057400"/>
          </a:xfrm>
        </p:grpSpPr>
        <p:sp>
          <p:nvSpPr>
            <p:cNvPr id="144" name=""/>
            <p:cNvSpPr/>
            <p:nvPr/>
          </p:nvSpPr>
          <p:spPr>
            <a:xfrm>
              <a:off x="2463120" y="23623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28800" y="297180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35160" y="3156120"/>
              <a:ext cx="1704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8      1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0     24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345200" y="2324160"/>
            <a:ext cx="2923920" cy="2057400"/>
            <a:chOff x="4345200" y="2324160"/>
            <a:chExt cx="2923920" cy="2057400"/>
          </a:xfrm>
        </p:grpSpPr>
        <p:sp>
          <p:nvSpPr>
            <p:cNvPr id="148" name=""/>
            <p:cNvSpPr/>
            <p:nvPr/>
          </p:nvSpPr>
          <p:spPr>
            <a:xfrm>
              <a:off x="5206320" y="232416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6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0" y="293364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5200" y="3162240"/>
              <a:ext cx="29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2      6      18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4      30      36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249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45720" y="777960"/>
            <a:ext cx="548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顺次写出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，它们公有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倍数是哪几个？其中最小的是多少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981080" y="2362320"/>
            <a:ext cx="2286000" cy="2057400"/>
            <a:chOff x="1981080" y="2362320"/>
            <a:chExt cx="2286000" cy="2057400"/>
          </a:xfrm>
        </p:grpSpPr>
        <p:sp>
          <p:nvSpPr>
            <p:cNvPr id="155" name=""/>
            <p:cNvSpPr/>
            <p:nvPr/>
          </p:nvSpPr>
          <p:spPr>
            <a:xfrm>
              <a:off x="2615400" y="23623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81080" y="297180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7440" y="3156120"/>
              <a:ext cx="1704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8      1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0     24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192920" y="2324160"/>
            <a:ext cx="2923920" cy="2057400"/>
            <a:chOff x="4192920" y="2324160"/>
            <a:chExt cx="2923920" cy="2057400"/>
          </a:xfrm>
        </p:grpSpPr>
        <p:sp>
          <p:nvSpPr>
            <p:cNvPr id="159" name=""/>
            <p:cNvSpPr/>
            <p:nvPr/>
          </p:nvSpPr>
          <p:spPr>
            <a:xfrm>
              <a:off x="5054040" y="232416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6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19720" y="293364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92920" y="3162240"/>
              <a:ext cx="29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2      6      18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4      30      36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249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45720" y="777960"/>
            <a:ext cx="548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顺次写出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，它们公有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倍数是哪几个？其中最小的是多少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133720" y="2362320"/>
            <a:ext cx="2286000" cy="2057400"/>
            <a:chOff x="2133720" y="2362320"/>
            <a:chExt cx="2286000" cy="2057400"/>
          </a:xfrm>
        </p:grpSpPr>
        <p:sp>
          <p:nvSpPr>
            <p:cNvPr id="166" name=""/>
            <p:cNvSpPr/>
            <p:nvPr/>
          </p:nvSpPr>
          <p:spPr>
            <a:xfrm>
              <a:off x="2768040" y="23623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33720" y="297180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40080" y="3156120"/>
              <a:ext cx="1704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8      1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0     24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040280" y="2324160"/>
            <a:ext cx="2923920" cy="2057400"/>
            <a:chOff x="4040280" y="2324160"/>
            <a:chExt cx="2923920" cy="2057400"/>
          </a:xfrm>
        </p:grpSpPr>
        <p:sp>
          <p:nvSpPr>
            <p:cNvPr id="170" name=""/>
            <p:cNvSpPr/>
            <p:nvPr/>
          </p:nvSpPr>
          <p:spPr>
            <a:xfrm>
              <a:off x="4901400" y="232416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6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67080" y="293364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40280" y="3162240"/>
              <a:ext cx="29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2      6      18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4      30      36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249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45720" y="777960"/>
            <a:ext cx="548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顺次写出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，它们公有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倍数是哪几个？其中最小的是多少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86000" y="2362320"/>
            <a:ext cx="2286000" cy="2057400"/>
            <a:chOff x="2286000" y="2362320"/>
            <a:chExt cx="2286000" cy="2057400"/>
          </a:xfrm>
        </p:grpSpPr>
        <p:sp>
          <p:nvSpPr>
            <p:cNvPr id="177" name=""/>
            <p:cNvSpPr/>
            <p:nvPr/>
          </p:nvSpPr>
          <p:spPr>
            <a:xfrm>
              <a:off x="2920320" y="23623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0" y="297180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92360" y="3156120"/>
              <a:ext cx="1704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8      1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0     24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811680" y="2324160"/>
            <a:ext cx="2923920" cy="2057400"/>
            <a:chOff x="3811680" y="2324160"/>
            <a:chExt cx="2923920" cy="2057400"/>
          </a:xfrm>
        </p:grpSpPr>
        <p:sp>
          <p:nvSpPr>
            <p:cNvPr id="181" name=""/>
            <p:cNvSpPr/>
            <p:nvPr/>
          </p:nvSpPr>
          <p:spPr>
            <a:xfrm>
              <a:off x="4672800" y="232416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6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38480" y="293364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11680" y="3162240"/>
              <a:ext cx="29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2      6      18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4      30      36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249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45720" y="777960"/>
            <a:ext cx="548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顺次写出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，它们公有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倍数是哪几个？其中最小的是多少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533680" y="2362320"/>
            <a:ext cx="2286000" cy="2057400"/>
            <a:chOff x="2533680" y="2362320"/>
            <a:chExt cx="2286000" cy="2057400"/>
          </a:xfrm>
        </p:grpSpPr>
        <p:sp>
          <p:nvSpPr>
            <p:cNvPr id="188" name=""/>
            <p:cNvSpPr/>
            <p:nvPr/>
          </p:nvSpPr>
          <p:spPr>
            <a:xfrm>
              <a:off x="3168000" y="23623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33680" y="297180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40040" y="3156120"/>
              <a:ext cx="1704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8      1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0     24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583080" y="2324160"/>
            <a:ext cx="2923920" cy="2057400"/>
            <a:chOff x="3583080" y="2324160"/>
            <a:chExt cx="2923920" cy="2057400"/>
          </a:xfrm>
        </p:grpSpPr>
        <p:sp>
          <p:nvSpPr>
            <p:cNvPr id="192" name=""/>
            <p:cNvSpPr/>
            <p:nvPr/>
          </p:nvSpPr>
          <p:spPr>
            <a:xfrm>
              <a:off x="4444200" y="232416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6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09880" y="293364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3080" y="3162240"/>
              <a:ext cx="29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2      6      18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4      30      36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27400" y="6237360"/>
            <a:ext cx="2255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模板下载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Times New Roman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8T08:30:45Z</dcterms:created>
  <dc:creator>lgq</dc:creator>
  <dc:description/>
  <dc:language>en-US</dc:language>
  <cp:lastModifiedBy>微软用户</cp:lastModifiedBy>
  <cp:lastPrinted>1899-12-30T00:00:00Z</cp:lastPrinted>
  <dcterms:modified xsi:type="dcterms:W3CDTF">2014-06-03T13:56:14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