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5D373-23D0-4266-8DA8-05DCB5CB8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772440"/>
            <a:ext cx="822960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10B6A-3751-4BA0-8873-F20CF7DCE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1580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196640"/>
            <a:ext cx="401580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772440"/>
            <a:ext cx="401580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772440"/>
            <a:ext cx="401580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67F95-41B8-4DAF-B4E1-A237F0A4B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4960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196640"/>
            <a:ext cx="264960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196640"/>
            <a:ext cx="264960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772440"/>
            <a:ext cx="264960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772440"/>
            <a:ext cx="264960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772440"/>
            <a:ext cx="264960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6BF14-A62F-43BD-8DB1-0B46B2363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FA023-E589-45B6-9D85-E76FFB9CD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229600" cy="493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A6EE1-DEFF-4513-8E3B-D8E140881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93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96DBC-564A-46E5-8E8F-170C532B7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15800" cy="493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196640"/>
            <a:ext cx="4015800" cy="493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676BD-4E1C-43BF-A95A-203E0CC96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80989-5DFF-4C1B-B89C-E3D4CF298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5760"/>
            <a:ext cx="8229600" cy="39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A0ACB-FF81-4EE8-98C4-305E6431D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1580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196640"/>
            <a:ext cx="4015800" cy="493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772440"/>
            <a:ext cx="401580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F58D5-7552-4D22-8A95-A14FF3A7B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229600" cy="493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CD09B-DB79-4269-AB2D-0732395FC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15800" cy="493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196640"/>
            <a:ext cx="401580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772440"/>
            <a:ext cx="401580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B16D9-6363-4E31-82D6-8DF170120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1580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196640"/>
            <a:ext cx="401580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772440"/>
            <a:ext cx="822960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1C7D9-5B32-41CF-8E30-F772EFEF4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772440"/>
            <a:ext cx="822960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5B9A3-BF53-4C3C-BD70-97F04F318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1580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196640"/>
            <a:ext cx="401580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772440"/>
            <a:ext cx="401580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772440"/>
            <a:ext cx="401580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B3F5F-B1AC-4B40-9D71-E39DBDADF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4960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196640"/>
            <a:ext cx="264960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196640"/>
            <a:ext cx="264960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772440"/>
            <a:ext cx="264960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772440"/>
            <a:ext cx="264960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772440"/>
            <a:ext cx="264960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714F7-0C5F-44EB-8423-E2D77D442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93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992DD-CBA3-467D-8BA4-232A2DC3E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15800" cy="493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196640"/>
            <a:ext cx="4015800" cy="493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D9D9A-204A-43EA-A074-EB5730077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23E23-3E8B-4A9B-B295-3F370435C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5760"/>
            <a:ext cx="8229600" cy="39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F0D93-9542-4FEB-9088-0987242D4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1580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196640"/>
            <a:ext cx="4015800" cy="493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772440"/>
            <a:ext cx="401580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F05A7-80EA-4F34-904F-8A38B6892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15800" cy="493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96640"/>
            <a:ext cx="401580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772440"/>
            <a:ext cx="401580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67907-A396-4A38-A6D4-7EF5ACB37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1580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96640"/>
            <a:ext cx="401580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72440"/>
            <a:ext cx="822960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0DF26-EAAA-49CB-B6C9-F395E3CC7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1" descr="Sermon_Powerpoint_26_by_jedskie"/>
          <p:cNvPicPr/>
          <p:nvPr/>
        </p:nvPicPr>
        <p:blipFill>
          <a:blip r:embed="rId2"/>
          <a:srcRect l="0" t="49740" r="0" b="0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229600" cy="493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ABDF9-A9B1-49A7-B29A-73E61C4FEB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图片 1" descr="Sermon_Powerpoint_26_by_jedskie"/>
          <p:cNvPicPr/>
          <p:nvPr/>
        </p:nvPicPr>
        <p:blipFill>
          <a:blip r:embed="rId2"/>
          <a:srcRect l="0" t="0" r="0" b="49824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4360" y="692280"/>
            <a:ext cx="7772400" cy="11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BC7AE-358F-4111-B26D-C91BB1ECCA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34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2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4360" y="692280"/>
            <a:ext cx="7772400" cy="11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84360" y="1844640"/>
            <a:ext cx="64008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630864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93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84440" y="5950080"/>
            <a:ext cx="56332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2850"/>
                </a:solidFill>
                <a:uFillTx/>
                <a:latin typeface="楷体"/>
                <a:ea typeface="楷体"/>
                <a:hlinkClick r:id="rId1"/>
              </a:rPr>
              <a:t>PPT之家</a:t>
            </a:r>
            <a:r>
              <a:rPr b="1" lang="zh-CN" sz="1800" spc="-1" strike="noStrike">
                <a:solidFill>
                  <a:srgbClr val="1c1c1c"/>
                </a:solidFill>
                <a:latin typeface="楷体"/>
                <a:ea typeface="楷体"/>
              </a:rPr>
              <a:t>整理发布，更多免费</a:t>
            </a:r>
            <a:r>
              <a:rPr b="1" lang="zh-CN" sz="1800" spc="-1" strike="noStrike">
                <a:solidFill>
                  <a:srgbClr val="1c1c1c"/>
                </a:solidFill>
                <a:latin typeface="楷体"/>
                <a:ea typeface="楷体"/>
              </a:rPr>
              <a:t>PPT</a:t>
            </a:r>
            <a:r>
              <a:rPr b="1" lang="zh-CN" sz="1800" spc="-1" strike="noStrike">
                <a:solidFill>
                  <a:srgbClr val="1c1c1c"/>
                </a:solidFill>
                <a:latin typeface="楷体"/>
                <a:ea typeface="楷体"/>
              </a:rPr>
              <a:t>模板下载请访问：</a:t>
            </a:r>
            <a:r>
              <a:rPr b="1" lang="zh-CN" sz="1800" spc="-1" strike="noStrike">
                <a:solidFill>
                  <a:srgbClr val="1c1c1c"/>
                </a:solidFill>
                <a:latin typeface="楷体"/>
                <a:ea typeface="楷体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91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2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2850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2850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2850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6T17:14:14Z</dcterms:created>
  <dc:creator/>
  <dc:description/>
  <dc:language>en-US</dc:language>
  <cp:lastModifiedBy/>
  <cp:lastPrinted>1899-12-30T00:00:00Z</cp:lastPrinted>
  <dcterms:modified xsi:type="dcterms:W3CDTF">2014-05-18T10:15:41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</Properties>
</file>