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BEC-413F-439E-945D-659DCE96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82D-3062-4C2D-9DEE-A9D8A6D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60F-1A59-45DB-A6CA-74FE331B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BBD-F2A7-4DC2-B34C-19D6A847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9EA-7AB0-4D09-A565-9910BE6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9B5-4ED1-476B-9E50-FFA19C6E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7AA-61FA-4510-93F3-E570A6CF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07C-6FDD-4D12-82D6-F841107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2CE-A753-4FA4-974A-622B6BF5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B84-0F99-4BB2-819E-C6BA09F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812-D855-4FB9-9314-36790D2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365-2E9D-4E7F-B796-DB35974D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2313-AAE1-42F3-8FD7-BAF1E7A2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03280" y="3501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1:04:47Z</dcterms:created>
  <dc:creator>FiSh</dc:creator>
  <dc:description/>
  <dc:language>en-US</dc:language>
  <cp:lastModifiedBy>FiSh</cp:lastModifiedBy>
  <dcterms:modified xsi:type="dcterms:W3CDTF">2015-01-11T14:06:46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