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612-4D74-45DB-9D43-1CBB3818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1F0-3C53-4535-8AA0-14C94C0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7F8B7-1811-4E3D-8532-F73951EF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8E983-2ECD-418B-B7F5-9267ED61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94FA1-9F8D-4579-B3CD-31232575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824A2-6E2D-4BD1-B8AD-39EA285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116E1-68A9-4E88-A2CA-0AFA7661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58E3D-068D-4E50-A01C-346D4D2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B0A60-DA33-46DA-9F7E-2C306829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721CC-8542-4CAF-9B4B-5AE0A9B6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0C5ED-92C0-4AE3-846F-87A00716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59308-7E35-4A07-8C8F-CAFE4F07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698-1E42-4F25-BB89-E4F4277D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DEB69-85A3-402F-9CE7-D5D3FEDF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8C900-37D2-49ED-BD2D-39CC85E4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520C8-5A41-4E5B-9A36-05DA9D05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B44F6-22C4-480E-9CC3-1D89690F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5F43E-1C26-4304-A1AC-B60FF265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96689-F8B4-482A-85DF-3E8C86AA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25BCB-F822-4DED-AEED-99BCD35A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6D127-5524-4415-AFD8-00DFC779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58F61-3539-4D8A-A30A-0E3BFBE7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97684-A17A-49DD-A17C-AC98536F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D1A-60A9-4F60-9DBA-87262ED5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37F84-ACF8-440A-952C-2744A37F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F9A65-4E83-45B6-BAF7-BD445F85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49572-AFF7-49E3-83B6-76FEED4A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B9318-78DE-48D3-826A-1C60C93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F28EB-585B-45EF-913A-7C45B897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9C498-0317-412E-ABAD-B824D20A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0F0A3-4045-49BC-A400-112B34F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84A98-2CE4-42D1-9669-6203B62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39D2B-FB38-462D-8A79-51C38FD2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9DCCB-36D0-43CB-809D-BF700C4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45BA-4289-4D80-8FDB-A83D22E8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91A39-A54C-4C24-B63B-067D133A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535EA-7D49-437F-B226-AC328FF8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4E900-F632-4F3C-9500-5FD96E25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3153F-81AF-4B3A-B967-B88C3D13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6E0AF-F33F-44AD-8E73-15A49A1D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F41C3-1830-4ED2-B835-48F90D94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F0994-0F80-4F8F-B8DE-404EEF86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23C4F-FDC2-49C3-AA71-77F2EBE6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58D49-8222-43D5-9357-D7934318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9087D-AF63-4D63-A01C-1A5EF54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3CF0-7489-4905-8B2F-C79C457A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43642-D87C-4EE4-BBF1-303413EE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E02B5-63A6-4EB6-ADEF-1E091ED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509D8-E389-492A-8EDD-03A55B72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9DBA2-8103-4085-B9A4-0E3F7367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13634-2780-4DDE-AE94-1C5B2CD2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24669-8430-4867-BB63-D414988C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E1C6A-D64B-4A7A-8C96-97F441D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BA7F4-BCAF-4FE2-B69A-26297B85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83363-8085-453C-AC1B-F487820B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D9DFE-9A02-45D6-ACD1-F59EE17A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FAFA-DAFC-4773-ACB9-589F9710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AE57D-D8DB-48BE-92F5-AB2B87D6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E18D0-F9AD-47FC-B1D1-8ABF887B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8B611-0F0F-4E3F-B29D-DC53B3C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CACD3-E5A8-4AC5-9808-3D51201D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91465-C5A5-4927-9993-DC726B44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5328C-E7D9-41A1-B762-ADF130D4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EE7D1-D893-4209-A120-436A7431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DBA9-6DFB-47EB-8F6E-418EB8CA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D1B-E5F5-487F-85B0-547743F8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EB82-64BE-4AE8-BAFA-F29BD915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8B4E-3807-4708-B76C-3267514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7D2-173C-43E1-8E6D-8C89573E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F37A-FFCD-4504-B326-E7F1EF99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81F9-0E1E-4AB8-AC77-26C5F02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35E9-1BB4-4052-889A-A07F1E4C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3E84-0C80-413F-B0AB-47B6199E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D72B-08EC-41F5-AD54-3EC6313B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80AD-9595-4E67-9C2C-256AF8E6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B6E1-5935-44D0-BD1F-7A7B5370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CDF5-6623-4D54-B1CF-FB0726D8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D94F-E314-478B-8DBB-6BA6A7F6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ADAC-69EB-45BF-8CA3-54F360B7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A6D-829C-415A-9BBA-BF049E1C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E142-CE96-4C24-93EB-248366B8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6C0C-D4EE-4EDA-B08D-E64B25CD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17803-EEBE-479D-AAE8-EB456D7C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1C7C-0C71-4ABB-B926-ABAD443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46BE-43D1-479C-B8B4-9481E0B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E391-10EB-493E-B39F-5FB82667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0F4C9-C9F7-4F83-8DF6-419D398F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8826-55C3-4E54-B0B0-95748E9F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A0E6D-41E5-4F4E-99ED-8C669DBC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F4988-22E4-4B97-BC29-BFE6AD05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012-EA6D-4C79-9D10-09AC4117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FA484-F747-4F06-8544-BDA5173D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C353-AD7E-4471-8685-7DA95120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376F-12C7-4AFC-86FB-03D2F111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5FC4-7466-47AF-8D39-9927E287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4935A-FC14-4BBA-8C16-8F5640B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BF66-B741-412C-ADCD-1321851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DD63B-D016-49C7-A02A-0E268ED5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6D76A-D468-4D6D-AE72-0C5A481D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5DDAF-750D-414A-BD69-9E200E99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917B1-80AB-409B-A24B-501FB357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222-1A42-49FC-8A18-96215FC2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A0A0-7E0B-4C8D-BDEA-E23BE77C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29748-ED9F-4B32-96F2-119ECFBF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AF49A-B801-40CD-B430-DF059EC0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ABB2-384D-430D-B088-7EAC01E6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2AF9-DDCF-4122-9CB9-D09D5171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93D39-3C6D-40CF-AAAC-B5E892B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305E0-C8A8-4FDB-B7D0-57B634D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DFBF4-7AE8-4F74-BE71-3D558C8C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F9080-72A6-4F6A-9D5D-CC624F3A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DECBD-27A8-4507-9AB5-DC272774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AD7-5EFB-4437-8A89-9CF9E087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BBC2B-FF8E-4D75-8972-21473342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A7D05-2BAE-4C57-8393-5D34CB60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1A7A9-87BB-48B5-9D3D-717CC10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965BB-0764-4A93-9C77-6EE808F0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23983-4084-4A4A-8A3C-60613FEB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56560-10FC-4646-9F9E-66FD9CD9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8DB7-9BA2-4CDD-B8DB-94EB5C6F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A66F8-34A9-4DA3-AD09-08502BC7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A4541-8179-4C02-81DE-46430A09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DE218-2983-4CC0-ABAD-4034752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C98-437E-4276-BB6F-CAD1A78A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8F027-A97A-4B79-969D-E29650AC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CEC3-BEEA-4590-82FA-FD783E06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04C09-E813-4555-8CBA-9BAE028B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3921-A1C4-4C9C-96C1-45F370DE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D852-62CC-4110-BF3B-2EEEE5CD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FCDD8-5035-4A28-A684-AD2A927A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3561-0FB6-401E-A5E6-6B41E02D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BC70-1E6D-4567-96E9-203425DD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89AA7-5722-4F48-A16F-93A43048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6072-4AF6-41E7-A4BC-BC82F601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BED-194F-4468-A060-E0B2602C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A6AB-08E9-4624-B312-43F9698A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DD47-2E6F-447B-8CE0-D9536CC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DF9C0-DE0F-4DFD-9E3B-A03504D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44DE-D6CD-4F0F-87E9-B3A48A1E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65D81-A9C9-4013-A26C-DFDD5D8C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149EF-3E1D-4051-8ED3-9914360F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2017E-036A-4324-BA8D-507869DD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DDDBA-B9E5-4508-9AB2-FA496DBF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1573F-4D12-4CE2-888B-C9001330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E12E5-5F3B-421B-8257-E1DA497A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CFE-AE00-40B3-9B33-4D73642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B9AD-382D-457A-89C6-1612797B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BC639-6CBA-4A43-B3B3-769DE8A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3EE59-268C-45B7-AFDB-AB7A6F01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5D071-89DC-411B-B9C6-C075838F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6623A-A8A3-4035-9CE3-89FD2426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B4E3-F642-4256-8C12-C60FCB3D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AF037-9CCC-48E3-9DB7-11766482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FBF38-48AB-4CB4-BC08-F96E71AD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2A988-2010-4729-8D73-11066B99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47613-3C48-43CF-BAA9-44D29953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6AB3-7943-4C33-902C-59D2B3E42E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48AE-8B9E-4FB0-9931-69B9DC07CC5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8B56-FA9C-4474-812E-781E05B029A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5F47-61DE-476F-A568-63A9CCB672A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D59B-0AEA-42CE-91F1-10B0CB257F9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8596-7DA5-45B2-87A9-6B1C416BE02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C12B-9D99-407B-B479-33845E339D9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8B5E-238F-46DD-AC58-BCF68EDA0A9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6AE0-06A0-4D19-93AA-22DA93F308A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0D03-2210-43C0-8C3A-6959ACA0AA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8D96-254E-4FB7-9B25-24E4A7643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B55-B2F1-41B2-AF54-15C104AB38C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5123-2CE8-4232-ADFD-D6B019D34D3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092B-416B-4C6A-840A-0C80B5C11CA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C8DF-51DC-4353-BDFF-497DB2B449C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5032-A9F7-4088-8A39-BF8AD766004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0871-6C75-455B-859F-57F7ABDCA76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95A5-5705-425B-B5F6-BD5056A2F9D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FFF6-861B-4C86-A1BF-ED05F50CAAB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AA41-6196-4C47-BECD-E6F0F496A26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E8A6-A2E1-4A2A-935D-2A2780382A2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BA01-5E25-44FC-89DF-46250441599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C9CA-8F59-49C3-953B-EF21598B466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268-DFF9-4BB6-AA31-7731F8D4A63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BDD6-F49D-441A-AA06-58B200EBA81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6.png"/><Relationship Id="rId6" Type="http://schemas.openxmlformats.org/officeDocument/2006/relationships/image" Target="../media/image1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18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-1440" y="12600"/>
            <a:ext cx="12199680" cy="6851520"/>
            <a:chOff x="-1440" y="12600"/>
            <a:chExt cx="12199680" cy="6851520"/>
          </a:xfrm>
        </p:grpSpPr>
        <p:pic>
          <p:nvPicPr>
            <p:cNvPr id="534" name="TextBox 3" descr=""/>
            <p:cNvPicPr/>
            <p:nvPr/>
          </p:nvPicPr>
          <p:blipFill>
            <a:blip r:embed="rId1"/>
            <a:stretch/>
          </p:blipFill>
          <p:spPr>
            <a:xfrm>
              <a:off x="-1440" y="12600"/>
              <a:ext cx="12199680" cy="68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4"/>
            <p:cNvSpPr/>
            <p:nvPr/>
          </p:nvSpPr>
          <p:spPr>
            <a:xfrm>
              <a:off x="4680" y="17280"/>
              <a:ext cx="12186720" cy="68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Text Box 2"/>
          <p:cNvSpPr/>
          <p:nvPr/>
        </p:nvSpPr>
        <p:spPr>
          <a:xfrm>
            <a:off x="1884240" y="266544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2"/>
          <p:cNvSpPr/>
          <p:nvPr/>
        </p:nvSpPr>
        <p:spPr>
          <a:xfrm>
            <a:off x="0" y="0"/>
            <a:ext cx="12192120" cy="381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-1440" y="6381720"/>
            <a:ext cx="12212640" cy="482760"/>
            <a:chOff x="-1440" y="6381720"/>
            <a:chExt cx="12212640" cy="482760"/>
          </a:xfrm>
        </p:grpSpPr>
        <p:pic>
          <p:nvPicPr>
            <p:cNvPr id="539" name="TextBox 6" descr=""/>
            <p:cNvPicPr/>
            <p:nvPr/>
          </p:nvPicPr>
          <p:blipFill>
            <a:blip r:embed="rId3"/>
            <a:stretch/>
          </p:blipFill>
          <p:spPr>
            <a:xfrm>
              <a:off x="-1440" y="6381720"/>
              <a:ext cx="122126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 Box 9"/>
            <p:cNvSpPr/>
            <p:nvPr/>
          </p:nvSpPr>
          <p:spPr>
            <a:xfrm>
              <a:off x="4680" y="638964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1" name="图片 8" descr="ThemePictures.png"/>
          <p:cNvPicPr/>
          <p:nvPr/>
        </p:nvPicPr>
        <p:blipFill>
          <a:blip r:embed="rId4"/>
          <a:stretch/>
        </p:blipFill>
        <p:spPr>
          <a:xfrm>
            <a:off x="4351320" y="3159000"/>
            <a:ext cx="3200400" cy="3029040"/>
          </a:xfrm>
          <a:prstGeom prst="rect">
            <a:avLst/>
          </a:prstGeom>
          <a:ln w="0">
            <a:noFill/>
          </a:ln>
        </p:spPr>
      </p:pic>
      <p:pic>
        <p:nvPicPr>
          <p:cNvPr id="542" name="Text Box 2" descr=""/>
          <p:cNvPicPr/>
          <p:nvPr/>
        </p:nvPicPr>
        <p:blipFill>
          <a:blip r:embed="rId5"/>
          <a:stretch/>
        </p:blipFill>
        <p:spPr>
          <a:xfrm>
            <a:off x="-19080" y="6456240"/>
            <a:ext cx="2786040" cy="32868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9" descr="Title-img.png"/>
          <p:cNvPicPr/>
          <p:nvPr/>
        </p:nvPicPr>
        <p:blipFill>
          <a:blip r:embed="rId6"/>
          <a:stretch/>
        </p:blipFill>
        <p:spPr>
          <a:xfrm>
            <a:off x="3174840" y="1714680"/>
            <a:ext cx="5686560" cy="1600200"/>
          </a:xfrm>
          <a:prstGeom prst="rect">
            <a:avLst/>
          </a:prstGeom>
          <a:ln w="0">
            <a:noFill/>
          </a:ln>
        </p:spPr>
      </p:pic>
      <p:pic>
        <p:nvPicPr>
          <p:cNvPr id="544" name="Text Box 2" descr=""/>
          <p:cNvPicPr/>
          <p:nvPr/>
        </p:nvPicPr>
        <p:blipFill>
          <a:blip r:embed="rId7"/>
          <a:stretch/>
        </p:blipFill>
        <p:spPr>
          <a:xfrm>
            <a:off x="4011480" y="1249200"/>
            <a:ext cx="3980160" cy="762120"/>
          </a:xfrm>
          <a:prstGeom prst="rect">
            <a:avLst/>
          </a:prstGeom>
          <a:ln w="0">
            <a:noFill/>
          </a:ln>
        </p:spPr>
      </p:pic>
      <p:pic>
        <p:nvPicPr>
          <p:cNvPr id="545" name="Text Box 2" descr=""/>
          <p:cNvPicPr/>
          <p:nvPr/>
        </p:nvPicPr>
        <p:blipFill>
          <a:blip r:embed="rId8"/>
          <a:stretch/>
        </p:blipFill>
        <p:spPr>
          <a:xfrm>
            <a:off x="4486320" y="1944720"/>
            <a:ext cx="32986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-1440" y="-1440"/>
            <a:ext cx="12199680" cy="6846840"/>
            <a:chOff x="-1440" y="-1440"/>
            <a:chExt cx="12199680" cy="6846840"/>
          </a:xfrm>
        </p:grpSpPr>
        <p:pic>
          <p:nvPicPr>
            <p:cNvPr id="547" name="TextBox 3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1219968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 Box 4"/>
            <p:cNvSpPr/>
            <p:nvPr/>
          </p:nvSpPr>
          <p:spPr>
            <a:xfrm>
              <a:off x="4680" y="4680"/>
              <a:ext cx="12186720" cy="68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Text Box 2"/>
          <p:cNvSpPr/>
          <p:nvPr/>
        </p:nvSpPr>
        <p:spPr>
          <a:xfrm>
            <a:off x="673200" y="1041480"/>
            <a:ext cx="22194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77777"/>
                </a:solidFill>
                <a:latin typeface="微软雅黑"/>
                <a:ea typeface="微软雅黑"/>
              </a:rPr>
              <a:t>设计</a:t>
            </a:r>
            <a:r>
              <a:rPr b="0" lang="en-US" sz="2000" spc="-1" strike="noStrike">
                <a:solidFill>
                  <a:srgbClr val="777777"/>
                </a:solidFill>
                <a:latin typeface="微软雅黑"/>
                <a:ea typeface="微软雅黑"/>
              </a:rPr>
              <a:t>&amp;</a:t>
            </a:r>
            <a:r>
              <a:rPr b="0" lang="zh-CN" sz="3200" spc="-1" strike="noStrike">
                <a:solidFill>
                  <a:srgbClr val="777777"/>
                </a:solidFill>
                <a:latin typeface="微软雅黑"/>
                <a:ea typeface="微软雅黑"/>
              </a:rPr>
              <a:t>编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Design</a:t>
            </a:r>
            <a:r>
              <a:rPr b="0" lang="en-US" sz="1400" spc="-1" strike="noStrike">
                <a:solidFill>
                  <a:srgbClr val="777777"/>
                </a:solidFill>
                <a:latin typeface="Arial"/>
                <a:ea typeface="Arial"/>
              </a:rPr>
              <a:t>&amp;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Co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1440" y="-55440"/>
            <a:ext cx="12212640" cy="579240"/>
            <a:chOff x="-1440" y="-55440"/>
            <a:chExt cx="12212640" cy="579240"/>
          </a:xfrm>
        </p:grpSpPr>
        <p:pic>
          <p:nvPicPr>
            <p:cNvPr id="551" name="TextBox 2" descr=""/>
            <p:cNvPicPr/>
            <p:nvPr/>
          </p:nvPicPr>
          <p:blipFill>
            <a:blip r:embed="rId2"/>
            <a:stretch/>
          </p:blipFill>
          <p:spPr>
            <a:xfrm>
              <a:off x="-1440" y="-55440"/>
              <a:ext cx="1221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8"/>
            <p:cNvSpPr/>
            <p:nvPr/>
          </p:nvSpPr>
          <p:spPr>
            <a:xfrm>
              <a:off x="4680" y="-52200"/>
              <a:ext cx="122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Group 9"/>
          <p:cNvGrpSpPr/>
          <p:nvPr/>
        </p:nvGrpSpPr>
        <p:grpSpPr>
          <a:xfrm>
            <a:off x="-1440" y="6419880"/>
            <a:ext cx="12212640" cy="474480"/>
            <a:chOff x="-1440" y="6419880"/>
            <a:chExt cx="12212640" cy="474480"/>
          </a:xfrm>
        </p:grpSpPr>
        <p:pic>
          <p:nvPicPr>
            <p:cNvPr id="554" name="TextBox 6" descr=""/>
            <p:cNvPicPr/>
            <p:nvPr/>
          </p:nvPicPr>
          <p:blipFill>
            <a:blip r:embed="rId3"/>
            <a:stretch/>
          </p:blipFill>
          <p:spPr>
            <a:xfrm>
              <a:off x="-1440" y="6419880"/>
              <a:ext cx="12212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1"/>
            <p:cNvSpPr/>
            <p:nvPr/>
          </p:nvSpPr>
          <p:spPr>
            <a:xfrm>
              <a:off x="4680" y="642276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6" name="图片 10" descr="Directory-bg.png"/>
          <p:cNvPicPr/>
          <p:nvPr/>
        </p:nvPicPr>
        <p:blipFill>
          <a:blip r:embed="rId4"/>
          <a:stretch/>
        </p:blipFill>
        <p:spPr>
          <a:xfrm>
            <a:off x="209520" y="-28440"/>
            <a:ext cx="800280" cy="957240"/>
          </a:xfrm>
          <a:prstGeom prst="rect">
            <a:avLst/>
          </a:prstGeom>
          <a:ln w="0">
            <a:noFill/>
          </a:ln>
        </p:spPr>
      </p:pic>
      <p:sp>
        <p:nvSpPr>
          <p:cNvPr id="557" name="TextBox 11"/>
          <p:cNvSpPr/>
          <p:nvPr/>
        </p:nvSpPr>
        <p:spPr>
          <a:xfrm>
            <a:off x="225360" y="13644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图片 13" descr="Shading.png"/>
          <p:cNvPicPr/>
          <p:nvPr/>
        </p:nvPicPr>
        <p:blipFill>
          <a:blip r:embed="rId5"/>
          <a:stretch/>
        </p:blipFill>
        <p:spPr>
          <a:xfrm>
            <a:off x="631800" y="2560680"/>
            <a:ext cx="2247840" cy="234936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Design_bg.png"/>
          <p:cNvPicPr/>
          <p:nvPr/>
        </p:nvPicPr>
        <p:blipFill>
          <a:blip r:embed="rId6"/>
          <a:stretch/>
        </p:blipFill>
        <p:spPr>
          <a:xfrm>
            <a:off x="3144960" y="1989000"/>
            <a:ext cx="5581440" cy="8002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15" descr="Coding_bg.png"/>
          <p:cNvPicPr/>
          <p:nvPr/>
        </p:nvPicPr>
        <p:blipFill>
          <a:blip r:embed="rId7"/>
          <a:stretch/>
        </p:blipFill>
        <p:spPr>
          <a:xfrm>
            <a:off x="3144960" y="2903400"/>
            <a:ext cx="5581440" cy="80028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16" descr="Format_bg.png"/>
          <p:cNvPicPr/>
          <p:nvPr/>
        </p:nvPicPr>
        <p:blipFill>
          <a:blip r:embed="rId8"/>
          <a:stretch/>
        </p:blipFill>
        <p:spPr>
          <a:xfrm>
            <a:off x="3168720" y="3817800"/>
            <a:ext cx="5581440" cy="80028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17" descr="Browser_bg.png"/>
          <p:cNvPicPr/>
          <p:nvPr/>
        </p:nvPicPr>
        <p:blipFill>
          <a:blip r:embed="rId9"/>
          <a:stretch/>
        </p:blipFill>
        <p:spPr>
          <a:xfrm>
            <a:off x="3168720" y="4743360"/>
            <a:ext cx="5581440" cy="80028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8"/>
          <p:cNvSpPr/>
          <p:nvPr/>
        </p:nvSpPr>
        <p:spPr>
          <a:xfrm>
            <a:off x="4803840" y="2038320"/>
            <a:ext cx="662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视觉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Photoshop  &amp;  Fireworks  &amp;  Illustrator  &amp;  Flash  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1"/>
          <p:cNvSpPr/>
          <p:nvPr/>
        </p:nvSpPr>
        <p:spPr>
          <a:xfrm>
            <a:off x="4808520" y="2967120"/>
            <a:ext cx="7983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编码开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Dreamweaver  &amp;  Textmate  &amp;  Coda  &amp;  CSSEdit  &amp;  Espresso 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4"/>
          <p:cNvSpPr/>
          <p:nvPr/>
        </p:nvSpPr>
        <p:spPr>
          <a:xfrm>
            <a:off x="4808520" y="3873600"/>
            <a:ext cx="7383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编码类型</a:t>
            </a:r>
            <a:r>
              <a:rPr b="0" lang="en-US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&amp;</a:t>
            </a: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文件格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tml  &amp;  js  &amp; CSS  &amp; Swf  &amp;  Png  &amp; Gif  &amp;Jpg  &amp; Bmp  &amp; Ico  ...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7"/>
          <p:cNvSpPr/>
          <p:nvPr/>
        </p:nvSpPr>
        <p:spPr>
          <a:xfrm>
            <a:off x="4832280" y="4768920"/>
            <a:ext cx="7248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浏览器测试</a:t>
            </a:r>
            <a:r>
              <a:rPr b="0" lang="en-US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&amp;</a:t>
            </a: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调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IE   &amp;  Chrome   &amp;  Firefox   &amp;  Opera  &amp;  Safari   &amp;  firebug  ...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Text Box 2" descr=""/>
          <p:cNvPicPr/>
          <p:nvPr/>
        </p:nvPicPr>
        <p:blipFill>
          <a:blip r:embed="rId10"/>
          <a:stretch/>
        </p:blipFill>
        <p:spPr>
          <a:xfrm>
            <a:off x="-19080" y="6480000"/>
            <a:ext cx="2786040" cy="328680"/>
          </a:xfrm>
          <a:prstGeom prst="rect">
            <a:avLst/>
          </a:prstGeom>
          <a:ln w="0">
            <a:noFill/>
          </a:ln>
        </p:spPr>
      </p:pic>
      <p:pic>
        <p:nvPicPr>
          <p:cNvPr id="568" name="Text Box 2" descr=""/>
          <p:cNvPicPr/>
          <p:nvPr/>
        </p:nvPicPr>
        <p:blipFill>
          <a:blip r:embed="rId11"/>
          <a:stretch/>
        </p:blipFill>
        <p:spPr>
          <a:xfrm>
            <a:off x="8381880" y="-38160"/>
            <a:ext cx="38293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-1440"/>
            <a:ext cx="12204720" cy="6846840"/>
            <a:chOff x="0" y="-1440"/>
            <a:chExt cx="12204720" cy="6846840"/>
          </a:xfrm>
        </p:grpSpPr>
        <p:pic>
          <p:nvPicPr>
            <p:cNvPr id="570" name="TextBox 3" descr=""/>
            <p:cNvPicPr/>
            <p:nvPr/>
          </p:nvPicPr>
          <p:blipFill>
            <a:blip r:embed="rId1"/>
            <a:stretch/>
          </p:blipFill>
          <p:spPr>
            <a:xfrm>
              <a:off x="0" y="-1440"/>
              <a:ext cx="1220472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4"/>
            <p:cNvSpPr/>
            <p:nvPr/>
          </p:nvSpPr>
          <p:spPr>
            <a:xfrm>
              <a:off x="4680" y="4680"/>
              <a:ext cx="12192120" cy="68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2" name="图片 5" descr="test3-bg.png"/>
          <p:cNvPicPr/>
          <p:nvPr/>
        </p:nvPicPr>
        <p:blipFill>
          <a:blip r:embed="rId2"/>
          <a:stretch/>
        </p:blipFill>
        <p:spPr>
          <a:xfrm>
            <a:off x="3289320" y="501480"/>
            <a:ext cx="5460840" cy="532296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6"/>
          <p:cNvGrpSpPr/>
          <p:nvPr/>
        </p:nvGrpSpPr>
        <p:grpSpPr>
          <a:xfrm>
            <a:off x="-1440" y="-55440"/>
            <a:ext cx="12212640" cy="579240"/>
            <a:chOff x="-1440" y="-55440"/>
            <a:chExt cx="12212640" cy="579240"/>
          </a:xfrm>
        </p:grpSpPr>
        <p:pic>
          <p:nvPicPr>
            <p:cNvPr id="574" name="TextBox 2" descr=""/>
            <p:cNvPicPr/>
            <p:nvPr/>
          </p:nvPicPr>
          <p:blipFill>
            <a:blip r:embed="rId3"/>
            <a:stretch/>
          </p:blipFill>
          <p:spPr>
            <a:xfrm>
              <a:off x="-1440" y="-55440"/>
              <a:ext cx="1221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8"/>
            <p:cNvSpPr/>
            <p:nvPr/>
          </p:nvSpPr>
          <p:spPr>
            <a:xfrm>
              <a:off x="4680" y="-52200"/>
              <a:ext cx="122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6" name="Group 9"/>
          <p:cNvGrpSpPr/>
          <p:nvPr/>
        </p:nvGrpSpPr>
        <p:grpSpPr>
          <a:xfrm>
            <a:off x="-1440" y="6419880"/>
            <a:ext cx="12212640" cy="474480"/>
            <a:chOff x="-1440" y="6419880"/>
            <a:chExt cx="12212640" cy="474480"/>
          </a:xfrm>
        </p:grpSpPr>
        <p:pic>
          <p:nvPicPr>
            <p:cNvPr id="577" name="TextBox 6" descr=""/>
            <p:cNvPicPr/>
            <p:nvPr/>
          </p:nvPicPr>
          <p:blipFill>
            <a:blip r:embed="rId4"/>
            <a:stretch/>
          </p:blipFill>
          <p:spPr>
            <a:xfrm>
              <a:off x="-1440" y="6419880"/>
              <a:ext cx="12212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1"/>
            <p:cNvSpPr/>
            <p:nvPr/>
          </p:nvSpPr>
          <p:spPr>
            <a:xfrm>
              <a:off x="4680" y="642276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图片 10" descr="Directory-bg.png"/>
          <p:cNvPicPr/>
          <p:nvPr/>
        </p:nvPicPr>
        <p:blipFill>
          <a:blip r:embed="rId5"/>
          <a:stretch/>
        </p:blipFill>
        <p:spPr>
          <a:xfrm>
            <a:off x="209520" y="-28440"/>
            <a:ext cx="800280" cy="9572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1"/>
          <p:cNvSpPr/>
          <p:nvPr/>
        </p:nvSpPr>
        <p:spPr>
          <a:xfrm>
            <a:off x="282600" y="13644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11"/>
          <p:cNvSpPr/>
          <p:nvPr/>
        </p:nvSpPr>
        <p:spPr>
          <a:xfrm>
            <a:off x="0" y="2027160"/>
            <a:ext cx="12192120" cy="24843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图片 10" descr="label-bg.png"/>
          <p:cNvPicPr/>
          <p:nvPr/>
        </p:nvPicPr>
        <p:blipFill>
          <a:blip r:embed="rId7"/>
          <a:stretch/>
        </p:blipFill>
        <p:spPr>
          <a:xfrm>
            <a:off x="3098880" y="2362320"/>
            <a:ext cx="1795320" cy="1795320"/>
          </a:xfrm>
          <a:prstGeom prst="rect">
            <a:avLst/>
          </a:prstGeom>
          <a:ln w="0">
            <a:noFill/>
          </a:ln>
        </p:spPr>
      </p:pic>
      <p:pic>
        <p:nvPicPr>
          <p:cNvPr id="583" name="Text Box 2" descr=""/>
          <p:cNvPicPr/>
          <p:nvPr/>
        </p:nvPicPr>
        <p:blipFill>
          <a:blip r:embed="rId8"/>
          <a:stretch/>
        </p:blipFill>
        <p:spPr>
          <a:xfrm>
            <a:off x="4784760" y="2468520"/>
            <a:ext cx="3548160" cy="1420920"/>
          </a:xfrm>
          <a:prstGeom prst="rect">
            <a:avLst/>
          </a:prstGeom>
          <a:ln w="0">
            <a:noFill/>
          </a:ln>
        </p:spPr>
      </p:pic>
      <p:sp>
        <p:nvSpPr>
          <p:cNvPr id="584" name="文本框 4"/>
          <p:cNvSpPr/>
          <p:nvPr/>
        </p:nvSpPr>
        <p:spPr>
          <a:xfrm>
            <a:off x="3205080" y="29304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6c93"/>
                </a:solidFill>
                <a:latin typeface="Swiss921 BT"/>
                <a:ea typeface="Gungsuh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Text Box 2" descr=""/>
          <p:cNvPicPr/>
          <p:nvPr/>
        </p:nvPicPr>
        <p:blipFill>
          <a:blip r:embed="rId9"/>
          <a:stretch/>
        </p:blipFill>
        <p:spPr>
          <a:xfrm>
            <a:off x="8381880" y="-38160"/>
            <a:ext cx="3829320" cy="439920"/>
          </a:xfrm>
          <a:prstGeom prst="rect">
            <a:avLst/>
          </a:prstGeom>
          <a:ln w="0">
            <a:noFill/>
          </a:ln>
        </p:spPr>
      </p:pic>
      <p:pic>
        <p:nvPicPr>
          <p:cNvPr id="586" name="Text Box 2" descr=""/>
          <p:cNvPicPr/>
          <p:nvPr/>
        </p:nvPicPr>
        <p:blipFill>
          <a:blip r:embed="rId10"/>
          <a:stretch/>
        </p:blipFill>
        <p:spPr>
          <a:xfrm>
            <a:off x="-19080" y="6480000"/>
            <a:ext cx="27860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-1440" y="-1440"/>
            <a:ext cx="12199680" cy="6846840"/>
            <a:chOff x="-1440" y="-1440"/>
            <a:chExt cx="12199680" cy="6846840"/>
          </a:xfrm>
        </p:grpSpPr>
        <p:pic>
          <p:nvPicPr>
            <p:cNvPr id="588" name="TextBox 3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1219968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4"/>
            <p:cNvSpPr/>
            <p:nvPr/>
          </p:nvSpPr>
          <p:spPr>
            <a:xfrm>
              <a:off x="4680" y="4680"/>
              <a:ext cx="12186720" cy="68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Group 5"/>
          <p:cNvGrpSpPr/>
          <p:nvPr/>
        </p:nvGrpSpPr>
        <p:grpSpPr>
          <a:xfrm>
            <a:off x="-1440" y="-55440"/>
            <a:ext cx="12212640" cy="579240"/>
            <a:chOff x="-1440" y="-55440"/>
            <a:chExt cx="12212640" cy="579240"/>
          </a:xfrm>
        </p:grpSpPr>
        <p:pic>
          <p:nvPicPr>
            <p:cNvPr id="591" name="TextBox 2" descr=""/>
            <p:cNvPicPr/>
            <p:nvPr/>
          </p:nvPicPr>
          <p:blipFill>
            <a:blip r:embed="rId2"/>
            <a:stretch/>
          </p:blipFill>
          <p:spPr>
            <a:xfrm>
              <a:off x="-1440" y="-55440"/>
              <a:ext cx="1221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7"/>
            <p:cNvSpPr/>
            <p:nvPr/>
          </p:nvSpPr>
          <p:spPr>
            <a:xfrm>
              <a:off x="4680" y="-52200"/>
              <a:ext cx="122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3" name="Group 8"/>
          <p:cNvGrpSpPr/>
          <p:nvPr/>
        </p:nvGrpSpPr>
        <p:grpSpPr>
          <a:xfrm>
            <a:off x="-1440" y="6419880"/>
            <a:ext cx="12212640" cy="474480"/>
            <a:chOff x="-1440" y="6419880"/>
            <a:chExt cx="12212640" cy="474480"/>
          </a:xfrm>
        </p:grpSpPr>
        <p:pic>
          <p:nvPicPr>
            <p:cNvPr id="594" name="TextBox 6" descr=""/>
            <p:cNvPicPr/>
            <p:nvPr/>
          </p:nvPicPr>
          <p:blipFill>
            <a:blip r:embed="rId3"/>
            <a:stretch/>
          </p:blipFill>
          <p:spPr>
            <a:xfrm>
              <a:off x="-1440" y="6419880"/>
              <a:ext cx="12212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10"/>
            <p:cNvSpPr/>
            <p:nvPr/>
          </p:nvSpPr>
          <p:spPr>
            <a:xfrm>
              <a:off x="4680" y="642276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6" name="图片 10" descr="Directory-bg.png"/>
          <p:cNvPicPr/>
          <p:nvPr/>
        </p:nvPicPr>
        <p:blipFill>
          <a:blip r:embed="rId4"/>
          <a:stretch/>
        </p:blipFill>
        <p:spPr>
          <a:xfrm>
            <a:off x="209520" y="-28440"/>
            <a:ext cx="800280" cy="9572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11"/>
          <p:cNvSpPr/>
          <p:nvPr/>
        </p:nvSpPr>
        <p:spPr>
          <a:xfrm>
            <a:off x="282600" y="13644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1.</a:t>
            </a:r>
            <a:r>
              <a:rPr b="0" lang="en-US" sz="14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图片 13" descr="content-title_bg.png"/>
          <p:cNvPicPr/>
          <p:nvPr/>
        </p:nvPicPr>
        <p:blipFill>
          <a:blip r:embed="rId5"/>
          <a:stretch/>
        </p:blipFill>
        <p:spPr>
          <a:xfrm>
            <a:off x="0" y="835200"/>
            <a:ext cx="4762440" cy="1257120"/>
          </a:xfrm>
          <a:prstGeom prst="rect">
            <a:avLst/>
          </a:prstGeom>
          <a:ln w="0">
            <a:noFill/>
          </a:ln>
        </p:spPr>
      </p:pic>
      <p:pic>
        <p:nvPicPr>
          <p:cNvPr id="599" name="Text Box 2" descr=""/>
          <p:cNvPicPr/>
          <p:nvPr/>
        </p:nvPicPr>
        <p:blipFill>
          <a:blip r:embed="rId6"/>
          <a:stretch/>
        </p:blipFill>
        <p:spPr>
          <a:xfrm>
            <a:off x="817560" y="1122480"/>
            <a:ext cx="3662280" cy="5778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5"/>
          <p:cNvSpPr/>
          <p:nvPr/>
        </p:nvSpPr>
        <p:spPr>
          <a:xfrm>
            <a:off x="731880" y="2092320"/>
            <a:ext cx="964728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视觉设计的理论范畴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眼睛器官的生理分析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信号传递的生理分析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经验形成分析理论；其它感官对视觉的影响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心理学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与视觉科学的交叉学科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仿生学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与认知的关系研究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信息分析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科学展望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哲学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效率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错心理研究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强视觉途径研究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极端视觉的形态与意识影响分析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视觉设计的几个分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标志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人们可以获取大量信息，并很大程度地影响自己的生活观念和生活方式。分为政治性、公益性、文化性、商业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包装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对书籍的封面及排版等进行艺术化的设计，提高读者的阅读兴趣，从而加深对其思想性、文化性和知识性的认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字体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以特定的图形象征或代表某一国家、机构、团体、企业或产品的符号。简明、直观、易识别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图像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指运用视觉设计手段，通过标志的造型和特定的色彩等表现手法，使企业的经营理念、行为观念、管理特色、产品包装风格、营销准则与策略形成一种整体形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书籍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为达到有效传达企业特定信息的目的，对文字的笔画、结构、造型、色彩以及编排等方面进行一定的艺术处理，使其形成鲜明的个性，使人易认易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广告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各种手工或电脑的绘画手段或影像技术，以及利用复合方式进行创造性的图像设计，构思巧妙，表现独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Text Box 2" descr=""/>
          <p:cNvPicPr/>
          <p:nvPr/>
        </p:nvPicPr>
        <p:blipFill>
          <a:blip r:embed="rId7"/>
          <a:stretch/>
        </p:blipFill>
        <p:spPr>
          <a:xfrm>
            <a:off x="-19080" y="6480000"/>
            <a:ext cx="2786040" cy="328680"/>
          </a:xfrm>
          <a:prstGeom prst="rect">
            <a:avLst/>
          </a:prstGeom>
          <a:ln w="0">
            <a:noFill/>
          </a:ln>
        </p:spPr>
      </p:pic>
      <p:pic>
        <p:nvPicPr>
          <p:cNvPr id="602" name="Text Box 2" descr=""/>
          <p:cNvPicPr/>
          <p:nvPr/>
        </p:nvPicPr>
        <p:blipFill>
          <a:blip r:embed="rId8"/>
          <a:stretch/>
        </p:blipFill>
        <p:spPr>
          <a:xfrm>
            <a:off x="8381880" y="-38160"/>
            <a:ext cx="38293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-1440" y="-1440"/>
            <a:ext cx="12199680" cy="6846840"/>
            <a:chOff x="-1440" y="-1440"/>
            <a:chExt cx="12199680" cy="6846840"/>
          </a:xfrm>
        </p:grpSpPr>
        <p:pic>
          <p:nvPicPr>
            <p:cNvPr id="604" name="TextBox 3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1219968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4"/>
            <p:cNvSpPr/>
            <p:nvPr/>
          </p:nvSpPr>
          <p:spPr>
            <a:xfrm>
              <a:off x="4680" y="4680"/>
              <a:ext cx="12186720" cy="68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TextBox 12"/>
          <p:cNvSpPr/>
          <p:nvPr/>
        </p:nvSpPr>
        <p:spPr>
          <a:xfrm>
            <a:off x="0" y="2843280"/>
            <a:ext cx="12192120" cy="11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Group 6"/>
          <p:cNvGrpSpPr/>
          <p:nvPr/>
        </p:nvGrpSpPr>
        <p:grpSpPr>
          <a:xfrm>
            <a:off x="-1440" y="-55440"/>
            <a:ext cx="12212640" cy="579240"/>
            <a:chOff x="-1440" y="-55440"/>
            <a:chExt cx="12212640" cy="579240"/>
          </a:xfrm>
        </p:grpSpPr>
        <p:pic>
          <p:nvPicPr>
            <p:cNvPr id="608" name="TextBox 2" descr=""/>
            <p:cNvPicPr/>
            <p:nvPr/>
          </p:nvPicPr>
          <p:blipFill>
            <a:blip r:embed="rId3"/>
            <a:stretch/>
          </p:blipFill>
          <p:spPr>
            <a:xfrm>
              <a:off x="-1440" y="-55440"/>
              <a:ext cx="1221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8"/>
            <p:cNvSpPr/>
            <p:nvPr/>
          </p:nvSpPr>
          <p:spPr>
            <a:xfrm>
              <a:off x="4680" y="-52200"/>
              <a:ext cx="122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Group 9"/>
          <p:cNvGrpSpPr/>
          <p:nvPr/>
        </p:nvGrpSpPr>
        <p:grpSpPr>
          <a:xfrm>
            <a:off x="-1440" y="6419880"/>
            <a:ext cx="12212640" cy="474480"/>
            <a:chOff x="-1440" y="6419880"/>
            <a:chExt cx="12212640" cy="474480"/>
          </a:xfrm>
        </p:grpSpPr>
        <p:pic>
          <p:nvPicPr>
            <p:cNvPr id="611" name="TextBox 6" descr=""/>
            <p:cNvPicPr/>
            <p:nvPr/>
          </p:nvPicPr>
          <p:blipFill>
            <a:blip r:embed="rId4"/>
            <a:stretch/>
          </p:blipFill>
          <p:spPr>
            <a:xfrm>
              <a:off x="-1440" y="6419880"/>
              <a:ext cx="12212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 Box 11"/>
            <p:cNvSpPr/>
            <p:nvPr/>
          </p:nvSpPr>
          <p:spPr>
            <a:xfrm>
              <a:off x="4680" y="642276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21"/>
          <p:cNvSpPr/>
          <p:nvPr/>
        </p:nvSpPr>
        <p:spPr>
          <a:xfrm>
            <a:off x="1316160" y="2093760"/>
            <a:ext cx="9431280" cy="25196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图片 10" descr="Directory-bg.png"/>
          <p:cNvPicPr/>
          <p:nvPr/>
        </p:nvPicPr>
        <p:blipFill>
          <a:blip r:embed="rId6"/>
          <a:stretch/>
        </p:blipFill>
        <p:spPr>
          <a:xfrm>
            <a:off x="209520" y="-28440"/>
            <a:ext cx="800280" cy="957240"/>
          </a:xfrm>
          <a:prstGeom prst="rect">
            <a:avLst/>
          </a:prstGeom>
          <a:ln w="0">
            <a:noFill/>
          </a:ln>
        </p:spPr>
      </p:pic>
      <p:sp>
        <p:nvSpPr>
          <p:cNvPr id="615" name="TextBox 11"/>
          <p:cNvSpPr/>
          <p:nvPr/>
        </p:nvSpPr>
        <p:spPr>
          <a:xfrm>
            <a:off x="149400" y="13644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Text Box 2" descr=""/>
          <p:cNvPicPr/>
          <p:nvPr/>
        </p:nvPicPr>
        <p:blipFill>
          <a:blip r:embed="rId7"/>
          <a:stretch/>
        </p:blipFill>
        <p:spPr>
          <a:xfrm>
            <a:off x="4170240" y="3078000"/>
            <a:ext cx="1328760" cy="615960"/>
          </a:xfrm>
          <a:prstGeom prst="rect">
            <a:avLst/>
          </a:prstGeom>
          <a:ln w="0">
            <a:noFill/>
          </a:ln>
        </p:spPr>
      </p:pic>
      <p:pic>
        <p:nvPicPr>
          <p:cNvPr id="617" name="Text Box 2" descr=""/>
          <p:cNvPicPr/>
          <p:nvPr/>
        </p:nvPicPr>
        <p:blipFill>
          <a:blip r:embed="rId8"/>
          <a:stretch/>
        </p:blipFill>
        <p:spPr>
          <a:xfrm>
            <a:off x="6638760" y="3078000"/>
            <a:ext cx="1938600" cy="609840"/>
          </a:xfrm>
          <a:prstGeom prst="rect">
            <a:avLst/>
          </a:prstGeom>
          <a:ln w="0">
            <a:noFill/>
          </a:ln>
        </p:spPr>
      </p:pic>
      <p:pic>
        <p:nvPicPr>
          <p:cNvPr id="618" name="Text Box 2" descr=""/>
          <p:cNvPicPr/>
          <p:nvPr/>
        </p:nvPicPr>
        <p:blipFill>
          <a:blip r:embed="rId9"/>
          <a:stretch/>
        </p:blipFill>
        <p:spPr>
          <a:xfrm>
            <a:off x="8381880" y="-38160"/>
            <a:ext cx="3829320" cy="439920"/>
          </a:xfrm>
          <a:prstGeom prst="rect">
            <a:avLst/>
          </a:prstGeom>
          <a:ln w="0">
            <a:noFill/>
          </a:ln>
        </p:spPr>
      </p:pic>
      <p:pic>
        <p:nvPicPr>
          <p:cNvPr id="619" name="Text Box 2" descr=""/>
          <p:cNvPicPr/>
          <p:nvPr/>
        </p:nvPicPr>
        <p:blipFill>
          <a:blip r:embed="rId10"/>
          <a:stretch/>
        </p:blipFill>
        <p:spPr>
          <a:xfrm>
            <a:off x="-19080" y="6480000"/>
            <a:ext cx="27860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2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1T06:56:42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