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36A5-AC27-4B9B-AE0D-A3DDD5A4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4ACF-13B1-4257-B1EC-898CA25F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025DA-5AC1-4561-A193-A6F27E90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617DB-780B-4457-AFAD-864B4276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AE2EF-6F10-4F36-BE87-84A8257A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EF92F-FF50-4E48-9F20-4CEC24CB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D65F6-4C52-4599-98C1-1AC102CD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8E7C7-4B8D-4B34-AAC9-AE0377B2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B776C-93BA-48B3-9D5D-3A542C3B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D89C9-7D46-40D9-B327-EFE0547E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C1B7C-AA46-4DE0-AD83-075FA637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B6E39-732A-4F88-B701-3A93E0DA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07A-F2B4-460A-81F1-47FFD626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3617C-747B-495F-894F-D01D49CB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BBB99-3FBD-4E91-BB48-90EEC32B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69118-3FC9-40CE-B53A-AD1B4ECE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526DB-D760-4CDD-A04D-673C1758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A9FC0-5DBB-48B9-AEE2-C8091085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BF2E1-C43F-49EE-909F-5EB9D037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5D663-29B6-4FF9-A1E6-FEC9DFBB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4D753-1168-4AA7-A937-680F8477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9F33A-77F1-4284-97C8-55750118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BD718-8E84-4D15-B553-817AC1D8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7E67-D869-4883-BE99-83029F38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64C14-6A35-4624-9C73-149693F5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1A5B1-A05F-48AE-8F2D-7D44FA41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90D64-2DE0-4DB4-A775-EB04C304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FB17B-1560-41B3-934F-786459DD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DB7DC-9057-4FBB-BFC2-D17362A0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7BFFB-B609-4675-82B7-911E407B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86715-43FB-4BF6-8CFB-AD1F7BF7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12AC2-2923-45B6-93D9-B1DB7C80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2DB08-4489-4F04-8D92-7778664D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8F133-74EA-46E5-B632-3A304F96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0D6E-330F-4FE7-BFF5-F22EDF7C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E3983-0B1E-4C9A-A38E-08D6E848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EF385-E039-4213-B18F-10C45EE2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51347-1D15-44DA-A71A-FB32B2C2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2F6B1-9471-4BF1-A70C-2A7E31FD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D7CA3-A9A1-47D4-8693-C9AED378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924A1-BF21-4631-A494-6704B45E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A2ED9-29D5-4287-A27A-F4C7C7FA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72401-6B0E-406D-A407-445FF20B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3A648-AE8A-4028-85EE-49ADEE58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728D3-4F03-44D2-B43A-074C275D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8192-FA4D-4C84-A02B-B39B1C1A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AD277-3A16-4DE0-A894-76216A50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56C5F-0CA7-4B5F-BF11-BCA64DF3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EAFB2-0D20-4129-8F7E-1AAE26D3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2F8AB-C7CB-487F-A049-1633E345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E8916-AA91-4D8E-B1AD-3845FB7F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BF91BB-18A7-4008-846D-D47B6ABB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07C409-6C93-43A1-BEF8-07DC1E49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F18EA8-8F54-4ACF-8E87-9AC0CD20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3F033C-C199-4722-8521-7DDA8E94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8148FF-80C8-48CC-AB84-62E92D48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C659-5857-4080-8E82-FE44CD72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5DE7D3-31EA-4130-B983-50E93B97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BA843-F019-4475-B1B3-0F3686D6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6F7B73-3805-43FF-A3B1-F6891948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D8FDEB-3742-40A1-B09B-570FD4E8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08B963-3486-4AC8-9E92-51E830A3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981DDB-8C8E-45A9-AAE4-66F17929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F1203E-6720-4D44-BD7F-B149097A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304C-7D29-4D5C-B2CB-5C643AA5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B05D-EF47-402A-936E-54D6B59F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8641-19EA-45EC-80A6-EE55CAC7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D5DC-3ACE-4442-A3E0-575387D0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744A-D6B0-4571-AEF7-F6DACFD1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E574-BA46-4222-92F3-78BE79F6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80DF-636D-4E32-95F0-E4EA6AB1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1AD7-7404-43D7-96E0-3924BF85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71BE-A1E7-4F5B-9073-A66AC474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DC46-6956-4085-AA11-BD25F228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A6F19-6C59-437C-9CD2-931AEBC9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04A63-B821-4B8D-825D-D45847ED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2ADEB-CC65-48E9-8610-167472DF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5E76C-76D8-441B-8874-0977CFB3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4C737-2319-4CE3-8F26-EBB7A3DC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5533-E419-4F9C-A550-98BF26BD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7A2AD-BE80-4606-B430-6F77E065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953E9-9358-4CA5-8D0A-B90A3411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57802-B96A-4AE4-9472-8CAE302E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D8680-86F7-493C-9977-9E66C9D4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0A51F-C611-4F95-98F1-4E3A096D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7ACCB-997C-4FC5-B785-EB49A19C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30F0B-7667-4E26-952E-907551E7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7C628-CC4A-4FF1-B051-A22F01F8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3E3C8-9491-453A-B4FF-B482DF91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5F4DE-483F-4582-BADA-0EB771A6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42FC-8B91-4AD4-9635-FDA90F6F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B24A9-6B04-4186-AF2D-7BA48157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6568B-CB76-47F1-B8B4-E00867CA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28A9D-D080-403B-B6AD-57E07B54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6357A-EA10-4CDB-80D9-70769A21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1887E-BB29-4FA1-8A53-0FEB70E6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C7709-8593-491F-8683-D630FD45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173FB-B1F3-4AEB-869E-18B31FEC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E88C0-DCD1-4E7C-9E01-D11CEF62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0993C-149B-427B-9E6D-84452408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9C639-C91F-4CCF-BFCA-0810429A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2008-A04F-42C7-979F-07A0F06F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04A56-E8BD-49D8-AF40-917C7933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1FB46-0B84-4391-BC16-42BB261F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69EA0-E9CF-47B6-857C-368D4319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F6F5A-A98C-4E09-9953-753434E8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F96B0-5A5B-4F87-B9C9-CE1E13F2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64AC1-5BEF-4984-916D-2632CFF7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41612-3C44-4C82-A25C-207E25AC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DDD1E-67FB-4135-91FC-F15B76AA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D538E-0422-489A-9EA6-E3DF91CE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8B377-1770-47C9-B15E-EAE23F02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3046-0CF0-4D36-A436-9C9002C4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C6659-F3A8-45F2-8701-947BB458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B0997-8466-4AB2-9F35-69281088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FA220-F070-4244-805F-3B63087E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A3E54-8BF7-4315-B633-69C08EA4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E4DBA-2FFE-41C1-8D23-CCC29986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36430-1E2F-42AC-AB43-1B17A6DB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6FC15-E62F-4A15-99FB-6844D361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009A8-E363-4036-9182-306799FA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22F05-E3D6-4A65-BDEC-04FBAC79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241D7-28E4-446A-BEA5-58DD92EA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8E44-3E87-4687-A25F-E0180822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E7A26-CA4F-4B89-A801-E82A4909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97B68-09DF-456A-B8A2-05C04879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F48C3-501B-4F21-8E37-A2C99796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C59AD-5E4E-4889-B24F-51C7A83E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70228-F1EA-4D11-A15E-6EE2DDD3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F7FA5-F527-46D7-B2BB-1DC237E5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D5EA1-D8BE-48AE-B9B7-9961A5A5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3BF4F-A2CB-4FE0-AE36-063F2ACE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B974F-4EF2-49AA-8D28-313512B7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9FB45-FAB0-4D15-B622-E73FD49A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856F-1A9D-4866-8FEA-62FC1B89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B7C85-A256-4E4E-B1A4-A1FC365F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0A1F4-7782-4C9A-B24A-5D14595E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D988D-5BF7-4096-AF81-F926BA6F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27A05-6F2C-421A-9609-3196F99B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06E77-03D0-4A12-B4B0-3B92BC7B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4F9F1-71C6-45B3-992F-45560F9A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AA70F-E065-4C03-9CE4-5F75C9FF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04869-755D-4B9A-B3B2-F249185C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D7D9D-78FC-42F2-AC92-5C48C286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52277-7CFA-4AE2-BA69-950157E9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A66A-747F-4065-8B56-0F918524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79B5A-A0FB-42E1-86E6-ED1EE46B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D782B-E477-49F4-91BA-E7CBDCD2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04BDE-43CF-40DA-8E0E-788FDAE3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C6E47-D243-44CC-9B4C-6F74CDEC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54713-28E6-46F3-B5C0-83C8C80F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47614-6FB4-4DE2-A244-625B460EF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58DE0-F45A-4C9D-80C7-34CBBA06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0D0C1-46DB-4F14-BA65-CC3DA1C1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568A6-BE73-44BD-A7B0-89765760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7A9E2-4EAE-4109-96A7-7B8C4A59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4BAE-9EA0-4B60-8F31-7A768868F8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E3C4-CF71-49F1-B20A-124F66C55B5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8A66-5A7A-40CC-AD64-48945E4465B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103A-8DE5-4771-8928-9264265CCCA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7211-BE87-410B-899A-6B1E4FEDDDC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2BFD-B9B4-47FD-BC28-C568CCB89FD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01F0-F975-40D8-A6C7-48825C1EA6A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879F-1E4C-4704-967E-DCA515F65DE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D35E-9590-4C33-BA8E-8E921DC6E22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4DA5-19B1-43C3-B2CF-1D9D0CA1B59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A3CC-F5EF-4773-A53D-9941A2CF1F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8AC6-6028-4A75-B4BE-3B5B2AABDE2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E521-8179-4A8C-8A39-5F475B7174E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303D-17BB-4D90-AF54-AE2730AA58E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8C50-C5DC-4BDA-BCD7-6E2BF8E9F75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20DF-7AAD-4892-94AA-DBD2609BB42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F410-F2EB-4F69-8AA7-607DF912476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4CA2-4C4F-4C3D-A345-D9AAD17C111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2ABF-7C38-48CA-A0C6-6E76B474F57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DBDC-14ED-4E02-8675-17C351C9D70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B7B1-A011-4619-9650-A12FF82AF34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74CE-5698-4E3F-8FF2-EF609E6ACD4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9AA2-F7D8-4693-88AF-6770C88120D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932E-090D-4568-96B3-2E945B330D5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37DB-26BA-42D4-A8A9-F913861D40B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图片 6" descr="封面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TextBox 7"/>
          <p:cNvSpPr/>
          <p:nvPr/>
        </p:nvSpPr>
        <p:spPr>
          <a:xfrm>
            <a:off x="4327560" y="2889720"/>
            <a:ext cx="551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爱设计 爱生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8" descr="目录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Box 3"/>
          <p:cNvSpPr/>
          <p:nvPr/>
        </p:nvSpPr>
        <p:spPr>
          <a:xfrm>
            <a:off x="1557360" y="664920"/>
            <a:ext cx="552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7"/>
          <p:cNvSpPr/>
          <p:nvPr/>
        </p:nvSpPr>
        <p:spPr>
          <a:xfrm>
            <a:off x="1594440" y="101592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Arial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图片 9" descr="目录图标.png"/>
          <p:cNvPicPr/>
          <p:nvPr/>
        </p:nvPicPr>
        <p:blipFill>
          <a:blip r:embed="rId2"/>
          <a:stretch/>
        </p:blipFill>
        <p:spPr>
          <a:xfrm>
            <a:off x="3851280" y="1685880"/>
            <a:ext cx="4692600" cy="86688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10" descr="目录图标.png"/>
          <p:cNvPicPr/>
          <p:nvPr/>
        </p:nvPicPr>
        <p:blipFill>
          <a:blip r:embed="rId3"/>
          <a:stretch/>
        </p:blipFill>
        <p:spPr>
          <a:xfrm>
            <a:off x="3851280" y="2589120"/>
            <a:ext cx="4692600" cy="86688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11" descr="目录图标.png"/>
          <p:cNvPicPr/>
          <p:nvPr/>
        </p:nvPicPr>
        <p:blipFill>
          <a:blip r:embed="rId4"/>
          <a:stretch/>
        </p:blipFill>
        <p:spPr>
          <a:xfrm>
            <a:off x="3851280" y="3538440"/>
            <a:ext cx="4692600" cy="86544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12" descr="目录图标.png"/>
          <p:cNvPicPr/>
          <p:nvPr/>
        </p:nvPicPr>
        <p:blipFill>
          <a:blip r:embed="rId5"/>
          <a:stretch/>
        </p:blipFill>
        <p:spPr>
          <a:xfrm>
            <a:off x="3851280" y="4543560"/>
            <a:ext cx="4692600" cy="865080"/>
          </a:xfrm>
          <a:prstGeom prst="rect">
            <a:avLst/>
          </a:prstGeom>
          <a:ln w="0">
            <a:noFill/>
          </a:ln>
        </p:spPr>
      </p:pic>
      <p:sp>
        <p:nvSpPr>
          <p:cNvPr id="543" name="TextBox 13"/>
          <p:cNvSpPr/>
          <p:nvPr/>
        </p:nvSpPr>
        <p:spPr>
          <a:xfrm>
            <a:off x="5498280" y="1908000"/>
            <a:ext cx="13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什么是</a:t>
            </a:r>
            <a:r>
              <a:rPr b="0" lang="en-US" sz="1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WPS</a:t>
            </a:r>
            <a:r>
              <a:rPr b="0" lang="zh-CN" sz="1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14"/>
          <p:cNvSpPr/>
          <p:nvPr/>
        </p:nvSpPr>
        <p:spPr>
          <a:xfrm>
            <a:off x="5035680" y="2811600"/>
            <a:ext cx="24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为什么要学习</a:t>
            </a:r>
            <a:r>
              <a:rPr b="0" lang="en-US" sz="1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WPS</a:t>
            </a:r>
            <a:r>
              <a:rPr b="0" lang="zh-CN" sz="1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15"/>
          <p:cNvSpPr/>
          <p:nvPr/>
        </p:nvSpPr>
        <p:spPr>
          <a:xfrm>
            <a:off x="5274000" y="378216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WPS</a:t>
            </a:r>
            <a:r>
              <a:rPr b="0" lang="zh-CN" sz="1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能给我们带来什么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16"/>
          <p:cNvSpPr/>
          <p:nvPr/>
        </p:nvSpPr>
        <p:spPr>
          <a:xfrm>
            <a:off x="5425200" y="4786920"/>
            <a:ext cx="13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如何学好</a:t>
            </a:r>
            <a:r>
              <a:rPr b="0" lang="en-US" sz="1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WP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图片 2" descr="过渡页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5" descr="过渡页图标.png"/>
          <p:cNvPicPr/>
          <p:nvPr/>
        </p:nvPicPr>
        <p:blipFill>
          <a:blip r:embed="rId2"/>
          <a:stretch/>
        </p:blipFill>
        <p:spPr>
          <a:xfrm>
            <a:off x="3213000" y="1271520"/>
            <a:ext cx="5765760" cy="4314960"/>
          </a:xfrm>
          <a:prstGeom prst="rect">
            <a:avLst/>
          </a:prstGeom>
          <a:ln w="0">
            <a:noFill/>
          </a:ln>
        </p:spPr>
      </p:pic>
      <p:sp>
        <p:nvSpPr>
          <p:cNvPr id="549" name="TextBox 4"/>
          <p:cNvSpPr/>
          <p:nvPr/>
        </p:nvSpPr>
        <p:spPr>
          <a:xfrm>
            <a:off x="5769000" y="3353400"/>
            <a:ext cx="13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什么是</a:t>
            </a:r>
            <a:r>
              <a:rPr b="0" lang="en-US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WPS</a:t>
            </a:r>
            <a:r>
              <a:rPr b="0" lang="zh-CN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图片 4" descr="内容页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TextBox 3"/>
          <p:cNvSpPr/>
          <p:nvPr/>
        </p:nvSpPr>
        <p:spPr>
          <a:xfrm>
            <a:off x="1924560" y="654840"/>
            <a:ext cx="23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一、初步接触</a:t>
            </a:r>
            <a:r>
              <a:rPr b="0" lang="en-US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WPS OFF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图片 5" descr="内容页图标.png"/>
          <p:cNvPicPr/>
          <p:nvPr/>
        </p:nvPicPr>
        <p:blipFill>
          <a:blip r:embed="rId2"/>
          <a:stretch/>
        </p:blipFill>
        <p:spPr>
          <a:xfrm>
            <a:off x="700200" y="450720"/>
            <a:ext cx="1015920" cy="944640"/>
          </a:xfrm>
          <a:prstGeom prst="rect">
            <a:avLst/>
          </a:prstGeom>
          <a:ln w="0">
            <a:noFill/>
          </a:ln>
        </p:spPr>
      </p:pic>
      <p:sp>
        <p:nvSpPr>
          <p:cNvPr id="553" name="TextBox 6"/>
          <p:cNvSpPr/>
          <p:nvPr/>
        </p:nvSpPr>
        <p:spPr>
          <a:xfrm>
            <a:off x="2822400" y="3251160"/>
            <a:ext cx="66945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9d9d9"/>
                </a:solidFill>
                <a:latin typeface="宋体"/>
              </a:rPr>
              <a:t>WPS (Word Processing System),</a:t>
            </a:r>
            <a:r>
              <a:rPr b="0" lang="zh-CN" sz="1400" spc="-1" strike="noStrike">
                <a:solidFill>
                  <a:srgbClr val="d9d9d9"/>
                </a:solidFill>
                <a:latin typeface="宋体"/>
              </a:rPr>
              <a:t>中文意为文字编辑系统，是金山软件公司的一种办公软件。最初出现于</a:t>
            </a:r>
            <a:r>
              <a:rPr b="0" lang="en-US" sz="1400" spc="-1" strike="noStrike">
                <a:solidFill>
                  <a:srgbClr val="d9d9d9"/>
                </a:solidFill>
                <a:latin typeface="宋体"/>
              </a:rPr>
              <a:t>1989</a:t>
            </a:r>
            <a:r>
              <a:rPr b="0" lang="zh-CN" sz="1400" spc="-1" strike="noStrike">
                <a:solidFill>
                  <a:srgbClr val="d9d9d9"/>
                </a:solidFill>
                <a:latin typeface="宋体"/>
              </a:rPr>
              <a:t>年，在微软</a:t>
            </a:r>
            <a:r>
              <a:rPr b="0" lang="en-US" sz="1400" spc="-1" strike="noStrike">
                <a:solidFill>
                  <a:srgbClr val="d9d9d9"/>
                </a:solidFill>
                <a:latin typeface="宋体"/>
              </a:rPr>
              <a:t>Windows</a:t>
            </a:r>
            <a:r>
              <a:rPr b="0" lang="zh-CN" sz="1400" spc="-1" strike="noStrike">
                <a:solidFill>
                  <a:srgbClr val="d9d9d9"/>
                </a:solidFill>
                <a:latin typeface="宋体"/>
              </a:rPr>
              <a:t>系统出现以前，</a:t>
            </a:r>
            <a:r>
              <a:rPr b="0" lang="en-US" sz="1400" spc="-1" strike="noStrike">
                <a:solidFill>
                  <a:srgbClr val="d9d9d9"/>
                </a:solidFill>
                <a:latin typeface="宋体"/>
              </a:rPr>
              <a:t>DOS</a:t>
            </a:r>
            <a:r>
              <a:rPr b="0" lang="zh-CN" sz="1400" spc="-1" strike="noStrike">
                <a:solidFill>
                  <a:srgbClr val="d9d9d9"/>
                </a:solidFill>
                <a:latin typeface="宋体"/>
              </a:rPr>
              <a:t>系统盛行的年代，</a:t>
            </a:r>
            <a:r>
              <a:rPr b="0" lang="en-US" sz="1400" spc="-1" strike="noStrike">
                <a:solidFill>
                  <a:srgbClr val="d9d9d9"/>
                </a:solidFill>
                <a:latin typeface="宋体"/>
              </a:rPr>
              <a:t>WPS</a:t>
            </a:r>
            <a:r>
              <a:rPr b="0" lang="zh-CN" sz="1400" spc="-1" strike="noStrike">
                <a:solidFill>
                  <a:srgbClr val="d9d9d9"/>
                </a:solidFill>
                <a:latin typeface="宋体"/>
              </a:rPr>
              <a:t>曾是中国最流行的文字处理软件，现在</a:t>
            </a:r>
            <a:r>
              <a:rPr b="0" lang="en-US" sz="1400" spc="-1" strike="noStrike">
                <a:solidFill>
                  <a:srgbClr val="d9d9d9"/>
                </a:solidFill>
                <a:latin typeface="宋体"/>
              </a:rPr>
              <a:t>WPS</a:t>
            </a:r>
            <a:r>
              <a:rPr b="0" lang="zh-CN" sz="1400" spc="-1" strike="noStrike">
                <a:solidFill>
                  <a:srgbClr val="d9d9d9"/>
                </a:solidFill>
                <a:latin typeface="宋体"/>
              </a:rPr>
              <a:t>最新正式版为</a:t>
            </a:r>
            <a:r>
              <a:rPr b="0" lang="en-US" sz="1400" spc="-1" strike="noStrike">
                <a:solidFill>
                  <a:srgbClr val="d9d9d9"/>
                </a:solidFill>
                <a:latin typeface="宋体"/>
              </a:rPr>
              <a:t>WPS2012</a:t>
            </a:r>
            <a:r>
              <a:rPr b="0" lang="zh-CN" sz="1400" spc="-1" strike="noStrike">
                <a:solidFill>
                  <a:srgbClr val="d9d9d9"/>
                </a:solidFill>
                <a:latin typeface="宋体"/>
              </a:rPr>
              <a:t>，另外</a:t>
            </a:r>
            <a:r>
              <a:rPr b="0" lang="en-US" sz="1400" spc="-1" strike="noStrike">
                <a:solidFill>
                  <a:srgbClr val="d9d9d9"/>
                </a:solidFill>
                <a:latin typeface="宋体"/>
              </a:rPr>
              <a:t>WPS 2009</a:t>
            </a:r>
            <a:r>
              <a:rPr b="0" lang="zh-CN" sz="1400" spc="-1" strike="noStrike">
                <a:solidFill>
                  <a:srgbClr val="d9d9d9"/>
                </a:solidFill>
                <a:latin typeface="宋体"/>
              </a:rPr>
              <a:t>专业版也已面世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图片 2" descr="封面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TextBox 3"/>
          <p:cNvSpPr/>
          <p:nvPr/>
        </p:nvSpPr>
        <p:spPr>
          <a:xfrm>
            <a:off x="4448160" y="2889720"/>
            <a:ext cx="287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57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2T02:20:10Z</dcterms:modified>
  <cp:revision>1</cp:revision>
  <dc:subject/>
  <dc:title>PowerPoint 演示文稿</dc:title>
</cp:coreProperties>
</file>