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3A8-1D5E-4F25-85BB-C818AC47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9FA-F304-4B01-A5CA-03EA2F55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74E-8EF5-40B6-877D-0C396056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34D-93AC-465E-A2B9-C04C6032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AE6E-0911-4E3E-8FDB-F2EE2623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BEAB-472A-4399-B0D3-D7E5013E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DD76-D702-4348-826F-73CF612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4035-97D3-4660-91AE-AE7FA67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30B8-6179-4521-8C0A-EE23A2D9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59AB-C800-4FD8-BB55-F0F2BFD4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453-942C-4F31-BB72-E9761C1C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713-A7D2-4FC3-9B5E-94B4505E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6922-0931-47F8-B1E1-0FB06A4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35AF-77A4-46F2-B4D0-520300D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750F-003C-47C4-9E6D-9FCF818B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784D-5A92-4176-B478-120EB4F3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587E-0D78-4C19-9081-FD19FB58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615-5A1B-4E92-8111-6016032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557-12B0-4FB0-AFD6-DDD08267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F87-EE06-4522-BD45-37DDBF7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726-6379-40D6-AA25-66730FE5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640-C081-4365-BBF1-97E229B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1D9-86F4-4A8D-9EC4-F7EF283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AB8-9DD4-4F80-9618-8E9F941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B385-95F6-4E1B-898E-B4970B423BC0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7524-525A-4C36-A472-45F3F3CB10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6E4F-1FC3-445E-BF53-FAF46A0DC3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53896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325576"/>
                </a:solidFill>
                <a:latin typeface="Calibri"/>
                <a:ea typeface="宋体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71480" y="5967360"/>
            <a:ext cx="4071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25576"/>
                </a:solidFill>
                <a:latin typeface="Calibri"/>
                <a:ea typeface="宋体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2557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57280" y="197496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04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255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25576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7:29:09Z</dcterms:created>
  <dc:creator>Admin</dc:creator>
  <dc:description/>
  <cp:keywords/>
  <dc:language>en-US</dc:language>
  <cp:lastModifiedBy>a</cp:lastModifiedBy>
  <dcterms:modified xsi:type="dcterms:W3CDTF">2014-07-15T02:16:06Z</dcterms:modified>
  <cp:revision>4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