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BB7-7380-4FD6-95B2-DB1A934C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052-CB3C-4D73-A7D1-92C7E2F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B1D-EA1A-4693-BCF5-37FA2A7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46E-1691-43AF-AD30-F6B18A7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3A0-27BC-4E4F-8C48-3BA150D3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25A-340D-41DD-92EF-A63ADE70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4CD-C9ED-4AD7-8F4E-B550759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16A-EF04-426D-8598-213C240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1CF-0BC3-4BD5-90EE-A0335136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688-4F53-42BD-939B-3F61A481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1BC-F71A-4264-A480-3B4F9406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DCD-92CD-4CAC-9C9A-9F91963F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94AF-4354-4C78-891E-46A82F0207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630C-1A1A-4A64-BECD-7FB5FE184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4720" y="3212640"/>
            <a:ext cx="7772400" cy="125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92000" y="4581000"/>
            <a:ext cx="7088040" cy="112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63640" y="1160640"/>
          <a:ext cx="7488360" cy="3662280"/>
        </p:xfrm>
        <a:graphic>
          <a:graphicData uri="http://schemas.openxmlformats.org/drawingml/2006/table">
            <a:tbl>
              <a:tblPr/>
              <a:tblGrid>
                <a:gridCol w="1116000"/>
                <a:gridCol w="1260360"/>
                <a:gridCol w="1187640"/>
                <a:gridCol w="1295280"/>
                <a:gridCol w="1368360"/>
                <a:gridCol w="126072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18" name="Picture 64" descr="未标题-8"/>
          <p:cNvPicPr/>
          <p:nvPr/>
        </p:nvPicPr>
        <p:blipFill>
          <a:blip r:embed="rId20"/>
          <a:stretch/>
        </p:blipFill>
        <p:spPr>
          <a:xfrm rot="20416200">
            <a:off x="934560" y="101556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pic>
        <p:nvPicPr>
          <p:cNvPr id="220" name="Picture 3" descr="未标题-12"/>
          <p:cNvPicPr/>
          <p:nvPr/>
        </p:nvPicPr>
        <p:blipFill>
          <a:blip r:embed="rId2"/>
          <a:stretch/>
        </p:blipFill>
        <p:spPr>
          <a:xfrm>
            <a:off x="755640" y="1017720"/>
            <a:ext cx="1692360" cy="165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879640" y="1557360"/>
            <a:ext cx="55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340000" y="26780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295280" y="3824280"/>
            <a:ext cx="55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295280" y="505476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47280" y="2133360"/>
            <a:ext cx="8029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a4780"/>
                </a:solidFill>
                <a:latin typeface="Arial"/>
              </a:rPr>
              <a:t>Thank you!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827440" y="137628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827440" y="23493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827440" y="338292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827440" y="43815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1620000" y="1207440"/>
            <a:ext cx="4823640" cy="974160"/>
            <a:chOff x="1620000" y="1207440"/>
            <a:chExt cx="4823640" cy="974160"/>
          </a:xfrm>
        </p:grpSpPr>
        <p:sp>
          <p:nvSpPr>
            <p:cNvPr id="125" name="Line 8"/>
            <p:cNvSpPr/>
            <p:nvPr/>
          </p:nvSpPr>
          <p:spPr>
            <a:xfrm>
              <a:off x="2303280" y="1844640"/>
              <a:ext cx="4140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9" descr="未标题-1"/>
            <p:cNvPicPr/>
            <p:nvPr/>
          </p:nvPicPr>
          <p:blipFill>
            <a:blip r:embed="rId2"/>
            <a:stretch/>
          </p:blipFill>
          <p:spPr>
            <a:xfrm rot="3476400">
              <a:off x="1730880" y="136116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"/>
          <p:cNvGrpSpPr/>
          <p:nvPr/>
        </p:nvGrpSpPr>
        <p:grpSpPr>
          <a:xfrm>
            <a:off x="1945800" y="2552040"/>
            <a:ext cx="4534200" cy="909360"/>
            <a:chOff x="1945800" y="2552040"/>
            <a:chExt cx="4534200" cy="909360"/>
          </a:xfrm>
        </p:grpSpPr>
        <p:sp>
          <p:nvSpPr>
            <p:cNvPr id="128" name="Line 11"/>
            <p:cNvSpPr/>
            <p:nvPr/>
          </p:nvSpPr>
          <p:spPr>
            <a:xfrm>
              <a:off x="2555640" y="2806560"/>
              <a:ext cx="3924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未标题-1"/>
            <p:cNvPicPr/>
            <p:nvPr/>
          </p:nvPicPr>
          <p:blipFill>
            <a:blip r:embed="rId3"/>
            <a:stretch/>
          </p:blipFill>
          <p:spPr>
            <a:xfrm rot="20134800">
              <a:off x="2050560" y="267300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13" descr="未标题-1"/>
          <p:cNvPicPr/>
          <p:nvPr/>
        </p:nvPicPr>
        <p:blipFill>
          <a:blip r:embed="rId4"/>
          <a:stretch/>
        </p:blipFill>
        <p:spPr>
          <a:xfrm rot="3476400">
            <a:off x="207216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4"/>
          <p:cNvGrpSpPr/>
          <p:nvPr/>
        </p:nvGrpSpPr>
        <p:grpSpPr>
          <a:xfrm>
            <a:off x="2334960" y="3631320"/>
            <a:ext cx="4145040" cy="766440"/>
            <a:chOff x="2334960" y="3631320"/>
            <a:chExt cx="4145040" cy="766440"/>
          </a:xfrm>
        </p:grpSpPr>
        <p:sp>
          <p:nvSpPr>
            <p:cNvPr id="132" name="Line 15"/>
            <p:cNvSpPr/>
            <p:nvPr/>
          </p:nvSpPr>
          <p:spPr>
            <a:xfrm>
              <a:off x="2771640" y="3840120"/>
              <a:ext cx="3708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6" descr="未标题-1"/>
            <p:cNvPicPr/>
            <p:nvPr/>
          </p:nvPicPr>
          <p:blipFill>
            <a:blip r:embed="rId5"/>
            <a:stretch/>
          </p:blipFill>
          <p:spPr>
            <a:xfrm rot="20721600">
              <a:off x="2411280" y="3681000"/>
              <a:ext cx="4795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7"/>
          <p:cNvGrpSpPr/>
          <p:nvPr/>
        </p:nvGrpSpPr>
        <p:grpSpPr>
          <a:xfrm>
            <a:off x="1798200" y="4249440"/>
            <a:ext cx="4645080" cy="746640"/>
            <a:chOff x="1798200" y="4249440"/>
            <a:chExt cx="4645080" cy="746640"/>
          </a:xfrm>
        </p:grpSpPr>
        <p:sp>
          <p:nvSpPr>
            <p:cNvPr id="135" name="Line 18"/>
            <p:cNvSpPr/>
            <p:nvPr/>
          </p:nvSpPr>
          <p:spPr>
            <a:xfrm>
              <a:off x="2303280" y="4858920"/>
              <a:ext cx="41400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9" descr="未标题-1"/>
            <p:cNvPicPr/>
            <p:nvPr/>
          </p:nvPicPr>
          <p:blipFill>
            <a:blip r:embed="rId6"/>
            <a:stretch/>
          </p:blipFill>
          <p:spPr>
            <a:xfrm rot="4855800">
              <a:off x="1816560" y="4322160"/>
              <a:ext cx="660240" cy="60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26920" y="981000"/>
            <a:ext cx="7524720" cy="5076720"/>
            <a:chOff x="826920" y="981000"/>
            <a:chExt cx="7524720" cy="5076720"/>
          </a:xfrm>
        </p:grpSpPr>
        <p:sp>
          <p:nvSpPr>
            <p:cNvPr id="139" name="AutoShape 4"/>
            <p:cNvSpPr/>
            <p:nvPr/>
          </p:nvSpPr>
          <p:spPr>
            <a:xfrm>
              <a:off x="1403280" y="1455840"/>
              <a:ext cx="6624720" cy="3240000"/>
            </a:xfrm>
            <a:prstGeom prst="roundRect">
              <a:avLst>
                <a:gd name="adj" fmla="val 36616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5" descr="未标题-3"/>
            <p:cNvPicPr/>
            <p:nvPr/>
          </p:nvPicPr>
          <p:blipFill>
            <a:blip r:embed="rId2"/>
            <a:stretch/>
          </p:blipFill>
          <p:spPr>
            <a:xfrm>
              <a:off x="826920" y="981000"/>
              <a:ext cx="2770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1403280" y="2608200"/>
              <a:ext cx="6948360" cy="3449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6516360" y="1455840"/>
              <a:ext cx="1835280" cy="1152360"/>
            </a:xfrm>
            <a:prstGeom prst="rect">
              <a:avLst/>
            </a:prstGeom>
            <a:solidFill>
              <a:srgbClr val="cde5d8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8"/>
          <p:cNvSpPr/>
          <p:nvPr/>
        </p:nvSpPr>
        <p:spPr>
          <a:xfrm>
            <a:off x="3422160" y="1817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727280" y="2852640"/>
            <a:ext cx="626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727280" y="4119480"/>
            <a:ext cx="6265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584360" y="1990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368360" y="903960"/>
            <a:ext cx="6696000" cy="4469760"/>
            <a:chOff x="1368360" y="903960"/>
            <a:chExt cx="6696000" cy="4469760"/>
          </a:xfrm>
        </p:grpSpPr>
        <p:sp>
          <p:nvSpPr>
            <p:cNvPr id="149" name="AutoShape 5"/>
            <p:cNvSpPr/>
            <p:nvPr/>
          </p:nvSpPr>
          <p:spPr>
            <a:xfrm>
              <a:off x="1368360" y="1592280"/>
              <a:ext cx="6696000" cy="37814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08160" y="1376280"/>
              <a:ext cx="293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请在此添加段落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1655640" y="1268280"/>
              <a:ext cx="1224000" cy="7923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924360" y="1197000"/>
              <a:ext cx="1224000" cy="7920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9" descr="未标题-1"/>
            <p:cNvPicPr/>
            <p:nvPr/>
          </p:nvPicPr>
          <p:blipFill>
            <a:blip r:embed="rId2"/>
            <a:stretch/>
          </p:blipFill>
          <p:spPr>
            <a:xfrm rot="2865600">
              <a:off x="1521000" y="1114200"/>
              <a:ext cx="8636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0"/>
          <p:cNvSpPr/>
          <p:nvPr/>
        </p:nvSpPr>
        <p:spPr>
          <a:xfrm>
            <a:off x="1655640" y="1959120"/>
            <a:ext cx="59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79640" y="155592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未标题-2"/>
          <p:cNvPicPr/>
          <p:nvPr/>
        </p:nvPicPr>
        <p:blipFill>
          <a:blip r:embed="rId2"/>
          <a:stretch/>
        </p:blipFill>
        <p:spPr>
          <a:xfrm>
            <a:off x="7128000" y="1555920"/>
            <a:ext cx="457200" cy="149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525320" y="1028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224000" y="181440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079640" y="382428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未标题-2"/>
          <p:cNvPicPr/>
          <p:nvPr/>
        </p:nvPicPr>
        <p:blipFill>
          <a:blip r:embed="rId3"/>
          <a:stretch/>
        </p:blipFill>
        <p:spPr>
          <a:xfrm>
            <a:off x="7128000" y="3824280"/>
            <a:ext cx="457200" cy="1495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1078200" y="32958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24000" y="408312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1042920" y="101592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403280" y="1411200"/>
            <a:ext cx="6337440" cy="1477800"/>
            <a:chOff x="1403280" y="1411200"/>
            <a:chExt cx="6337440" cy="1477800"/>
          </a:xfrm>
        </p:grpSpPr>
        <p:pic>
          <p:nvPicPr>
            <p:cNvPr id="167" name="Picture 5" descr="未标题-5"/>
            <p:cNvPicPr/>
            <p:nvPr/>
          </p:nvPicPr>
          <p:blipFill>
            <a:blip r:embed="rId3"/>
            <a:srcRect l="0" t="1128" r="321" b="6896"/>
            <a:stretch/>
          </p:blipFill>
          <p:spPr>
            <a:xfrm>
              <a:off x="1403280" y="141264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2519280" y="141120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2484360" y="170028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42920" y="350028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"/>
          <p:cNvGrpSpPr/>
          <p:nvPr/>
        </p:nvGrpSpPr>
        <p:grpSpPr>
          <a:xfrm>
            <a:off x="1403280" y="3895560"/>
            <a:ext cx="6337440" cy="1477800"/>
            <a:chOff x="1403280" y="3895560"/>
            <a:chExt cx="6337440" cy="1477800"/>
          </a:xfrm>
        </p:grpSpPr>
        <p:pic>
          <p:nvPicPr>
            <p:cNvPr id="172" name="Picture 10" descr="未标题-5"/>
            <p:cNvPicPr/>
            <p:nvPr/>
          </p:nvPicPr>
          <p:blipFill>
            <a:blip r:embed="rId5"/>
            <a:srcRect l="0" t="1128" r="321" b="6896"/>
            <a:stretch/>
          </p:blipFill>
          <p:spPr>
            <a:xfrm>
              <a:off x="1403280" y="389700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11"/>
            <p:cNvSpPr/>
            <p:nvPr/>
          </p:nvSpPr>
          <p:spPr>
            <a:xfrm>
              <a:off x="2519280" y="389556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2"/>
          <p:cNvSpPr/>
          <p:nvPr/>
        </p:nvSpPr>
        <p:spPr>
          <a:xfrm>
            <a:off x="2484360" y="41846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63640" y="1341360"/>
            <a:ext cx="1763280" cy="1150920"/>
            <a:chOff x="863640" y="1341360"/>
            <a:chExt cx="1763280" cy="1150920"/>
          </a:xfrm>
        </p:grpSpPr>
        <p:sp>
          <p:nvSpPr>
            <p:cNvPr id="177" name="Oval 4"/>
            <p:cNvSpPr/>
            <p:nvPr/>
          </p:nvSpPr>
          <p:spPr>
            <a:xfrm>
              <a:off x="863640" y="134136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979560" y="1453680"/>
              <a:ext cx="1012680" cy="925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106720" y="190296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7"/>
          <p:cNvSpPr/>
          <p:nvPr/>
        </p:nvSpPr>
        <p:spPr>
          <a:xfrm>
            <a:off x="2698920" y="126828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735280" y="141300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863640" y="2890800"/>
            <a:ext cx="1763280" cy="1150920"/>
            <a:chOff x="863640" y="2890800"/>
            <a:chExt cx="1763280" cy="1150920"/>
          </a:xfrm>
        </p:grpSpPr>
        <p:sp>
          <p:nvSpPr>
            <p:cNvPr id="183" name="Oval 10"/>
            <p:cNvSpPr/>
            <p:nvPr/>
          </p:nvSpPr>
          <p:spPr>
            <a:xfrm>
              <a:off x="863640" y="289080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979560" y="3003120"/>
              <a:ext cx="1012680" cy="92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2106720" y="3452400"/>
              <a:ext cx="52020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13"/>
          <p:cNvSpPr/>
          <p:nvPr/>
        </p:nvSpPr>
        <p:spPr>
          <a:xfrm>
            <a:off x="2698920" y="281772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735280" y="29624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828720" y="4510080"/>
            <a:ext cx="1763280" cy="1150920"/>
            <a:chOff x="828720" y="4510080"/>
            <a:chExt cx="1763280" cy="1150920"/>
          </a:xfrm>
        </p:grpSpPr>
        <p:sp>
          <p:nvSpPr>
            <p:cNvPr id="189" name="Oval 16"/>
            <p:cNvSpPr/>
            <p:nvPr/>
          </p:nvSpPr>
          <p:spPr>
            <a:xfrm>
              <a:off x="828720" y="451008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944640" y="4622400"/>
              <a:ext cx="1012680" cy="925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2071800" y="507168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2664000" y="443700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2700360" y="458136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719280" y="1233360"/>
            <a:ext cx="7560720" cy="4427640"/>
            <a:chOff x="719280" y="1233360"/>
            <a:chExt cx="7560720" cy="4427640"/>
          </a:xfrm>
        </p:grpSpPr>
        <p:sp>
          <p:nvSpPr>
            <p:cNvPr id="196" name="Rectangle 4"/>
            <p:cNvSpPr/>
            <p:nvPr/>
          </p:nvSpPr>
          <p:spPr>
            <a:xfrm>
              <a:off x="1655640" y="2241360"/>
              <a:ext cx="6624360" cy="341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e5d8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5" descr="未标题-8"/>
            <p:cNvPicPr/>
            <p:nvPr/>
          </p:nvPicPr>
          <p:blipFill>
            <a:blip r:embed="rId2"/>
            <a:stretch/>
          </p:blipFill>
          <p:spPr>
            <a:xfrm>
              <a:off x="719280" y="1233360"/>
              <a:ext cx="115200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未标题-8"/>
            <p:cNvPicPr/>
            <p:nvPr/>
          </p:nvPicPr>
          <p:blipFill>
            <a:blip r:embed="rId3"/>
            <a:stretch/>
          </p:blipFill>
          <p:spPr>
            <a:xfrm rot="15844800">
              <a:off x="659160" y="2072160"/>
              <a:ext cx="115236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7" descr="未标题-8"/>
            <p:cNvPicPr/>
            <p:nvPr/>
          </p:nvPicPr>
          <p:blipFill>
            <a:blip r:embed="rId4"/>
            <a:stretch/>
          </p:blipFill>
          <p:spPr>
            <a:xfrm rot="8221200">
              <a:off x="1726560" y="1989000"/>
              <a:ext cx="100764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Rectangle 8"/>
          <p:cNvSpPr/>
          <p:nvPr/>
        </p:nvSpPr>
        <p:spPr>
          <a:xfrm>
            <a:off x="1835280" y="148428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908000" y="2889360"/>
            <a:ext cx="640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979640" y="400536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68360" y="1413000"/>
            <a:ext cx="8272080" cy="4303080"/>
            <a:chOff x="468360" y="1413000"/>
            <a:chExt cx="8272080" cy="4303080"/>
          </a:xfrm>
        </p:grpSpPr>
        <p:pic>
          <p:nvPicPr>
            <p:cNvPr id="205" name="Picture 4" descr="77701cc93d56fd32be09e69e"/>
            <p:cNvPicPr/>
            <p:nvPr/>
          </p:nvPicPr>
          <p:blipFill>
            <a:blip r:embed="rId2"/>
            <a:srcRect l="1672" t="0" r="50344" b="5005"/>
            <a:stretch/>
          </p:blipFill>
          <p:spPr>
            <a:xfrm>
              <a:off x="3409200" y="2839680"/>
              <a:ext cx="25243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未知"/>
            <p:cNvSpPr/>
            <p:nvPr/>
          </p:nvSpPr>
          <p:spPr>
            <a:xfrm>
              <a:off x="3250080" y="1413000"/>
              <a:ext cx="255600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 rot="5400000">
              <a:off x="6693120" y="2093760"/>
              <a:ext cx="1317240" cy="277704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 flipH="1" flipV="1">
              <a:off x="3413880" y="4295520"/>
              <a:ext cx="255600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 flipH="1" flipV="1" rot="5400000">
              <a:off x="1198080" y="2235960"/>
              <a:ext cx="1317240" cy="277704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3362400" y="146376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580000" y="54450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468360" y="39528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84720" y="1808280"/>
            <a:ext cx="5256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468360" y="1449360"/>
            <a:ext cx="255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539640" y="4473720"/>
            <a:ext cx="52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/>
  <dc:description/>
  <dc:language>en-US</dc:language>
  <cp:lastModifiedBy>a</cp:lastModifiedBy>
  <dcterms:modified xsi:type="dcterms:W3CDTF">2015-01-12T08:18:11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