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C9C-83F7-41AA-8182-534A1BBF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453-A357-48CE-9DC6-E82D460E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AF7-6942-4194-880A-3A888C0B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8BC-5C51-4DA2-AC04-F7E8055E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120B-F30B-4517-B989-2837DCFD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5F0E-7BE8-4CAE-87D2-3DCA1467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0B2E-B4B1-4B39-BA9C-FBB4A1F1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BD9F-A571-4110-8036-12C49416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5B76-0A34-4E50-9876-6AF5E952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51F5-809D-45A4-9FC9-B838DC9A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33FC-97F6-460B-9325-D0E211F8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07B-D8FE-4F4D-A350-9E423C24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67FF-D362-471E-AF4B-B7AB7A3E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C0EF-5FAB-4153-B187-AB40DFD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D4BD-B3DA-4A7A-8594-7A366067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54CC-E364-4EB6-8ED9-B9C8D402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C474-F1F3-4CDF-8E70-426A7D37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2BC-A8F3-4BB4-BF51-A91AD956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AC3-BF42-485A-9399-FA4A811B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BA5-CE64-4D21-B315-66767B94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584-3AE6-4B23-A9FC-6DD3C259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E00-422F-4325-96CB-D15D8100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207-B786-4FF7-99FE-DCBB2C29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81F-19DC-40D1-9DF8-C196707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3733-1C81-4F5F-926C-6348D1BF9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DC0C-62D4-4C9B-A88F-2A028A8376A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3B4A-1700-42C1-860C-3AA47A5D12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8164440" y="5434560"/>
            <a:ext cx="906120" cy="963720"/>
            <a:chOff x="8164440" y="5434560"/>
            <a:chExt cx="906120" cy="963720"/>
          </a:xfrm>
        </p:grpSpPr>
        <p:sp>
          <p:nvSpPr>
            <p:cNvPr id="83" name="AutoShape 3"/>
            <p:cNvSpPr/>
            <p:nvPr/>
          </p:nvSpPr>
          <p:spPr>
            <a:xfrm flipV="1" rot="15000000">
              <a:off x="8228520" y="5575320"/>
              <a:ext cx="777600" cy="681120"/>
            </a:xfrm>
            <a:custGeom>
              <a:avLst/>
              <a:gdLst>
                <a:gd name="textAreaLeft" fmla="*/ 181440 w 777600"/>
                <a:gd name="textAreaRight" fmla="*/ 596160 w 777600"/>
                <a:gd name="textAreaTop" fmla="*/ 72000 h 681120"/>
                <a:gd name="textAreaBottom" fmla="*/ 43164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3366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自由曲线 70"/>
            <p:cNvSpPr/>
            <p:nvPr/>
          </p:nvSpPr>
          <p:spPr>
            <a:xfrm flipV="1" rot="15000000">
              <a:off x="8528400" y="5618880"/>
              <a:ext cx="109080" cy="609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658" y="0"/>
                  </a:moveTo>
                  <a:cubicBezTo>
                    <a:pt x="10520" y="382"/>
                    <a:pt x="17503" y="1392"/>
                    <a:pt x="16851" y="1966"/>
                  </a:cubicBezTo>
                  <a:cubicBezTo>
                    <a:pt x="16200" y="2541"/>
                    <a:pt x="6144" y="2262"/>
                    <a:pt x="5213" y="2837"/>
                  </a:cubicBezTo>
                  <a:cubicBezTo>
                    <a:pt x="4282" y="3411"/>
                    <a:pt x="12941" y="4194"/>
                    <a:pt x="12196" y="4803"/>
                  </a:cubicBezTo>
                  <a:cubicBezTo>
                    <a:pt x="11451" y="5413"/>
                    <a:pt x="1675" y="5360"/>
                    <a:pt x="1675" y="5882"/>
                  </a:cubicBezTo>
                  <a:cubicBezTo>
                    <a:pt x="1675" y="6405"/>
                    <a:pt x="11265" y="6718"/>
                    <a:pt x="12196" y="7414"/>
                  </a:cubicBezTo>
                  <a:cubicBezTo>
                    <a:pt x="13127" y="8110"/>
                    <a:pt x="8658" y="8598"/>
                    <a:pt x="6331" y="9381"/>
                  </a:cubicBezTo>
                  <a:cubicBezTo>
                    <a:pt x="4003" y="10164"/>
                    <a:pt x="0" y="10565"/>
                    <a:pt x="465" y="11348"/>
                  </a:cubicBezTo>
                  <a:cubicBezTo>
                    <a:pt x="931" y="12131"/>
                    <a:pt x="6517" y="12549"/>
                    <a:pt x="8658" y="13297"/>
                  </a:cubicBezTo>
                  <a:cubicBezTo>
                    <a:pt x="10800" y="14046"/>
                    <a:pt x="8658" y="14620"/>
                    <a:pt x="10986" y="15055"/>
                  </a:cubicBezTo>
                  <a:cubicBezTo>
                    <a:pt x="13313" y="15490"/>
                    <a:pt x="19179" y="15003"/>
                    <a:pt x="20389" y="15490"/>
                  </a:cubicBezTo>
                  <a:cubicBezTo>
                    <a:pt x="21600" y="15978"/>
                    <a:pt x="18248" y="16622"/>
                    <a:pt x="16851" y="17457"/>
                  </a:cubicBezTo>
                  <a:cubicBezTo>
                    <a:pt x="15455" y="18292"/>
                    <a:pt x="14524" y="18797"/>
                    <a:pt x="13313" y="19633"/>
                  </a:cubicBezTo>
                  <a:cubicBezTo>
                    <a:pt x="12103" y="20468"/>
                    <a:pt x="11358" y="21251"/>
                    <a:pt x="10986" y="21599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5"/>
          <p:cNvSpPr/>
          <p:nvPr/>
        </p:nvSpPr>
        <p:spPr>
          <a:xfrm>
            <a:off x="1260360" y="1741320"/>
            <a:ext cx="6624720" cy="180036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99"/>
                </a:solidFill>
                <a:latin typeface="Arial"/>
              </a:rPr>
              <a:t>从复旦投毒案</a:t>
            </a:r>
            <a:br>
              <a:rPr sz="4000"/>
            </a:br>
            <a:r>
              <a:rPr b="1" lang="zh-CN" sz="4000" spc="-1" strike="noStrike">
                <a:solidFill>
                  <a:srgbClr val="336699"/>
                </a:solidFill>
                <a:latin typeface="Arial"/>
              </a:rPr>
              <a:t>看当代大学生的心理疾患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046560" y="45068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by </a:t>
            </a:r>
            <a:r>
              <a:rPr b="0" lang="en-US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7544160" y="4979520"/>
            <a:ext cx="1236240" cy="1140480"/>
            <a:chOff x="7544160" y="4979520"/>
            <a:chExt cx="1236240" cy="1140480"/>
          </a:xfrm>
        </p:grpSpPr>
        <p:sp>
          <p:nvSpPr>
            <p:cNvPr id="89" name="AutoShape 9"/>
            <p:cNvSpPr/>
            <p:nvPr/>
          </p:nvSpPr>
          <p:spPr>
            <a:xfrm rot="20760000">
              <a:off x="7639200" y="5092200"/>
              <a:ext cx="1046160" cy="914400"/>
            </a:xfrm>
            <a:custGeom>
              <a:avLst/>
              <a:gdLst>
                <a:gd name="textAreaLeft" fmla="*/ 244080 w 1046160"/>
                <a:gd name="textAreaRight" fmla="*/ 802080 w 1046160"/>
                <a:gd name="textAreaTop" fmla="*/ 96480 h 914400"/>
                <a:gd name="textAreaBottom" fmla="*/ 5792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自由曲线 70"/>
            <p:cNvSpPr/>
            <p:nvPr/>
          </p:nvSpPr>
          <p:spPr>
            <a:xfrm rot="20760000">
              <a:off x="8105760" y="5184360"/>
              <a:ext cx="146880" cy="8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658" y="0"/>
                  </a:moveTo>
                  <a:cubicBezTo>
                    <a:pt x="10520" y="382"/>
                    <a:pt x="17503" y="1392"/>
                    <a:pt x="16851" y="1966"/>
                  </a:cubicBezTo>
                  <a:cubicBezTo>
                    <a:pt x="16200" y="2541"/>
                    <a:pt x="6144" y="2262"/>
                    <a:pt x="5213" y="2837"/>
                  </a:cubicBezTo>
                  <a:cubicBezTo>
                    <a:pt x="4282" y="3411"/>
                    <a:pt x="12941" y="4194"/>
                    <a:pt x="12196" y="4803"/>
                  </a:cubicBezTo>
                  <a:cubicBezTo>
                    <a:pt x="11451" y="5413"/>
                    <a:pt x="1675" y="5360"/>
                    <a:pt x="1675" y="5882"/>
                  </a:cubicBezTo>
                  <a:cubicBezTo>
                    <a:pt x="1675" y="6405"/>
                    <a:pt x="11265" y="6718"/>
                    <a:pt x="12196" y="7414"/>
                  </a:cubicBezTo>
                  <a:cubicBezTo>
                    <a:pt x="13127" y="8110"/>
                    <a:pt x="8658" y="8598"/>
                    <a:pt x="6331" y="9381"/>
                  </a:cubicBezTo>
                  <a:cubicBezTo>
                    <a:pt x="4003" y="10164"/>
                    <a:pt x="0" y="10565"/>
                    <a:pt x="465" y="11348"/>
                  </a:cubicBezTo>
                  <a:cubicBezTo>
                    <a:pt x="931" y="12131"/>
                    <a:pt x="6517" y="12549"/>
                    <a:pt x="8658" y="13297"/>
                  </a:cubicBezTo>
                  <a:cubicBezTo>
                    <a:pt x="10800" y="14046"/>
                    <a:pt x="8658" y="14620"/>
                    <a:pt x="10986" y="15055"/>
                  </a:cubicBezTo>
                  <a:cubicBezTo>
                    <a:pt x="13313" y="15490"/>
                    <a:pt x="19179" y="15003"/>
                    <a:pt x="20389" y="15490"/>
                  </a:cubicBezTo>
                  <a:cubicBezTo>
                    <a:pt x="21600" y="15978"/>
                    <a:pt x="18248" y="16622"/>
                    <a:pt x="16851" y="17457"/>
                  </a:cubicBezTo>
                  <a:cubicBezTo>
                    <a:pt x="15455" y="18292"/>
                    <a:pt x="14524" y="18797"/>
                    <a:pt x="13313" y="19633"/>
                  </a:cubicBezTo>
                  <a:cubicBezTo>
                    <a:pt x="12103" y="20468"/>
                    <a:pt x="11358" y="21251"/>
                    <a:pt x="10986" y="21599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2800" y="2268360"/>
            <a:ext cx="34560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99"/>
                </a:solidFill>
                <a:latin typeface="Arial"/>
              </a:rPr>
              <a:t>谢谢观赏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>
            <a:off x="1895400" y="3537000"/>
            <a:ext cx="5184720" cy="0"/>
          </a:xfrm>
          <a:prstGeom prst="line">
            <a:avLst/>
          </a:prstGeom>
          <a:ln w="63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6323040" y="2646360"/>
            <a:ext cx="371520" cy="890280"/>
            <a:chOff x="6323040" y="2646360"/>
            <a:chExt cx="371520" cy="890280"/>
          </a:xfrm>
        </p:grpSpPr>
        <p:sp>
          <p:nvSpPr>
            <p:cNvPr id="182" name="Oval 5"/>
            <p:cNvSpPr/>
            <p:nvPr/>
          </p:nvSpPr>
          <p:spPr>
            <a:xfrm>
              <a:off x="6420240" y="2646360"/>
              <a:ext cx="273960" cy="274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6554880" y="2920680"/>
              <a:ext cx="360" cy="3942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H="1" flipV="1">
              <a:off x="6323040" y="2920680"/>
              <a:ext cx="231840" cy="12816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6356160" y="3048840"/>
              <a:ext cx="198360" cy="53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>
              <a:off x="6420240" y="3310560"/>
              <a:ext cx="140400" cy="1062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6554880" y="3310560"/>
              <a:ext cx="139680" cy="2260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492120" y="0"/>
            <a:ext cx="7554960" cy="6119280"/>
            <a:chOff x="492120" y="0"/>
            <a:chExt cx="7554960" cy="6119280"/>
          </a:xfrm>
        </p:grpSpPr>
        <p:sp>
          <p:nvSpPr>
            <p:cNvPr id="189" name="矩形 4"/>
            <p:cNvSpPr/>
            <p:nvPr/>
          </p:nvSpPr>
          <p:spPr>
            <a:xfrm>
              <a:off x="110052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120" y="1529640"/>
              <a:ext cx="755496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Box 7"/>
            <p:cNvSpPr/>
            <p:nvPr/>
          </p:nvSpPr>
          <p:spPr>
            <a:xfrm rot="20926800">
              <a:off x="2202840" y="3178080"/>
              <a:ext cx="41648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2200" y="1413000"/>
            <a:ext cx="713124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2013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日，复旦大学一名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2010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级在读医科研究生出现身体不适。当晚，被送至该校附属某医院就诊。入院后，病情加重，先后出现昏迷、肝功能衰竭等症状。医院组织了多次全市专家会诊，并经病因学检查，未发现病因。学校要求医院全力救治，并请上海警方介入调查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日，上海警方通报，在该学生的寝室饮水机残留水中检测出某有毒化合物成分。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日，基本认定同寝室某同学存在嫌疑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581800"/>
            <a:ext cx="9144000" cy="57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340000"/>
            <a:ext cx="777744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99"/>
                </a:solidFill>
                <a:latin typeface="Arial"/>
              </a:rPr>
              <a:t>这不是第一起高校</a:t>
            </a:r>
            <a:r>
              <a:rPr b="1" lang="zh-CN" sz="5400" spc="-1" strike="noStrike">
                <a:solidFill>
                  <a:srgbClr val="336699"/>
                </a:solidFill>
                <a:latin typeface="Arial"/>
              </a:rPr>
              <a:t>投毒</a:t>
            </a:r>
            <a:r>
              <a:rPr b="0" lang="zh-CN" sz="4400" spc="-1" strike="noStrike">
                <a:solidFill>
                  <a:srgbClr val="336699"/>
                </a:solidFill>
                <a:latin typeface="Arial"/>
              </a:rPr>
              <a:t>事件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581800"/>
            <a:ext cx="9144000" cy="57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1044720" y="3321000"/>
            <a:ext cx="7056360" cy="1800"/>
          </a:xfrm>
          <a:prstGeom prst="line">
            <a:avLst/>
          </a:prstGeom>
          <a:ln w="889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398600" y="2340000"/>
            <a:ext cx="76320" cy="1022400"/>
            <a:chOff x="1398600" y="2340000"/>
            <a:chExt cx="76320" cy="1022400"/>
          </a:xfrm>
        </p:grpSpPr>
        <p:sp>
          <p:nvSpPr>
            <p:cNvPr id="97" name="Oval 4"/>
            <p:cNvSpPr/>
            <p:nvPr/>
          </p:nvSpPr>
          <p:spPr>
            <a:xfrm>
              <a:off x="1398600" y="3286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V="1">
              <a:off x="1425240" y="2340000"/>
              <a:ext cx="1800" cy="93672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6"/>
          <p:cNvSpPr/>
          <p:nvPr/>
        </p:nvSpPr>
        <p:spPr>
          <a:xfrm>
            <a:off x="924840" y="1665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1994</a:t>
            </a: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年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清华朱令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3486240" y="3287880"/>
            <a:ext cx="75960" cy="1013400"/>
            <a:chOff x="3486240" y="3287880"/>
            <a:chExt cx="75960" cy="1013400"/>
          </a:xfrm>
        </p:grpSpPr>
        <p:sp>
          <p:nvSpPr>
            <p:cNvPr id="101" name="Oval 8"/>
            <p:cNvSpPr/>
            <p:nvPr/>
          </p:nvSpPr>
          <p:spPr>
            <a:xfrm>
              <a:off x="3486240" y="32878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 flipV="1">
              <a:off x="3524400" y="3367800"/>
              <a:ext cx="0" cy="9334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3056040" y="440208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1997</a:t>
            </a: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年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北大铊中毒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7209000" y="2347920"/>
            <a:ext cx="75960" cy="1014120"/>
            <a:chOff x="7209000" y="2347920"/>
            <a:chExt cx="75960" cy="1014120"/>
          </a:xfrm>
        </p:grpSpPr>
        <p:sp>
          <p:nvSpPr>
            <p:cNvPr id="105" name="Oval 12"/>
            <p:cNvSpPr/>
            <p:nvPr/>
          </p:nvSpPr>
          <p:spPr>
            <a:xfrm>
              <a:off x="7209000" y="32860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3"/>
            <p:cNvSpPr/>
            <p:nvPr/>
          </p:nvSpPr>
          <p:spPr>
            <a:xfrm flipV="1">
              <a:off x="7243920" y="2347920"/>
              <a:ext cx="1080" cy="935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4"/>
          <p:cNvSpPr/>
          <p:nvPr/>
        </p:nvSpPr>
        <p:spPr>
          <a:xfrm>
            <a:off x="6895440" y="16653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年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复旦黄洋中毒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5"/>
          <p:cNvGrpSpPr/>
          <p:nvPr/>
        </p:nvGrpSpPr>
        <p:grpSpPr>
          <a:xfrm>
            <a:off x="5791320" y="3295800"/>
            <a:ext cx="75960" cy="1015920"/>
            <a:chOff x="5791320" y="3295800"/>
            <a:chExt cx="75960" cy="1015920"/>
          </a:xfrm>
        </p:grpSpPr>
        <p:sp>
          <p:nvSpPr>
            <p:cNvPr id="109" name="Oval 16"/>
            <p:cNvSpPr/>
            <p:nvPr/>
          </p:nvSpPr>
          <p:spPr>
            <a:xfrm>
              <a:off x="5791320" y="32958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5821560" y="3376440"/>
              <a:ext cx="0" cy="935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8"/>
          <p:cNvSpPr/>
          <p:nvPr/>
        </p:nvSpPr>
        <p:spPr>
          <a:xfrm>
            <a:off x="5427720" y="4402080"/>
            <a:ext cx="16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微软雅黑"/>
                <a:ea typeface="微软雅黑"/>
              </a:rPr>
              <a:t>MORE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0" y="5581800"/>
            <a:ext cx="9144000" cy="57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33782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336699"/>
                </a:solidFill>
                <a:latin typeface="Arial"/>
              </a:rPr>
              <a:t>高材生为何要投毒？投毒案频频直击中国最高等学府，高校大学生畸形心理疾患令人关注！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397160" y="161604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99"/>
                </a:solidFill>
                <a:latin typeface="Arial"/>
                <a:ea typeface="微软雅黑"/>
              </a:rPr>
              <a:t>清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705120" y="1616040"/>
            <a:ext cx="17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99"/>
                </a:solidFill>
                <a:latin typeface="Arial"/>
                <a:ea typeface="微软雅黑"/>
              </a:rPr>
              <a:t>北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073920" y="16160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99"/>
                </a:solidFill>
                <a:latin typeface="Arial"/>
                <a:ea typeface="微软雅黑"/>
              </a:rPr>
              <a:t>复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117960" y="1982880"/>
            <a:ext cx="431640" cy="215640"/>
          </a:xfrm>
          <a:custGeom>
            <a:avLst/>
            <a:gdLst>
              <a:gd name="textAreaLeft" fmla="*/ 67320 w 431640"/>
              <a:gd name="textAreaRight" fmla="*/ 378000 w 431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5364000" y="1982880"/>
            <a:ext cx="432000" cy="215640"/>
          </a:xfrm>
          <a:custGeom>
            <a:avLst/>
            <a:gdLst>
              <a:gd name="textAreaLeft" fmla="*/ 6732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5581800"/>
            <a:ext cx="9144000" cy="57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244440"/>
            <a:ext cx="741672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Arial"/>
              </a:rPr>
              <a:t>专家分析：</a:t>
            </a:r>
            <a:r>
              <a:rPr b="0" lang="zh-CN" sz="2800" spc="-1" strike="noStrike">
                <a:solidFill>
                  <a:srgbClr val="336699"/>
                </a:solidFill>
                <a:latin typeface="Arial"/>
              </a:rPr>
              <a:t>当代大学生面临的心理疾患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247760" y="1984320"/>
            <a:ext cx="1289160" cy="2232000"/>
            <a:chOff x="1247760" y="1984320"/>
            <a:chExt cx="1289160" cy="2232000"/>
          </a:xfrm>
        </p:grpSpPr>
        <p:sp>
          <p:nvSpPr>
            <p:cNvPr id="122" name="AutoShape 4"/>
            <p:cNvSpPr/>
            <p:nvPr/>
          </p:nvSpPr>
          <p:spPr>
            <a:xfrm rot="16200000">
              <a:off x="776160" y="2455560"/>
              <a:ext cx="2232000" cy="128916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1248120" y="2572560"/>
              <a:ext cx="128844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760" rIns="37692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化与生活习惯的冲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3070080" y="1984320"/>
            <a:ext cx="1287720" cy="2232000"/>
            <a:chOff x="3070080" y="1984320"/>
            <a:chExt cx="1287720" cy="2232000"/>
          </a:xfrm>
        </p:grpSpPr>
        <p:sp>
          <p:nvSpPr>
            <p:cNvPr id="125" name="AutoShape 7"/>
            <p:cNvSpPr/>
            <p:nvPr/>
          </p:nvSpPr>
          <p:spPr>
            <a:xfrm rot="16200000">
              <a:off x="2597760" y="2456280"/>
              <a:ext cx="2232000" cy="12877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3070080" y="2573280"/>
              <a:ext cx="12877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760" rIns="37692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个人独立空间变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890960" y="1984320"/>
            <a:ext cx="1287720" cy="2232000"/>
            <a:chOff x="4890960" y="1984320"/>
            <a:chExt cx="1287720" cy="2232000"/>
          </a:xfrm>
        </p:grpSpPr>
        <p:sp>
          <p:nvSpPr>
            <p:cNvPr id="128" name="AutoShape 10"/>
            <p:cNvSpPr/>
            <p:nvPr/>
          </p:nvSpPr>
          <p:spPr>
            <a:xfrm rot="16200000">
              <a:off x="4418640" y="2456280"/>
              <a:ext cx="2232000" cy="12877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>
              <a:off x="4890960" y="2573280"/>
              <a:ext cx="12877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760" rIns="37692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来自学习的压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6708600" y="1984320"/>
            <a:ext cx="1287720" cy="2232000"/>
            <a:chOff x="6708600" y="1984320"/>
            <a:chExt cx="1287720" cy="2232000"/>
          </a:xfrm>
        </p:grpSpPr>
        <p:sp>
          <p:nvSpPr>
            <p:cNvPr id="131" name="AutoShape 13"/>
            <p:cNvSpPr/>
            <p:nvPr/>
          </p:nvSpPr>
          <p:spPr>
            <a:xfrm rot="16200000">
              <a:off x="6236280" y="2456280"/>
              <a:ext cx="2232000" cy="1287720"/>
            </a:xfrm>
            <a:prstGeom prst="flowChartManualOperation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6708600" y="2573280"/>
              <a:ext cx="12877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760" rIns="37692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个人缺乏包容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244440"/>
            <a:ext cx="777708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Arial"/>
              </a:rPr>
              <a:t>专家支招</a:t>
            </a:r>
            <a:r>
              <a:rPr b="0" lang="zh-CN" sz="3200" spc="-1" strike="noStrike">
                <a:solidFill>
                  <a:srgbClr val="336699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Arial"/>
              </a:rPr>
              <a:t>如何处理同学关系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373640" y="4789440"/>
            <a:ext cx="223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376360" y="1547640"/>
            <a:ext cx="4101840" cy="3960720"/>
            <a:chOff x="2376360" y="1547640"/>
            <a:chExt cx="4101840" cy="3960720"/>
          </a:xfrm>
        </p:grpSpPr>
        <p:sp>
          <p:nvSpPr>
            <p:cNvPr id="136" name="Oval 5"/>
            <p:cNvSpPr/>
            <p:nvPr/>
          </p:nvSpPr>
          <p:spPr>
            <a:xfrm>
              <a:off x="3829680" y="1547640"/>
              <a:ext cx="119520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4081680" y="1706760"/>
              <a:ext cx="9738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交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"/>
            <p:cNvSpPr/>
            <p:nvPr/>
          </p:nvSpPr>
          <p:spPr>
            <a:xfrm>
              <a:off x="5283000" y="2603880"/>
              <a:ext cx="119520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8"/>
            <p:cNvSpPr/>
            <p:nvPr/>
          </p:nvSpPr>
          <p:spPr>
            <a:xfrm>
              <a:off x="5458320" y="2778480"/>
              <a:ext cx="8449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关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>
              <a:off x="4728240" y="4313160"/>
              <a:ext cx="119484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4902480" y="4488120"/>
              <a:ext cx="84564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1"/>
            <p:cNvSpPr/>
            <p:nvPr/>
          </p:nvSpPr>
          <p:spPr>
            <a:xfrm>
              <a:off x="2931840" y="4313160"/>
              <a:ext cx="119484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2"/>
            <p:cNvSpPr/>
            <p:nvPr/>
          </p:nvSpPr>
          <p:spPr>
            <a:xfrm>
              <a:off x="3106440" y="4488120"/>
              <a:ext cx="84564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自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3"/>
            <p:cNvSpPr/>
            <p:nvPr/>
          </p:nvSpPr>
          <p:spPr>
            <a:xfrm>
              <a:off x="2376360" y="2603880"/>
              <a:ext cx="1195560" cy="1195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4"/>
            <p:cNvSpPr/>
            <p:nvPr/>
          </p:nvSpPr>
          <p:spPr>
            <a:xfrm>
              <a:off x="2551320" y="2778480"/>
              <a:ext cx="84492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200" rIns="43200" tIns="43200" bIns="4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5"/>
          <p:cNvGrpSpPr/>
          <p:nvPr/>
        </p:nvGrpSpPr>
        <p:grpSpPr>
          <a:xfrm>
            <a:off x="3609720" y="2778120"/>
            <a:ext cx="1648080" cy="1534680"/>
            <a:chOff x="3609720" y="2778120"/>
            <a:chExt cx="1648080" cy="1534680"/>
          </a:xfrm>
        </p:grpSpPr>
        <p:sp>
          <p:nvSpPr>
            <p:cNvPr id="147" name="Line 16"/>
            <p:cNvSpPr/>
            <p:nvPr/>
          </p:nvSpPr>
          <p:spPr>
            <a:xfrm>
              <a:off x="4411080" y="2778120"/>
              <a:ext cx="360" cy="8460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7"/>
            <p:cNvSpPr/>
            <p:nvPr/>
          </p:nvSpPr>
          <p:spPr>
            <a:xfrm flipV="1">
              <a:off x="4411080" y="3398040"/>
              <a:ext cx="846720" cy="2260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8"/>
            <p:cNvSpPr/>
            <p:nvPr/>
          </p:nvSpPr>
          <p:spPr>
            <a:xfrm>
              <a:off x="4413600" y="3625200"/>
              <a:ext cx="612360" cy="6876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 flipH="1">
              <a:off x="3829320" y="3616560"/>
              <a:ext cx="587880" cy="6883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 flipH="1" flipV="1">
              <a:off x="3609720" y="3409200"/>
              <a:ext cx="800280" cy="213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768240" y="755640"/>
            <a:ext cx="7559640" cy="855720"/>
            <a:chOff x="768240" y="755640"/>
            <a:chExt cx="7559640" cy="855720"/>
          </a:xfrm>
        </p:grpSpPr>
        <p:sp>
          <p:nvSpPr>
            <p:cNvPr id="153" name="AutoShape 3"/>
            <p:cNvSpPr/>
            <p:nvPr/>
          </p:nvSpPr>
          <p:spPr>
            <a:xfrm>
              <a:off x="768240" y="755640"/>
              <a:ext cx="7559640" cy="8553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"/>
            <p:cNvSpPr/>
            <p:nvPr/>
          </p:nvSpPr>
          <p:spPr>
            <a:xfrm>
              <a:off x="2409480" y="841320"/>
              <a:ext cx="591768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良好的同学关系全赖互相了解，要达到互相之间彼此了解，就要加强交流，在思想和态度方面加强沟通，课余时间多搞一些社交活动，如打球、下棋、郊游等，增进了解，友谊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897480" y="840600"/>
              <a:ext cx="1511640" cy="68436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1226520" y="97776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交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768240" y="1697040"/>
            <a:ext cx="7559640" cy="915840"/>
            <a:chOff x="768240" y="1697040"/>
            <a:chExt cx="7559640" cy="915840"/>
          </a:xfrm>
        </p:grpSpPr>
        <p:sp>
          <p:nvSpPr>
            <p:cNvPr id="158" name="AutoShape 8"/>
            <p:cNvSpPr/>
            <p:nvPr/>
          </p:nvSpPr>
          <p:spPr>
            <a:xfrm>
              <a:off x="768240" y="1697040"/>
              <a:ext cx="7559640" cy="8542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2409480" y="1843560"/>
              <a:ext cx="591768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希望得到人的关心是基本需要，你愈关心别人，你在她生活中的必要性将因之而得到增加，自然而然她也会转而关心你，一但彼此之间互相关心，同学关系就自然密切了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897480" y="1782000"/>
              <a:ext cx="1511640" cy="68364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1"/>
            <p:cNvSpPr/>
            <p:nvPr/>
          </p:nvSpPr>
          <p:spPr>
            <a:xfrm>
              <a:off x="1226520" y="188856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关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768240" y="2638440"/>
            <a:ext cx="7559640" cy="853920"/>
            <a:chOff x="768240" y="2638440"/>
            <a:chExt cx="7559640" cy="853920"/>
          </a:xfrm>
        </p:grpSpPr>
        <p:sp>
          <p:nvSpPr>
            <p:cNvPr id="163" name="AutoShape 13"/>
            <p:cNvSpPr/>
            <p:nvPr/>
          </p:nvSpPr>
          <p:spPr>
            <a:xfrm>
              <a:off x="768240" y="2638440"/>
              <a:ext cx="7559640" cy="8539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2409480" y="2821320"/>
              <a:ext cx="59176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“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人无完人”，任何人总是有缺点的，也总会做错事的，这些都是正常和不可避免的，对他人的缺点和错误能持一种宽容的态度，不要计较，别人会很感激并愿意与你交流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5"/>
            <p:cNvSpPr/>
            <p:nvPr/>
          </p:nvSpPr>
          <p:spPr>
            <a:xfrm>
              <a:off x="897480" y="2723760"/>
              <a:ext cx="1511640" cy="68328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1226520" y="284436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773280" y="3587760"/>
            <a:ext cx="7561080" cy="853920"/>
            <a:chOff x="773280" y="3587760"/>
            <a:chExt cx="7561080" cy="853920"/>
          </a:xfrm>
        </p:grpSpPr>
        <p:sp>
          <p:nvSpPr>
            <p:cNvPr id="168" name="AutoShape 18"/>
            <p:cNvSpPr/>
            <p:nvPr/>
          </p:nvSpPr>
          <p:spPr>
            <a:xfrm>
              <a:off x="773280" y="3587760"/>
              <a:ext cx="7561080" cy="8539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9"/>
            <p:cNvSpPr/>
            <p:nvPr/>
          </p:nvSpPr>
          <p:spPr>
            <a:xfrm>
              <a:off x="2414880" y="3664440"/>
              <a:ext cx="5918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大多人性格和习惯方面有些毛病，应刻意改变自己的不良性格和习惯，尽可能做到： 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)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服饰整洁美观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)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习惯面带笑容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) 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注意言谈举止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) 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不要卖弄自己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)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多帮助别人。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)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善于赞美别人。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0"/>
            <p:cNvSpPr/>
            <p:nvPr/>
          </p:nvSpPr>
          <p:spPr>
            <a:xfrm>
              <a:off x="902880" y="3673080"/>
              <a:ext cx="1512000" cy="68328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1231560" y="379368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2"/>
          <p:cNvGrpSpPr/>
          <p:nvPr/>
        </p:nvGrpSpPr>
        <p:grpSpPr>
          <a:xfrm>
            <a:off x="777960" y="4537080"/>
            <a:ext cx="7561080" cy="855720"/>
            <a:chOff x="777960" y="4537080"/>
            <a:chExt cx="7561080" cy="855720"/>
          </a:xfrm>
        </p:grpSpPr>
        <p:sp>
          <p:nvSpPr>
            <p:cNvPr id="173" name="AutoShape 23"/>
            <p:cNvSpPr/>
            <p:nvPr/>
          </p:nvSpPr>
          <p:spPr>
            <a:xfrm>
              <a:off x="777960" y="4537080"/>
              <a:ext cx="7561080" cy="8557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4"/>
            <p:cNvSpPr/>
            <p:nvPr/>
          </p:nvSpPr>
          <p:spPr>
            <a:xfrm>
              <a:off x="2419560" y="4613760"/>
              <a:ext cx="59187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t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有时我们对某人好时她反而不领情，离我们远远的。究其原因有两点：其一，按互酬水平，你的关心别人是要回报的。其二，任何人内心都有自己的一个空间，只有自己拥有，再好的朋友，如果她不想让你进入而又无法回绝，只好采取敬而远之的态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>
              <a:off x="907560" y="4622760"/>
              <a:ext cx="1512000" cy="684720"/>
            </a:xfrm>
            <a:prstGeom prst="roundRect">
              <a:avLst>
                <a:gd name="adj" fmla="val 10000"/>
              </a:avLst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6"/>
            <p:cNvSpPr/>
            <p:nvPr/>
          </p:nvSpPr>
          <p:spPr>
            <a:xfrm>
              <a:off x="1236240" y="4743360"/>
              <a:ext cx="9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44360" y="2484360"/>
            <a:ext cx="598644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Arial"/>
              </a:rPr>
              <a:t>本是同根生，相煎何太急。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Arial"/>
              </a:rPr>
              <a:t>好好沟通，没有什么事情解决不了的嘛！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8" name="Picture 3" descr="2"/>
          <p:cNvPicPr/>
          <p:nvPr/>
        </p:nvPicPr>
        <p:blipFill>
          <a:blip r:embed="rId1"/>
          <a:srcRect l="0" t="0" r="49823" b="0"/>
          <a:stretch/>
        </p:blipFill>
        <p:spPr>
          <a:xfrm>
            <a:off x="6661080" y="1365120"/>
            <a:ext cx="19116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02T02:22:44Z</dcterms:modified>
  <cp:revision>1</cp:revision>
  <dc:subject/>
  <dc:title>从复旦投毒案 看当代大学生的心理疾患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