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B176D-D4FF-404C-B8CC-8987A8E5E2B8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7" name="备注占位符 4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AA9EA-94F5-4654-8EC7-6191C996A599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-3852720" y="0"/>
            <a:ext cx="8165880" cy="612612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海南三亚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装机量？规模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4F94-AA95-456E-9049-333C9225C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32AA-6D16-4AD1-B073-CDB9907B9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5B5DF1-DB9C-4142-BFC8-E718A8924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69CA3B-C4A5-4B3F-8732-CD3D2041D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D8D25F-1C08-41E3-A459-3022E984C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78B9A0-ECE3-42BF-B954-0930A4D6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B27176-9EE4-404C-892E-87E8C126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74CEB0-DE84-4F9F-8FD7-7AC99713A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68C5AA-1635-4938-913D-585B7F138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F54724-681A-4ACB-84E6-6B2B21AB8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FB8949-7443-4D03-8DA5-EE953C893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F81212-4A87-4FFA-AC8B-E6512F0FF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AE79-5175-469E-9EC9-D730400BE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525E15-823B-4C85-91F0-98E812E44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038885-7600-4141-9BC8-7EE8BD1DD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95E3E9-BEE7-433A-845D-21DC95A55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5C3794-7D20-47F9-BBE8-D1BCCFF0B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DCEFE1-20C2-4A20-92D5-E53E5378B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44EE9A-4DF8-468A-A82A-0A5641B7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FA2158-640A-42C1-8BF7-18ED5BEA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4A79EB-590A-4465-A56A-A79027A5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6032CF-620F-404F-A068-A80E169FC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E10250-35DF-4490-AE0B-F6C7247F9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D060-FACD-4CD3-9709-B995D1C25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8E0945-99E3-490B-B4F3-624A0B3A1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B5BF78-529C-40F1-BDEA-6206AA5BB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84E22D-0C0E-4B5C-BD77-11D19C6A3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FA79C7-1556-4E1D-9674-D15BD1A9A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A9939E-8421-42B3-BEE5-59BDB9CDA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CD9664-D877-44BC-A513-89ED53966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EC5667-E2C6-4142-8AB9-1C15CBC52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8E2EEF-37C2-4C6A-A1F8-37BE45E5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1DAB89-2B40-409F-BDED-C298D960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48AEE5-6675-40E1-9C9A-53CB88B9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9416C-B3A9-47D4-90FC-76DE7A5BE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14C03A-F2CA-4565-A118-B7A3863A1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EB11EC-B63E-461F-858C-F8904E650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BEA98E-90AA-4032-B4C7-2E71CC8CB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D93945-3F85-4426-94D9-3E426CA7F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EA1DD6-7CE6-4409-B66E-FBDE124E1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C3F5E9-0639-4C77-9C6A-1AB389B66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2E2C67-C70F-4B8C-B3CC-0FAACFE03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63E917-D53B-4F78-A3B8-BAED98DC7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53D20F-2E77-484A-A6F8-D674177F1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90B121-E84E-4EBC-B5DE-E53C3B76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6CCD7-9255-4F67-B325-27E696235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7172F5-61F9-4193-A616-9CA9B829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0B89C5-2184-4DA6-8FC6-F1FE13C4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A65EB2-2B0A-40BB-A786-24BAA1935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57426E-70DB-4B11-9655-29817CF78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9BE963-6CA3-45AD-8FFF-9DE8A2032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7F3118-84C0-4564-B340-F50C1AC05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A0EEC8-F146-4589-85A4-637A362FE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B79589-C469-4686-8CC7-472242B91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A23F5D-FEF1-4326-95D4-46A1E5064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A05B64-2FBA-4E31-8623-8B344C87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30008-08E2-4C95-BDE2-A0D1CBD87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CA1903-2403-411F-B9E8-57550A54B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7A89F9-DDD3-4411-8DC8-9712738C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F5DC20-7BA2-4881-8C89-4E2A530E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B1F394-38FD-4A43-9E81-BCB80DA3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278A4C-00E9-4405-BB3D-C3728490C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A048A7-5AC6-4233-9391-5D46E4CED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B3696F-F6CD-4FCE-9A84-0902F39AC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E2B42-BE83-4FA8-B79B-5F9A52D5D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6ECEC-8F67-4380-9B1C-9D7BCC0D3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1255B-D3C3-41D7-B6EC-77484B919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B2C89-4A87-4DAF-9B39-2DBFD26CA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D038-DCD0-4F67-9B1A-A5328E340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AD1DE-3F71-4BC3-9399-F1D93C50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7D3EC-8484-4044-98A2-6B619643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8ABBB-A3C0-493C-9D3B-37A8EF363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F6CDA-7474-4E51-822F-F207D6FB3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6FCE7-3132-448D-AADE-275BAFB0B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D1D6F-CE49-4499-9522-334C67DD4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5A28F-6460-4C98-BE07-34EDB5B1E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EFF29-3920-4031-B3D6-1929DD2A6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31C4E-4E8F-4D5C-9098-1D6CB06F5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FA03C-DD72-4498-8A9E-9AA5CA444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7D64-0FBA-47A6-B727-0127A4DD1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5BFA1-FEBC-41CA-95BD-56E65E8BE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A3ED8-E9C2-456C-A348-4A0B7047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159BC-26B6-484D-B2C5-33699EE4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F0F30-FFC8-4B14-BEB1-93603722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68FC4-96A2-455E-95A4-330BC27F3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2E428-F3B8-4F4A-B6E2-9FFBD544C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5D934-AF9A-449C-A87E-F1C135072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8F694-7938-4AAA-A662-BF24A9553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F3385-23BF-4954-BFFE-51CEB0298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F3501-429D-4B1B-A62D-5B4578150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6586-233F-4692-88A7-4114D10DF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8B803-E1ED-4E75-AB98-095EB9A9D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3EE5F-9BA4-4A54-9C41-B2C1AB3F3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A3247-82FC-418A-BDD2-3E70E683B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18912-1837-40C6-95B5-BA50B0C7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EEF3E-15A7-4464-A649-B470F7F1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0002A-0A6E-4EE5-B319-A6ED4A91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D5597-5C0F-4FDB-9152-AA4CF8722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1104B-6C98-41AD-9F0F-AD5A7E7B4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17C42-6DD8-4432-BAD6-B024ED083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B702A-57E7-4720-B867-F5DB670AE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7007-BEED-462F-9471-A63F561CB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08A0A-56AF-4058-B449-ECADD5A54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EBFF2-E37A-4A74-AA52-17E45D398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C7510-D3FB-4470-BA15-28A46B11D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2381F-D608-4DD0-820C-3558D7114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DBCFA-1392-48F3-91BF-473611B5D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77EFE-5085-4010-876F-60A44735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EA85C-E93F-4D69-8B1E-E0C95B62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4CA38-DAAE-4A77-A18A-9168609A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A2B88-8366-4B7A-A0A9-316DDEC2D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BCC55-97A6-4D70-9CE3-39822030C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0133-3E6A-4A53-8025-283891DCD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74387-6BD8-45F1-8BD2-A64F174C0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A14BF-01AF-47C6-A6EB-A6C185EC3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125D7-4580-480F-88C8-4B35270F6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28AD7-AB35-4A54-B38A-70355D442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F42F1-F12D-4360-91D9-FC8C87617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A1533-BE9C-407B-A8F4-97BBED86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20CBD-765C-494F-91CF-931DDBED9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66286-11C8-4059-831D-F447FA7A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8776D-A890-4D5B-9954-58B99595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2CF97-8EC9-40E5-A644-1EE12EAD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0403-DF6B-4AC7-AB8D-2842B0EC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093AB-EB96-4C1D-9B59-48EB6B6A8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9B27C-DDEA-45DA-975B-E62CF1B23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1539D-4702-485D-ACFF-C9614E97F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34904A-1E69-4A41-8AF7-145EF65AC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A46C2A-953B-42C9-BC3B-4224EA4ED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220351-87B5-49DC-B8F9-D5670AAB1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CC196F-B288-4432-AF81-DE767C3CB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E5363-2B80-4B52-8159-C2F5A908B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C6AC2-A50F-4B98-BED4-752647F51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5614EF-B1ED-479E-A80D-DB104FDC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3F78-4C12-42AF-BFC2-C6272498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7DDAB-EBBD-419D-95B2-ED210DFD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5E128-2661-4641-9B0F-51C29866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576A7-E053-4565-8C07-DBEF1FF1D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FC949-EA19-40A6-9952-94E5F7FF5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53C36E-7607-46B2-B919-C76075706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D6DD4-4DE5-4163-99E7-CDA70A930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76F4F-2C13-433D-B5D7-B8586D0A6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2E1D77-8B79-4024-A323-8E5FB2095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3A86C0-EE02-4547-855F-89CD2266F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D2E405-1284-4C9B-9338-B289D7138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4462-50D6-4F05-9F85-C1BD7D21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C0B6DC-4FF8-4C51-BC7B-66A3E61B3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63D129-0D06-4CFD-85EE-E31A9867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887AB-8BAC-4DA4-B14E-84E02789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2B2AAD-A0C2-4C17-8666-18C78442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228E31-BBFC-4E72-AF9F-7389C86BE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6EC48C-F219-42E5-BA00-744B84D6D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F6980E-84DF-40A2-B62B-69A1FCCAA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DF5880-BD95-4BCB-A5C1-14E704F21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BF4BDE-6B66-476A-BD0A-D9B8FEEE1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BD1B79-6B7B-40F5-BBF3-5D332DF20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679A8-9764-414A-97D7-F024894E2A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B919D-8925-448B-8BD8-8DA892BEF50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A231A-8A5B-4F2B-AD24-1C2EFB38EA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093A7-BE64-4C8E-8208-C8CCB35F5D0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06BD7-642F-48F2-AE89-C4EDE25600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A9450-58B6-4AE0-A24D-A2D2E01F7D6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B570A-24B0-4A01-A735-65BE678779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95CFA-603A-48EF-98CD-F4209DAF53F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B736D-C784-4DFB-B9FD-4BD8948209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090D8-5868-4D9E-81C0-D3CFA896A05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E2772-3A9D-4275-8FD3-2D4F7F9C04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7BC17-EB7F-49F9-ADED-2288205C4E9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5E4C5-1D7E-4322-85CC-043205BF2B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23A7D-A2F9-4DFD-A9E9-50C3C44CDF8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7C73F-1328-4AD8-B33B-844E606277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6E3CF-3186-4ECB-AD6A-30547D0F8A4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490A4-B1CF-4D52-AFAE-D7169330BB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616EE-1C0D-41EA-B7FF-D12C7139797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7ED39-C19B-4E4C-ACAA-EDB6DE128C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49303-0F5A-4BE8-ADF7-2CA3741C009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3B6AD-ED8B-4B35-B6BB-7D36739EA0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8C26D-E74B-41E9-B141-BCF7A93BCCD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30FB5-642B-422B-97C7-33FD82E13C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CB223-B162-4996-840F-934C88F3504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32A71-2890-4A21-BD3B-10876DE0F1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4" descr=""/>
          <p:cNvPicPr/>
          <p:nvPr/>
        </p:nvPicPr>
        <p:blipFill>
          <a:blip r:embed="rId1"/>
          <a:stretch/>
        </p:blipFill>
        <p:spPr>
          <a:xfrm>
            <a:off x="-6480" y="1828800"/>
            <a:ext cx="9150480" cy="193356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75960" y="2035080"/>
            <a:ext cx="60195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设计</a:t>
            </a: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3" name="椭圆 1"/>
          <p:cNvSpPr/>
          <p:nvPr/>
        </p:nvSpPr>
        <p:spPr>
          <a:xfrm>
            <a:off x="6248520" y="1343160"/>
            <a:ext cx="2895480" cy="2895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13" descr="Smiling Sun"/>
          <p:cNvPicPr/>
          <p:nvPr/>
        </p:nvPicPr>
        <p:blipFill>
          <a:blip r:embed="rId2"/>
          <a:stretch/>
        </p:blipFill>
        <p:spPr>
          <a:xfrm>
            <a:off x="6539040" y="1662120"/>
            <a:ext cx="2295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5" name="Group 2"/>
          <p:cNvGrpSpPr/>
          <p:nvPr/>
        </p:nvGrpSpPr>
        <p:grpSpPr>
          <a:xfrm>
            <a:off x="0" y="166680"/>
            <a:ext cx="9153360" cy="1368360"/>
            <a:chOff x="0" y="166680"/>
            <a:chExt cx="9153360" cy="1368360"/>
          </a:xfrm>
        </p:grpSpPr>
        <p:pic>
          <p:nvPicPr>
            <p:cNvPr id="546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196560"/>
              <a:ext cx="9153360" cy="129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矩形 1"/>
            <p:cNvSpPr/>
            <p:nvPr/>
          </p:nvSpPr>
          <p:spPr>
            <a:xfrm>
              <a:off x="2361960" y="166680"/>
              <a:ext cx="6781680" cy="1368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项目简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的工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成果与总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Group 2"/>
          <p:cNvGrpSpPr/>
          <p:nvPr/>
        </p:nvGrpSpPr>
        <p:grpSpPr>
          <a:xfrm>
            <a:off x="0" y="166680"/>
            <a:ext cx="9153360" cy="1368360"/>
            <a:chOff x="0" y="166680"/>
            <a:chExt cx="9153360" cy="1368360"/>
          </a:xfrm>
        </p:grpSpPr>
        <p:pic>
          <p:nvPicPr>
            <p:cNvPr id="551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196560"/>
              <a:ext cx="9153360" cy="129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矩形 15"/>
            <p:cNvSpPr/>
            <p:nvPr/>
          </p:nvSpPr>
          <p:spPr>
            <a:xfrm>
              <a:off x="2361960" y="166680"/>
              <a:ext cx="6781680" cy="1368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简介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4" name="TextBox 4"/>
          <p:cNvSpPr/>
          <p:nvPr/>
        </p:nvSpPr>
        <p:spPr>
          <a:xfrm>
            <a:off x="-378000" y="-378000"/>
            <a:ext cx="1368720" cy="23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1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63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项目简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C089C-340D-4F63-A8C0-077F673FC1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Group 2"/>
          <p:cNvGrpSpPr/>
          <p:nvPr/>
        </p:nvGrpSpPr>
        <p:grpSpPr>
          <a:xfrm>
            <a:off x="0" y="166680"/>
            <a:ext cx="9153360" cy="1368360"/>
            <a:chOff x="0" y="166680"/>
            <a:chExt cx="9153360" cy="1368360"/>
          </a:xfrm>
        </p:grpSpPr>
        <p:pic>
          <p:nvPicPr>
            <p:cNvPr id="558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196560"/>
              <a:ext cx="9153360" cy="129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矩形 10"/>
            <p:cNvSpPr/>
            <p:nvPr/>
          </p:nvSpPr>
          <p:spPr>
            <a:xfrm>
              <a:off x="2361960" y="166680"/>
              <a:ext cx="6781680" cy="1368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的工作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7"/>
          <p:cNvSpPr/>
          <p:nvPr/>
        </p:nvSpPr>
        <p:spPr>
          <a:xfrm>
            <a:off x="-378000" y="-378000"/>
            <a:ext cx="1140120" cy="23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1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5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250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250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Group 2"/>
          <p:cNvGrpSpPr/>
          <p:nvPr/>
        </p:nvGrpSpPr>
        <p:grpSpPr>
          <a:xfrm>
            <a:off x="0" y="166680"/>
            <a:ext cx="9153360" cy="1368360"/>
            <a:chOff x="0" y="166680"/>
            <a:chExt cx="9153360" cy="1368360"/>
          </a:xfrm>
        </p:grpSpPr>
        <p:pic>
          <p:nvPicPr>
            <p:cNvPr id="564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196560"/>
              <a:ext cx="9153360" cy="129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5" name="矩形 8"/>
            <p:cNvSpPr/>
            <p:nvPr/>
          </p:nvSpPr>
          <p:spPr>
            <a:xfrm>
              <a:off x="2361960" y="166680"/>
              <a:ext cx="6781680" cy="1368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果与总结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7" name="TextBox 6"/>
          <p:cNvSpPr/>
          <p:nvPr/>
        </p:nvSpPr>
        <p:spPr>
          <a:xfrm>
            <a:off x="-378000" y="-378000"/>
            <a:ext cx="1140120" cy="23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1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4" descr=""/>
          <p:cNvPicPr/>
          <p:nvPr/>
        </p:nvPicPr>
        <p:blipFill>
          <a:blip r:embed="rId1"/>
          <a:stretch/>
        </p:blipFill>
        <p:spPr>
          <a:xfrm>
            <a:off x="-6480" y="1828800"/>
            <a:ext cx="9150480" cy="1933560"/>
          </a:xfrm>
          <a:prstGeom prst="rect">
            <a:avLst/>
          </a:prstGeom>
          <a:ln w="0">
            <a:noFill/>
          </a:ln>
        </p:spPr>
      </p:pic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5960" y="2035080"/>
            <a:ext cx="60195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微软雅黑"/>
              </a:rPr>
              <a:t>Thank you !</a:t>
            </a:r>
            <a:endParaRPr b="0" lang="en-US" sz="4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0" name="椭圆 1"/>
          <p:cNvSpPr/>
          <p:nvPr/>
        </p:nvSpPr>
        <p:spPr>
          <a:xfrm>
            <a:off x="6248520" y="1343160"/>
            <a:ext cx="2895480" cy="2895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13" descr="Smiling Sun"/>
          <p:cNvPicPr/>
          <p:nvPr/>
        </p:nvPicPr>
        <p:blipFill>
          <a:blip r:embed="rId2"/>
          <a:stretch/>
        </p:blipFill>
        <p:spPr>
          <a:xfrm>
            <a:off x="6539040" y="1662120"/>
            <a:ext cx="2295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7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112-12-31T16:00:00Z</dcterms:created>
  <dc:creator>kingsoft</dc:creator>
  <dc:description/>
  <cp:keywords/>
  <dc:language>en-US</dc:language>
  <cp:lastModifiedBy>a</cp:lastModifiedBy>
  <dcterms:modified xsi:type="dcterms:W3CDTF">2014-07-29T06:50:39Z</dcterms:modified>
  <cp:revision>6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  <property fmtid="{D5CDD505-2E9C-101B-9397-08002B2CF9AE}" pid="3" name="Version">
    <vt:r8>1</vt:r8>
  </property>
</Properties>
</file>