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D08-2AA5-4F3F-9181-CA76D6FF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F8F-FB63-4E66-ACF3-93DDB3C0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775A3-4F9E-49C7-8D4B-42430DCB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820F1-B415-4163-9489-83473769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4EB68-0BE2-4516-9D84-670F8C06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DB7A3-6FD3-422D-9E86-FBDEA302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1D353-C6B2-4194-8A3F-0D75C210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3250C-6721-4477-8F41-3725EDF6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35BB8-B762-4FC3-B3A9-63670DAD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A5F92-69AE-4BEB-B621-FB296150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27AFA-A52C-4997-AEFF-3F57AD2B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E699D-5367-4D8E-B44D-53D52FE2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C0A-6689-469F-A22B-3F36A678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4D53F-5F5C-43DB-AF40-F4E3658B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D1DF2-B4C5-497D-A7BC-832917CE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3CF56-D00A-45FC-8356-8CCAA2D7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34834-0347-4F86-9C23-8C3D61ED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D87B3-E73E-40BF-927D-602BEB8E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45AC4-B57A-41F9-A858-1410A99A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33FAC-7B17-4B22-AC23-D5C35BE2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56266-45E5-4744-9086-5C404098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2047A-1C6A-498D-A27C-1232AFE9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EF2BF-782B-47DC-8C1D-FAD46C64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DA8-5E51-4F94-98CD-C5375656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1A54A-919A-4C33-A0D5-57DFB6DF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9F6B6-54AF-4FFB-AB27-7299D3E1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77715-2262-43CD-A368-8C0AC630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C2309-AFC5-4909-884F-6A4E6CBF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78F45-BE61-4668-8034-8628E87A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5DE32-6C1B-4C04-864C-79953438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01EA1-5EDD-42B8-8114-CC0BDBDF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006B5-9129-4427-9EB8-41261B8F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FA3FA-018D-4964-A4D8-A00A7086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098D0-6726-447A-BBBF-1AFECDFB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E2A6-331B-4D28-84D6-DFA2E6A1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5CD16-47AA-48AF-9F67-BE9FEB78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FA1BC-CC73-49EA-993B-5B12BDE0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F6672-4F12-4A44-AB4B-3FA74EF2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7173C-D479-4682-85A9-53719405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89BA0-F299-4F26-BF66-78E0D8E6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C8728-E657-4F04-B7C9-1790313A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3C1CF-BF7E-41DB-A549-AAAC5997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B92F3-7EE1-40DC-8403-D238103C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C5F54-60DB-401B-B360-D0FDF5E0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12725-5BB3-4B76-8D25-BBF615A6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7E29-C357-4686-B065-1BAD7677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90219-3F37-4A94-8467-50719DB5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67263-FF70-42A7-A2A6-FD764660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1C1DE-AFE8-498E-9427-550AAEF3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CCD76-E295-4182-A3DB-2831D779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39051-2FDC-40D7-9551-41F0F07E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34D86-FFCE-4406-BCEA-C4A8BBAB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C6DAE-829A-4A41-89E6-B3509292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3769E-B78D-4710-8A7C-7CFF569D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DBAA3-F1F1-4ADA-98F2-175AB0EB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F8D5C-FA52-4087-80CF-C012640B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D049-5C43-4EFB-AD8E-1E8DB23B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89EE0-F193-4646-B533-1F24C51F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EFC35-B549-4F26-8660-9EA74D6F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73086-AD94-4E0E-A29F-22D5EF27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3636C-D9BD-4229-B392-5D3386B7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F1234-9359-477C-BF98-5F0C79B2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AC1B3-4D79-4F94-885A-14E583BF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DC11C-DD36-4DAD-AEA5-19CC4D6E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408EA-8A87-4D6F-A543-D8821D6E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E7029-7B77-48D2-8148-AF55F261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31949-723A-4D9E-A77C-67F32D68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2EFC-1A6F-45BD-80BC-3D3A3034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A9783-CABF-49BE-A346-2B3CB207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C906F-E1AE-4220-8C26-9B88ADD6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254F3-F6A8-48B0-A565-BCDC9391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B43BA-E9AD-46E7-A2FF-5BA3B915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6BE37-76D6-400E-A7DC-FC698CE6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E2D81-1315-4234-BC2E-A10A1938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3EB73-53E7-4CDC-ADCC-D647F319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66E96-0B30-40A5-94E2-88C1B9D1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B2FD1-C571-450C-AB9E-75E16A54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47A6-4CA1-4F56-90D1-7D42248F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97B7-53DC-45B5-9C23-92CA5F56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0C5E-2F9F-46AE-AE19-4CFAF092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536-9FE5-49AC-B4BE-55D24885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FE0C-8252-4F61-9901-D43FF740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E043-B76C-47CA-841A-B33A7DC7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614B-AC5C-4F79-9D2D-0F7958B9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70F3-DF37-4FE5-8890-13839C4E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6921-6FBC-4E82-A501-B18474B2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2054-5C66-4138-AB47-BAE8C086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F06CA-7FD5-45CE-A20B-AAD57AB0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9454C-33B2-45CC-AFE0-F82BC319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F102-4B20-4C0B-B8A6-B77AF186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46A2B-B9AE-4B81-A616-A2CCB5FD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AA7-5C06-42E0-A022-B648899E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154A-0C82-4246-9676-1A0F6E4F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61C47-C996-4694-AC32-9345973A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D2B3E-8542-4721-8C45-51A94B6E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B4C5-D6BB-4707-8025-74430534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260D3-8FBC-43BC-ABAC-613D6428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97163-1156-4541-B778-01F61BD4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2F562-5149-4DC4-8903-70BD625F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6709E-7A1F-42FD-95F6-4635536C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9F37C-9F3B-458C-AB82-F90032E8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804FC-4CFD-4BCC-A742-9A43A046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EF5-0F14-4872-8BFB-7614641C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E99BA-7C48-4A73-8AF6-E22865EE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CD08E-CA5B-406E-AE46-37DF9FF4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89F48-4194-414F-BED3-543E4C44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A0286-C8E0-4C76-9ECD-E425B222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02335-CB89-45FE-9248-E7908E62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B21ED-DFEB-45A3-819D-4C04C4D7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0A873-81D1-4DF2-A154-647AD848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1FE48-D694-43A8-B03F-A8A72B46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97A65-A8F6-4DA6-9183-4A2C78F6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DEED0-E056-4059-8B39-1F328B5E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BC4-C754-49EB-B4C0-30A4510E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9BD90-37E7-4202-B3C3-237FA2BB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8512D-DCBD-42C4-A88D-618C3993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6EC75-F1AF-447F-A8E6-A2B7B368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96A31-F610-4810-B688-E37E09E6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E3BA8-5903-4785-A408-AC110E1C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51A52-7817-4A5A-86F1-F602576D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4149F-3978-471B-9CC5-8C75D261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C7394-A7EA-4D7D-8E72-700056FA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59296-3D2B-46B3-A434-F97D4E9B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60542-7855-4F49-9DB5-390C38FF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0B2-F9E2-4ED4-A096-D82382FB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914F3-0CE8-4053-84FD-84D94AFB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742F8-E11D-4825-8E54-ABC55FC0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797E5-C426-4648-A7B6-F6DEADBD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9EA9E-93EE-4036-8A9B-00ACB3BC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013B0-FFB6-43B9-9D3F-8C905181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AA024-AFFD-4A6A-9261-7DB2E913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523FB-DCC7-43BB-92E3-94D1167A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669E5-7DE6-4B32-8BB6-A8DB2885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F8BDE-C62A-4498-9235-F056D938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BAA6D-A9E1-4387-A17D-A639D88E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AB0-7215-4F9E-A531-EBE6904D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7F8F1-2247-4A66-8824-49AC888E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355F9-4548-4357-8998-8CB32098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582E6-CA80-4485-903A-36A3C0C5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F1214-4223-4597-BA1A-9ED2A8C0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83673-E7CC-4C6D-BA02-DE09A320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96BF5-82FF-4151-9B41-AFD1CCA3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6363E-0968-4F67-9014-785F60C0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D9188-4B56-4E47-BD32-8D1D0E13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F0056-3577-4C0E-B957-32C78E0C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E0F83-46C2-49B4-845F-21FDA6AB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378-548B-415E-8AF1-625F43FE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C6E7C-6975-4FF6-9AB0-E482F38D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4920F-2DF0-4E9D-834B-F94D0C76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15B57-EAA5-4273-B24B-B60AB6D7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DDE55-0175-4299-B126-D7B3EEBD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335C8-1EC2-4228-9A4D-A198743D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C7F2A-C46F-4FD6-818C-41FCB7DA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588A7-8464-47D3-A47B-444FD7E1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9A233-0F79-4884-9562-253F0059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F522D-E08D-497F-AB33-4F41A3CD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9CB7F-7415-467B-A7B5-88D2D8D5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606-2083-4B9D-BAA6-E4E40B17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1D7CC-DAFB-4E3B-82AC-165F3547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BBB38-8FF6-4CBF-B8ED-971C4BC8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451B4-9F4B-468D-8632-D358052E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9F3CC-74E4-40E8-B830-B93BAB79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E199A-ED84-43F2-97DC-85AD540F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6A085-8C32-43F8-87DD-DBA4649C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1B062-5796-4EC3-A3CC-D626AE71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CC4CE-921B-41F5-A6E1-05FBAF12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3164F-E364-4B48-8CD9-8BF47E13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51D36-8640-4647-823F-AF316440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A4D8-9FE1-48BA-9CAF-4BBE683664C2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0EC9-7933-449C-B7A1-AE351E14F0E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94DA-6E1D-4C16-80C8-87663B9314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ADFC-E3B6-4007-B4AB-7808AD33CC1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FC6C-EF2B-4C90-8CF2-F9DADFE1C1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4D5A-EF12-4503-AA98-8C168476203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C1F9-5AC9-4F31-B434-E09F71C550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3DC6-FF76-46B8-9132-7E83EEDEFFF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2A3B-7360-4475-A05F-AFD3F5AFEA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4E3D-7679-4744-A24D-01ADF24043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EC8F-0FE1-41CF-BA5D-8F11642BB5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91C6-3A81-4333-B921-AB63050A57E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6303-AF92-4075-8566-8CD680618F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74DE-7F63-49A4-9C12-ECD3E382E9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1F8F-CA68-476D-ABD8-52C7DADDFB4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1B94-7C6E-429D-B584-47438ECAF4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7D88-BB92-4212-A3E5-4948662CFD5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2C4D-BFB9-4ECE-BB56-B0FD34B17C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CD97-7F3F-4725-8285-5E31CA9750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6F44-3868-43F7-9FAB-08B736DE5D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8697-1CAB-4CAA-9A54-31847E1E8C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98AE-4839-4701-AB60-FD85DCB04B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7349-372E-4948-B341-8B02643BACA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9572-27A4-4C39-84D0-BD19EB6242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3ACC-5208-4289-AC26-A8D6D118018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909E-69C0-44EE-95FD-E1A8DCB3D1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Oval 2"/>
          <p:cNvSpPr/>
          <p:nvPr/>
        </p:nvSpPr>
        <p:spPr>
          <a:xfrm>
            <a:off x="3851280" y="2492280"/>
            <a:ext cx="1549440" cy="1584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3"/>
          <p:cNvSpPr/>
          <p:nvPr/>
        </p:nvSpPr>
        <p:spPr>
          <a:xfrm>
            <a:off x="1838160" y="909720"/>
            <a:ext cx="3024360" cy="302400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4"/>
          <p:cNvSpPr/>
          <p:nvPr/>
        </p:nvSpPr>
        <p:spPr>
          <a:xfrm>
            <a:off x="1477800" y="2744640"/>
            <a:ext cx="1873440" cy="180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4321080" y="1413000"/>
            <a:ext cx="1079640" cy="1079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6"/>
          <p:cNvSpPr/>
          <p:nvPr/>
        </p:nvSpPr>
        <p:spPr>
          <a:xfrm>
            <a:off x="6445080" y="4078440"/>
            <a:ext cx="1297080" cy="129672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7"/>
          <p:cNvSpPr/>
          <p:nvPr/>
        </p:nvSpPr>
        <p:spPr>
          <a:xfrm>
            <a:off x="6013440" y="4545000"/>
            <a:ext cx="792000" cy="828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2079720" y="1413000"/>
            <a:ext cx="254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 Rounded MT Bold"/>
                <a:ea typeface="宋体"/>
              </a:rPr>
              <a:t>Easily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2792520" y="2205000"/>
            <a:ext cx="21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Rounded MT Bold"/>
              </a:rPr>
              <a:t>Off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6732720" y="4438800"/>
            <a:ext cx="9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Oval 2"/>
          <p:cNvSpPr/>
          <p:nvPr/>
        </p:nvSpPr>
        <p:spPr>
          <a:xfrm>
            <a:off x="468360" y="404640"/>
            <a:ext cx="1511280" cy="151308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468360" y="1449360"/>
            <a:ext cx="952560" cy="936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1706400" y="512640"/>
            <a:ext cx="547920" cy="541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398520" y="809640"/>
            <a:ext cx="185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 Rounded MT Bold"/>
              </a:rPr>
              <a:t>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2556000" y="1936800"/>
            <a:ext cx="360360" cy="360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2967120" y="19368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8"/>
          <p:cNvSpPr/>
          <p:nvPr/>
        </p:nvSpPr>
        <p:spPr>
          <a:xfrm>
            <a:off x="2556000" y="2492280"/>
            <a:ext cx="360360" cy="360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2967120" y="2523960"/>
            <a:ext cx="15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3081240" y="3035160"/>
            <a:ext cx="125640" cy="11124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3206880" y="2921040"/>
            <a:ext cx="10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9d17"/>
                </a:solidFill>
                <a:latin typeface="Arial Rounded MT Bold"/>
              </a:rPr>
              <a:t>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9d17"/>
                </a:solidFill>
                <a:latin typeface="Arial Rounded MT Bold"/>
              </a:rPr>
              <a:t>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9d17"/>
                </a:solidFill>
                <a:latin typeface="Arial Rounded MT Bold"/>
              </a:rPr>
              <a:t>Th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2"/>
          <p:cNvSpPr/>
          <p:nvPr/>
        </p:nvSpPr>
        <p:spPr>
          <a:xfrm>
            <a:off x="3081240" y="3230640"/>
            <a:ext cx="125640" cy="10944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3"/>
          <p:cNvSpPr/>
          <p:nvPr/>
        </p:nvSpPr>
        <p:spPr>
          <a:xfrm>
            <a:off x="3081240" y="3441600"/>
            <a:ext cx="125640" cy="10980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4"/>
          <p:cNvSpPr/>
          <p:nvPr/>
        </p:nvSpPr>
        <p:spPr>
          <a:xfrm>
            <a:off x="2556000" y="3862440"/>
            <a:ext cx="360360" cy="360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2978640" y="38606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</a:rPr>
              <a:t>Beni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16"/>
          <p:cNvSpPr/>
          <p:nvPr/>
        </p:nvSpPr>
        <p:spPr>
          <a:xfrm>
            <a:off x="2556000" y="4402080"/>
            <a:ext cx="360360" cy="360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2980080" y="436464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Oval 2"/>
          <p:cNvSpPr/>
          <p:nvPr/>
        </p:nvSpPr>
        <p:spPr>
          <a:xfrm>
            <a:off x="2916360" y="1557360"/>
            <a:ext cx="2952720" cy="295128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3"/>
          <p:cNvSpPr/>
          <p:nvPr/>
        </p:nvSpPr>
        <p:spPr>
          <a:xfrm>
            <a:off x="2087640" y="2852640"/>
            <a:ext cx="1655640" cy="165600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5508720" y="2276640"/>
            <a:ext cx="1152360" cy="1152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3192480" y="3063960"/>
            <a:ext cx="231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3236760" y="2089800"/>
            <a:ext cx="233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The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3209040" y="313848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5653080" y="4076640"/>
            <a:ext cx="431640" cy="43200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Oval 2"/>
          <p:cNvSpPr/>
          <p:nvPr/>
        </p:nvSpPr>
        <p:spPr>
          <a:xfrm>
            <a:off x="179280" y="189000"/>
            <a:ext cx="2016360" cy="201600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3"/>
          <p:cNvSpPr/>
          <p:nvPr/>
        </p:nvSpPr>
        <p:spPr>
          <a:xfrm>
            <a:off x="179280" y="1665360"/>
            <a:ext cx="1081080" cy="10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4"/>
          <p:cNvSpPr/>
          <p:nvPr/>
        </p:nvSpPr>
        <p:spPr>
          <a:xfrm>
            <a:off x="1619280" y="189000"/>
            <a:ext cx="576360" cy="57600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5"/>
          <p:cNvSpPr/>
          <p:nvPr/>
        </p:nvSpPr>
        <p:spPr>
          <a:xfrm>
            <a:off x="181080" y="6381720"/>
            <a:ext cx="287280" cy="28728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6"/>
          <p:cNvSpPr/>
          <p:nvPr/>
        </p:nvSpPr>
        <p:spPr>
          <a:xfrm>
            <a:off x="8677440" y="6381720"/>
            <a:ext cx="285480" cy="28728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7"/>
          <p:cNvSpPr/>
          <p:nvPr/>
        </p:nvSpPr>
        <p:spPr>
          <a:xfrm>
            <a:off x="8677440" y="189000"/>
            <a:ext cx="285480" cy="28872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2195640" y="1953360"/>
            <a:ext cx="576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b9d17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fb9d17"/>
                </a:solidFill>
                <a:latin typeface="Arial Rounded MT Bold"/>
              </a:rPr>
              <a:t>The political purpose of the event, in order to have guaranteed rights. A new working environment, the first thing you should do is to understand the real people in power </a:t>
            </a:r>
            <a:r>
              <a:rPr b="0" lang="en-US" sz="2000" spc="-1" strike="noStrike">
                <a:solidFill>
                  <a:srgbClr val="fb9d17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b9d17"/>
                </a:solidFill>
                <a:latin typeface="Arial Rounded MT Bold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9d17"/>
                </a:solidFill>
                <a:latin typeface="Arial Rounded MT Bold"/>
              </a:rPr>
              <a:t>          </a:t>
            </a:r>
            <a:r>
              <a:rPr b="0" lang="zh-CN" sz="2000" spc="-1" strike="noStrike">
                <a:solidFill>
                  <a:srgbClr val="ffcc00"/>
                </a:solidFill>
                <a:latin typeface="Arial Rounded MT Bold"/>
              </a:rPr>
              <a:t>In addition to all levels of management</a:t>
            </a:r>
            <a:r>
              <a:rPr b="0" lang="en-US" sz="20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0" lang="zh-CN" sz="2000" spc="-1" strike="noStrike">
                <a:solidFill>
                  <a:srgbClr val="ffcc00"/>
                </a:solidFill>
                <a:latin typeface="Arial Rounded MT Bold"/>
              </a:rPr>
              <a:t>titles boss list may also include a number of titles</a:t>
            </a:r>
            <a:r>
              <a:rPr b="0" lang="en-US" sz="2000" spc="-1" strike="noStrike">
                <a:solidFill>
                  <a:srgbClr val="ffcc00"/>
                </a:solidFill>
                <a:latin typeface="Arial Rounded MT Bold"/>
              </a:rPr>
              <a:t>.   </a:t>
            </a:r>
            <a:r>
              <a:rPr b="0" lang="zh-CN" sz="20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Rounded MT Bold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9"/>
          <p:cNvSpPr/>
          <p:nvPr/>
        </p:nvSpPr>
        <p:spPr>
          <a:xfrm>
            <a:off x="349560" y="763920"/>
            <a:ext cx="17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Oval 2"/>
          <p:cNvSpPr/>
          <p:nvPr/>
        </p:nvSpPr>
        <p:spPr>
          <a:xfrm>
            <a:off x="4824360" y="1211400"/>
            <a:ext cx="1655640" cy="1726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3"/>
          <p:cNvSpPr/>
          <p:nvPr/>
        </p:nvSpPr>
        <p:spPr>
          <a:xfrm>
            <a:off x="3132000" y="1714680"/>
            <a:ext cx="2521080" cy="251928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4"/>
          <p:cNvSpPr/>
          <p:nvPr/>
        </p:nvSpPr>
        <p:spPr>
          <a:xfrm>
            <a:off x="2197080" y="2938320"/>
            <a:ext cx="1295280" cy="129564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6156360" y="3657600"/>
            <a:ext cx="576360" cy="576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3276720" y="2216160"/>
            <a:ext cx="2468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for wat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1T06:44:05Z</dcterms:modified>
  <cp:revision>1</cp:revision>
  <dc:subject/>
  <dc:title>PowerPoint 演示文稿</dc:title>
</cp:coreProperties>
</file>