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3D6-8C5E-4319-AD66-59FC0D4C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20E-601F-4C30-AAC8-E43E9F8A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C1C-1091-4AC4-B712-D541ADEE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DE6-1FA3-4242-B5A4-DA27B04D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42F2-8D98-4FC9-B28D-F117BA10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D2C8-A7F9-49B2-B733-1A839E19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90DB-89A0-4834-8162-CC7D8C1B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3794-E051-45AC-9B78-7688467A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00B1-545E-4870-89F4-05DA1603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01EE-6924-4644-81C1-910E10D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664D-56DE-4E2E-999A-57DA231E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449-1375-4551-884A-F50C5193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AE1F-CD74-4C2D-AD07-8B50D305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76F0-CE37-4DDC-B190-6BFA2CE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3684-039D-4CF4-83FD-B9F04FE9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FD76-1173-4BE2-9662-D6783951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AEEE-4BB3-4478-9663-80D3CE55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2AE2-1A2D-483F-80FA-31C85D82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59DF5-A373-4570-8751-2FF755F9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0156-84F5-4700-A257-FF636B2F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006C-086B-410B-A817-E186E407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E134-CA35-4819-B9B4-4FF56118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AE0-552F-4BB4-B207-2ADEEB8E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5F20-9E53-4587-8C16-6DF7C450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4D5B-CDF0-4AB5-8BBE-E227030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1E53-7F6C-4766-B3EC-A283CA8A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C07C7-1E96-4867-9BD0-EF95880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E40E-5AFF-46BC-9D48-FCB5CF19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47FAD-3CA1-4298-AC82-A881C735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EBAA-4B1A-40E4-82CE-B0AAED59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EB6-40B8-4380-9007-4DE0441F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AD3-36B3-4FCD-ABB5-6812B68A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A95-2427-48FE-BDC9-06D4AF0E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312-C53D-4B84-8EBE-692E6639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B68-AFB6-4C95-9223-ABB87CDC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EB8-F1A0-4281-98D8-6A50240E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DA43-3390-4015-8C93-A0BF49ABD5F5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C323-3D8A-4445-B706-DF700A60A55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C739-0F27-42E5-883F-2D1A592FA8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09F6-3EF4-49F5-8448-4A6D95CAD88C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377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  <a:ea typeface="宋体"/>
              </a:rPr>
              <a:t>HOT FOOTBALL SEASON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0388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6376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9678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3240" y="307440"/>
            <a:ext cx="8381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8" name="Picture 11" descr="hot_football_season_qx"/>
          <p:cNvPicPr/>
          <p:nvPr/>
        </p:nvPicPr>
        <p:blipFill>
          <a:blip r:embed="rId3"/>
          <a:stretch/>
        </p:blipFill>
        <p:spPr>
          <a:xfrm>
            <a:off x="2438280" y="89856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9" name="Picture 12" descr="hot_football_season_sld"/>
          <p:cNvPicPr/>
          <p:nvPr/>
        </p:nvPicPr>
        <p:blipFill>
          <a:blip r:embed="rId4"/>
          <a:stretch/>
        </p:blipFill>
        <p:spPr>
          <a:xfrm>
            <a:off x="40384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0" name="Picture 13" descr="hot_football_season_prt"/>
          <p:cNvPicPr/>
          <p:nvPr/>
        </p:nvPicPr>
        <p:blipFill>
          <a:blip r:embed="rId5"/>
          <a:stretch/>
        </p:blipFill>
        <p:spPr>
          <a:xfrm>
            <a:off x="56386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1" name="Picture 14" descr="hot_football_season_trs"/>
          <p:cNvPicPr/>
          <p:nvPr/>
        </p:nvPicPr>
        <p:blipFill>
          <a:blip r:embed="rId6"/>
          <a:stretch/>
        </p:blipFill>
        <p:spPr>
          <a:xfrm>
            <a:off x="72388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21:40:59Z</dcterms:created>
  <dc:creator>eclipse</dc:creator>
  <dc:description/>
  <dc:language>en-US</dc:language>
  <cp:lastModifiedBy>a</cp:lastModifiedBy>
  <dcterms:modified xsi:type="dcterms:W3CDTF">2015-01-12T13:10:58Z</dcterms:modified>
  <cp:revision>6</cp:revision>
  <dc:subject/>
  <dc:title>Hot Sea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