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8D6-5934-4D11-9EBB-7561D318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A5A-B18F-499F-B567-A868A67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25F-44AF-48C6-A030-83710060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BBD-D5AC-4BD0-8CE8-3455E1AF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2268-4F9A-4A2C-961F-EFC73967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FD8E-CF28-4D53-9478-8F2C5724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65DF-0685-4169-9F8D-360CC29D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2A6F-F8C1-45FD-9D30-28F4EFA1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8225-8678-4A0D-90EB-01DBD73B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08B2-523C-44A4-ADA8-71D5409F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BC16-6242-4ECA-8749-31CE418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D14-0BB7-4995-BA61-82C49CF4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864-E6DE-4900-BF7D-D9AF7A68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2EE9-AA8C-41F8-B4A4-DF09B7B0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684-802F-4906-BD62-62214134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DE69-E2F6-437E-BC3F-DE00E954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1A42-E5D9-4F2C-B155-30F6712B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498-520C-44CA-A717-A8206A03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462-C7E5-4C1F-96E1-EB1E5AF7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125-8689-42A9-BB40-FB6FCD0A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3D2-EC5E-4FBB-9072-1C1E8C51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6B1-9632-443D-AB95-ADA1281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E6C-CAE6-43A3-BBB1-67F696BC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03D-74AE-421A-B4D0-D8564AD1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B3D3-EF36-4188-92FA-B618C7E45467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1EF5-7A12-4966-BE6C-DB4CDB0F7E41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875-2A63-442E-967B-4DA0E0231F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D315-4C1A-46C7-BA28-597425D3B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9" descr="PPT01.jpg"/>
          <p:cNvPicPr/>
          <p:nvPr/>
        </p:nvPicPr>
        <p:blipFill>
          <a:blip r:embed="rId1"/>
          <a:srcRect l="0" t="0" r="0" b="38250"/>
          <a:stretch/>
        </p:blipFill>
        <p:spPr>
          <a:xfrm>
            <a:off x="754200" y="0"/>
            <a:ext cx="8359560" cy="386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585756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571840" y="4929120"/>
            <a:ext cx="635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5"/>
          <p:cNvSpPr/>
          <p:nvPr/>
        </p:nvSpPr>
        <p:spPr>
          <a:xfrm flipV="1">
            <a:off x="331920" y="765000"/>
            <a:ext cx="7912080" cy="12960"/>
          </a:xfrm>
          <a:prstGeom prst="line">
            <a:avLst/>
          </a:prstGeom>
          <a:ln w="2844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9" descr="PPT01.jpg"/>
          <p:cNvPicPr/>
          <p:nvPr/>
        </p:nvPicPr>
        <p:blipFill>
          <a:blip r:embed="rId1"/>
          <a:srcRect l="0" t="0" r="0" b="38263"/>
          <a:stretch/>
        </p:blipFill>
        <p:spPr>
          <a:xfrm>
            <a:off x="7236000" y="0"/>
            <a:ext cx="1908000" cy="878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308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</a:rPr>
              <a:t>目  录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5"/>
          <p:cNvSpPr/>
          <p:nvPr/>
        </p:nvSpPr>
        <p:spPr>
          <a:xfrm flipV="1">
            <a:off x="331920" y="765000"/>
            <a:ext cx="7912080" cy="12960"/>
          </a:xfrm>
          <a:prstGeom prst="line">
            <a:avLst/>
          </a:prstGeom>
          <a:ln w="2844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9" descr="PPT01.jpg"/>
          <p:cNvPicPr/>
          <p:nvPr/>
        </p:nvPicPr>
        <p:blipFill>
          <a:blip r:embed="rId1"/>
          <a:srcRect l="0" t="0" r="0" b="38263"/>
          <a:stretch/>
        </p:blipFill>
        <p:spPr>
          <a:xfrm>
            <a:off x="7236000" y="0"/>
            <a:ext cx="1908000" cy="87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1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5"/>
          <p:cNvSpPr/>
          <p:nvPr/>
        </p:nvSpPr>
        <p:spPr>
          <a:xfrm flipV="1">
            <a:off x="331920" y="765000"/>
            <a:ext cx="7912080" cy="12960"/>
          </a:xfrm>
          <a:prstGeom prst="line">
            <a:avLst/>
          </a:prstGeom>
          <a:ln w="2844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PPT01.jpg"/>
          <p:cNvPicPr/>
          <p:nvPr/>
        </p:nvPicPr>
        <p:blipFill>
          <a:blip r:embed="rId1"/>
          <a:srcRect l="0" t="0" r="0" b="38263"/>
          <a:stretch/>
        </p:blipFill>
        <p:spPr>
          <a:xfrm>
            <a:off x="7236000" y="0"/>
            <a:ext cx="1908000" cy="87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42720" y="856800"/>
            <a:ext cx="8443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3:58:00Z</dcterms:created>
  <dc:creator>User</dc:creator>
  <dc:description/>
  <dc:language>en-US</dc:language>
  <cp:lastModifiedBy>a</cp:lastModifiedBy>
  <dcterms:modified xsi:type="dcterms:W3CDTF">2015-01-12T13:20:24Z</dcterms:modified>
  <cp:revision>32</cp:revision>
  <dc:subject/>
  <dc:title>层级管理  三场战役  重点突破 深化社会渠道双提升工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