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47B-8319-4BEB-B4E7-8A44D99B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8A1-9B49-4747-992D-1C390996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03D-F09C-4630-B1FC-E049537A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701-9500-4620-983B-DC835284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26B4-F673-400C-A17B-6D6AB949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DFD7-1260-49C4-8E8E-4927FFC9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57D8-9015-417C-BE58-9F345BD7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5F84-4188-4152-96FD-7203ED2D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EEA8-963D-4240-81DE-83BF011F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C66C-52FE-4B92-8E55-61C20CED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D10A-EDF0-4FE3-B748-57E5CF02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EEC-B5DA-494F-BC8D-826EE1E8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E4D0-A0D8-4F3F-B3F3-A43EDD6C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9F40-0DEF-48AC-88A2-A717BAD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4C9E-1EA0-41E6-AEC4-2D697178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7B8C-4261-4CDE-870B-7070DE7B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9904-1DC6-4CDB-B732-67D28F42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36E-B171-448E-9BC2-037A37BD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4FA-7B70-43CF-9849-DF8213AB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71A-070E-4E2A-8267-DDEA19BA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8A6-075E-4103-840D-212C46C6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098-5178-4675-8887-BAE623C1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DC5-895F-4407-A98C-81998269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DB3-F792-4902-832E-494B8D29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7AF4-854F-4FA8-8779-B2F7D4C276A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777A-6823-4791-8460-2164378A8E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圆角矩形 6"/>
          <p:cNvSpPr/>
          <p:nvPr/>
        </p:nvSpPr>
        <p:spPr>
          <a:xfrm>
            <a:off x="103320" y="1793880"/>
            <a:ext cx="8937360" cy="4968720"/>
          </a:xfrm>
          <a:prstGeom prst="roundRect">
            <a:avLst>
              <a:gd name="adj" fmla="val 2681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7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6372360" y="4352760"/>
            <a:ext cx="2876400" cy="25052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3D0A-9624-4BD4-9CA8-B63B4E9DF7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F50F-AC8C-4D02-9061-21E8E90AF0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圆角矩形 9"/>
          <p:cNvSpPr/>
          <p:nvPr/>
        </p:nvSpPr>
        <p:spPr>
          <a:xfrm>
            <a:off x="206280" y="189000"/>
            <a:ext cx="8731440" cy="4967280"/>
          </a:xfrm>
          <a:prstGeom prst="roundRect">
            <a:avLst>
              <a:gd name="adj" fmla="val 2681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6" descr=""/>
          <p:cNvPicPr/>
          <p:nvPr/>
        </p:nvPicPr>
        <p:blipFill>
          <a:blip r:embed="rId2"/>
          <a:srcRect l="0" t="0" r="0" b="2633"/>
          <a:stretch/>
        </p:blipFill>
        <p:spPr>
          <a:xfrm>
            <a:off x="3867120" y="981000"/>
            <a:ext cx="5070600" cy="4394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6280" y="530064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Arial"/>
              </a:rPr>
              <a:t>寸心春晖模板</a:t>
            </a:r>
            <a:endParaRPr b="1" lang="en-US" sz="4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0:03:00Z</dcterms:created>
  <dc:creator>果因PPT工作室</dc:creator>
  <dc:description/>
  <cp:keywords>XS-普屏 4：3;SC-多彩色;BG-浅色;DH-静态</cp:keywords>
  <dc:language>en-US</dc:language>
  <cp:lastModifiedBy>a</cp:lastModifiedBy>
  <dcterms:modified xsi:type="dcterms:W3CDTF">2015-01-12T13:03:57Z</dcterms:modified>
  <cp:revision>5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