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546-647B-4567-8DA0-B62CBAF9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0EA-3C64-4DFB-9DE7-74670AA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872-4ED4-4EF4-88B5-E69BD82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F29-5AA7-4532-99E7-21FD63C5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372-E05B-49E3-A6DD-FA7A0597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0C-790D-4309-B381-97CB485C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31F-EDBD-46F7-AD3E-B17F1BD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022-3E36-47E5-BADE-AB610BC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581-BCAB-4F62-B3F7-084F1A9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CAC-C586-4A83-96F2-287B44D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AF4-F888-431F-9598-787726F0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333-3436-4EA7-A49C-75925E0B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1DF-987A-48E4-9832-AEEFEFFD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12A6-6FFA-491D-B69E-3E71ED9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7D7-7F0E-4F1A-A335-0F19BFB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63B4-2F4A-4836-8B80-5AE9205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7D51-56F2-4EE8-92AB-99FADD8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41F-420D-45E3-B564-45B21BA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0571-92F5-4314-ADBC-EF3C98B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E83-AB04-4E44-9B38-3949039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5E5-85AF-4429-B482-045B290C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6C5D-A720-4D25-A3E5-13C38A9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ADC-EDFE-456A-AB8F-335BEFC3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DB62-A509-4A14-B200-E187F8AB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9360" y="6651720"/>
            <a:ext cx="857520" cy="21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"/>
          <p:cNvPicPr/>
          <p:nvPr/>
        </p:nvPicPr>
        <p:blipFill>
          <a:blip r:embed="rId3"/>
          <a:stretch/>
        </p:blipFill>
        <p:spPr>
          <a:xfrm>
            <a:off x="9360" y="6651720"/>
            <a:ext cx="857520" cy="215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13D-D5C4-4DAC-A29B-585A95C263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71F-8571-4822-99F3-03106FB00D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B171-DE16-458A-B365-F2B919592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1-12T13:08:46Z</dcterms:modified>
  <cp:revision>7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