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EA0-DD57-4910-AC4C-962FC982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C1B-A65D-460E-8B8B-2E67E2C4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326-C669-43FA-BF22-6CEE0939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C8C-EE5B-45CE-A125-A1B334F6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AC9-DDCD-43A2-9C11-F675349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09D-2D8A-426A-B051-9AEAE52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3A4C-A62C-42EC-B72E-42E6E224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BF0-519C-4BC9-A1FA-26E39F24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68A-3560-4C0A-B24E-2759C3D2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FCC-BA0A-4EE7-813D-1F5CC668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FF4D-C700-4F2F-94F6-15D3207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D86-E983-4A1F-957D-55AF726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B724-E095-4965-AAC7-1347724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2EA-98C0-478A-9746-47E161D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1A48-BDC8-4464-822E-159443B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69D4-6A58-41F9-B560-5526647C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B8B-D2D4-470A-860E-4BCEABE3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D101-BEBF-47A5-8A4F-67E70A82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76FD-8D53-48E9-879F-BB4A0167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FE66-61B8-4C67-8CCE-992EAEFE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7B1B-F6F6-4D8F-BFE2-D47CD6F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F0C0-BE56-41ED-B821-D2CEE568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24E-FCF7-4C80-AB7D-994661D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649D-134F-46FC-9B5A-A3DA01B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DC23-6573-4E4A-BA7F-CE623D9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AFF5-05A8-4016-BB24-B1F7A97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579D-EC4C-41D9-925D-E765200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5B23-346A-4ECF-8CC0-F5C6583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7370-A4E8-4986-9330-3F051CC4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C0DB-9429-4228-848B-A5CD4415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129-2831-49E5-8B04-E3E43EE1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A49-3C7B-40A2-BC11-01642B0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4E1-94DD-4497-BAD0-14CACFF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9E1-0805-481B-A01B-C8CACF7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5AB-C914-4494-B4EC-2D81801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CBF-0007-42AC-8500-406CD09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C32C-2C90-4456-8F94-525B8C5379D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C86-B27A-4043-AACE-F17AF9C71C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58E0-FBBE-4CE1-97B8-9AA919EE4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9CCA-4543-446D-A34C-51CA27116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标题-1"/>
          <p:cNvPicPr/>
          <p:nvPr/>
        </p:nvPicPr>
        <p:blipFill>
          <a:blip r:embed="rId1"/>
          <a:stretch/>
        </p:blipFill>
        <p:spPr>
          <a:xfrm>
            <a:off x="-166680" y="-87480"/>
            <a:ext cx="9489960" cy="709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ulu"/>
          <p:cNvPicPr/>
          <p:nvPr/>
        </p:nvPicPr>
        <p:blipFill>
          <a:blip r:embed="rId1"/>
          <a:stretch/>
        </p:blipFill>
        <p:spPr>
          <a:xfrm>
            <a:off x="-168120" y="-85680"/>
            <a:ext cx="94215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背景-01"/>
          <p:cNvPicPr/>
          <p:nvPr/>
        </p:nvPicPr>
        <p:blipFill>
          <a:blip r:embed="rId1"/>
          <a:stretch/>
        </p:blipFill>
        <p:spPr>
          <a:xfrm>
            <a:off x="0" y="-17640"/>
            <a:ext cx="9325080" cy="695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5840"/>
            <a:ext cx="5813280" cy="309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7640"/>
            <a:ext cx="5811840" cy="309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背景-01"/>
          <p:cNvPicPr/>
          <p:nvPr/>
        </p:nvPicPr>
        <p:blipFill>
          <a:blip r:embed="rId1"/>
          <a:stretch/>
        </p:blipFill>
        <p:spPr>
          <a:xfrm>
            <a:off x="0" y="-17640"/>
            <a:ext cx="9253440" cy="695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未标题-1"/>
          <p:cNvPicPr/>
          <p:nvPr/>
        </p:nvPicPr>
        <p:blipFill>
          <a:blip r:embed="rId1"/>
          <a:stretch/>
        </p:blipFill>
        <p:spPr>
          <a:xfrm>
            <a:off x="-166680" y="-87480"/>
            <a:ext cx="9489960" cy="709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3T07:38:31Z</dcterms:modified>
  <cp:revision>1</cp:revision>
  <dc:subject/>
  <dc:title>PowerPoint 演示文稿</dc:title>
</cp:coreProperties>
</file>