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6878-2A76-48FF-9E16-780B44E91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C159-A7B5-41D9-B733-A18F3A2C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B903-3AB8-4981-864B-C6088ED99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4750-0F88-4D01-9521-DD8DD8340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8B5F-8EDA-4F1E-89C0-F6D68BBF0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E516-16B4-457E-BE5F-41803552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E681A-EED2-42D2-B198-9B760FEB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34F7-6FB1-42F1-B216-345F8877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6C8D8-E739-42F9-AFDC-26DC8722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47DDE-B99A-4148-B302-0BA88F38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D5D50-B82B-4E42-8D3D-96D542F4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CE43-A9B9-4711-8D14-6A3F4908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5118-43DF-4ED1-9F3F-1B2531FE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1E58-641F-41E2-AD91-8D9DD22E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79EEC-E443-4FDC-9F1F-77C32563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496B-8DA2-4BED-8B18-C7B205FC9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CD00D-3BF3-4F53-BA16-49780B48F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8EAB-BD70-4C69-B2B9-A2D23C3A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DCB3-546D-4362-9536-F39FFE9F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B104-1D59-4621-9AF2-CCC1BD7C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8136-626C-4477-9E1E-CD9D400A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3506-C01E-466C-A982-9F3E7DF9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0972-7E29-4503-870A-A4D6CB04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32CC-BAAB-483A-B69C-EFB54EFB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DB73-9C72-4372-A8F3-1EE0DC8F873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062F-D41C-49D9-B459-072C33BFD8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157F-54D9-4BE7-9204-34002ECC2C0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77BC-92A7-4559-AE22-7B21C0CF40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shouhui (1)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shouhui (2)"/>
          <p:cNvPicPr/>
          <p:nvPr/>
        </p:nvPicPr>
        <p:blipFill>
          <a:blip r:embed="rId1"/>
          <a:stretch/>
        </p:blipFill>
        <p:spPr>
          <a:xfrm>
            <a:off x="950760" y="1600200"/>
            <a:ext cx="7240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shouhui (3)"/>
          <p:cNvPicPr/>
          <p:nvPr/>
        </p:nvPicPr>
        <p:blipFill>
          <a:blip r:embed="rId1"/>
          <a:stretch/>
        </p:blipFill>
        <p:spPr>
          <a:xfrm>
            <a:off x="950760" y="1600200"/>
            <a:ext cx="7240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shouhui (4)"/>
          <p:cNvPicPr/>
          <p:nvPr/>
        </p:nvPicPr>
        <p:blipFill>
          <a:blip r:embed="rId1"/>
          <a:stretch/>
        </p:blipFill>
        <p:spPr>
          <a:xfrm>
            <a:off x="611280" y="1417680"/>
            <a:ext cx="7240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shouhui (5)"/>
          <p:cNvPicPr/>
          <p:nvPr/>
        </p:nvPicPr>
        <p:blipFill>
          <a:blip r:embed="rId1"/>
          <a:stretch/>
        </p:blipFill>
        <p:spPr>
          <a:xfrm>
            <a:off x="950760" y="1600200"/>
            <a:ext cx="7240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yellownancy</dc:creator>
  <dc:description/>
  <dc:language>en-US</dc:language>
  <cp:lastModifiedBy>a</cp:lastModifiedBy>
  <dcterms:modified xsi:type="dcterms:W3CDTF">2015-01-12T13:06:12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