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EC3-22F5-4F8D-8F98-A1807DE5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C74-10A9-40EF-97B3-843AA9A8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06C-5336-4215-A6E9-6ACEFD7D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A28-7315-49A1-8F8E-03634D30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4FED-259B-445E-B52B-DB5BFD87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EDDC-2BFF-4D47-8FCF-18ADE31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545-2636-499E-9158-A583173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46C-5854-46A2-81AA-C653C7F1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8CC-1D15-4357-AF42-5080D22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4596-E64D-4183-AA6A-17AAB0D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92C-E4BD-4DCA-9874-4519C62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2D6-8F63-4454-A843-1F7FE57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1EB-6C0E-4EF7-BBDC-0F04A68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63A6-6BF8-4E06-993C-EA81A00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7E6-819F-4B3B-9D20-6C34B40E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342D-B6BC-4818-80E8-2A953B8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3D7-629D-447F-861D-F284568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A41-0CC7-4830-AD68-D6968A6A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141-2E53-48C2-90B0-8087932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91E-48FE-4AFC-9680-91216969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2DB-5609-41CA-9C42-2251C5E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F17-F7A8-486B-A0F3-55912E2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402-DE9C-43B5-8E53-A5D8936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FE7-F80D-4222-A808-0D8E0AC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A1A-58B0-4A58-BB4E-6DF9034507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CFF4-00D4-43DC-9ABF-F0D54004A04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EB0B-FA44-4C8E-A929-9656988047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P</a:t>
            </a:r>
            <a:r>
              <a:rPr b="0" lang="zh-CN" sz="4400" spc="-1" strike="noStrike">
                <a:solidFill>
                  <a:srgbClr val="404040"/>
                </a:solidFill>
                <a:latin typeface="Calibri"/>
                <a:ea typeface="宋体"/>
              </a:rPr>
              <a:t>PT 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39:49Z</dcterms:created>
  <dc:creator/>
  <dc:description/>
  <cp:keywords/>
  <dc:language>en-US</dc:language>
  <cp:lastModifiedBy>a</cp:lastModifiedBy>
  <dcterms:modified xsi:type="dcterms:W3CDTF">2014-07-20T07:56:23Z</dcterms:modified>
  <cp:revision>4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