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2BB98-C61D-458A-80D5-53757915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B950-53FE-48BC-9665-E8ABEE325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DCAB-68AA-42B4-A34A-77C12948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67B93-9D42-4FE8-8836-C334EB6A7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4DFA4-62EF-4EC9-B1B2-C409B3730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8C5FB-374B-414B-B1DE-E159A797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1F3B-C033-48B5-9BB5-C8468859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92571-21A1-4E56-9995-AAFEAE27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7353D-6A38-4166-9F49-FCA92E76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B3790-4AC0-4D1D-A52C-93BFDF36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1F1D5-2A99-46C6-B18F-CF6708B83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F4E3A-7BBD-4C25-BE3A-C4497FAF1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hkgv oi ung"/>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EF3880CA-98DD-49F3-8940-7A0B623034CE}"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8BBC-0118-4F41-A87D-A0892C2F901F}"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5651-B0F9-430A-8CCF-64FFE588C4C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yu tyu tz ze"/>
          <p:cNvPicPr/>
          <p:nvPr/>
        </p:nvPicPr>
        <p:blipFill>
          <a:blip r:embed="rId2"/>
          <a:stretch/>
        </p:blipFill>
        <p:spPr>
          <a:xfrm>
            <a:off x="0" y="0"/>
            <a:ext cx="9144000" cy="6858000"/>
          </a:xfrm>
          <a:prstGeom prst="rect">
            <a:avLst/>
          </a:prstGeom>
          <a:ln w="0">
            <a:noFill/>
          </a:ln>
        </p:spPr>
      </p:pic>
      <p:sp>
        <p:nvSpPr>
          <p:cNvPr id="82" name="Text Box 4"/>
          <p:cNvSpPr/>
          <p:nvPr/>
        </p:nvSpPr>
        <p:spPr>
          <a:xfrm>
            <a:off x="2023560" y="5084640"/>
            <a:ext cx="6325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ea typeface="宋体"/>
              </a:rPr>
              <a:t>Name of presen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81600" y="11592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4" name="Text Box 3"/>
          <p:cNvSpPr/>
          <p:nvPr/>
        </p:nvSpPr>
        <p:spPr>
          <a:xfrm>
            <a:off x="900000" y="981000"/>
            <a:ext cx="77058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27680" y="1159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6" name="Text Box 3"/>
          <p:cNvSpPr/>
          <p:nvPr/>
        </p:nvSpPr>
        <p:spPr>
          <a:xfrm>
            <a:off x="900000" y="981000"/>
            <a:ext cx="77058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3T02:05:04Z</dcterms:modified>
  <cp:revision>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