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7042B-EF83-4C75-AA53-0AD749901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DC51-936E-4BEF-A136-C8EBECBC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30B41-7D7A-4303-BCE9-15B5E20E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30A7D-7D08-4854-9679-9E76DF27D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5806-151D-421B-BD07-10E976B4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1F8F1-04D9-4A4C-9E3E-6FBF835DF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8F49-E1BA-43AB-8311-3A4FD019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E638-E285-4103-A202-310BED04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65E8-C041-4E4F-A9A2-E2F7CE9D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0C17-0BC9-4F4E-B831-F9B3BE34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F2C78-B6FC-4F3D-9C36-D391E3D79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004D0-0B23-49EF-82B8-B2E925F1A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 sqdsqezf zeùmmkl gf"/>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103E9999-7326-43A0-B169-1FADB89489D7}"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E997-291A-4C66-97E7-665E428F9FDA}"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7616-51DC-46AC-90FD-86F3C09191F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ds fsf iuo)_ç uk"/>
          <p:cNvPicPr/>
          <p:nvPr/>
        </p:nvPicPr>
        <p:blipFill>
          <a:blip r:embed="rId1"/>
          <a:stretch/>
        </p:blipFill>
        <p:spPr>
          <a:xfrm>
            <a:off x="0" y="0"/>
            <a:ext cx="9144000" cy="6858000"/>
          </a:xfrm>
          <a:prstGeom prst="rect">
            <a:avLst/>
          </a:prstGeom>
          <a:ln w="0">
            <a:noFill/>
          </a:ln>
        </p:spPr>
      </p:pic>
      <p:sp>
        <p:nvSpPr>
          <p:cNvPr id="80" name="Text Box 3"/>
          <p:cNvSpPr/>
          <p:nvPr/>
        </p:nvSpPr>
        <p:spPr>
          <a:xfrm>
            <a:off x="1504800" y="260280"/>
            <a:ext cx="58514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53240" y="11592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466560" y="83664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99320" y="1159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466560" y="83664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6T06:42:44Z</dcterms:modified>
  <cp:revision>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