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AF9-9C82-4434-B6F8-940BCE9B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55C-02A1-4070-B5BC-C3F234F2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DB8-8981-4329-9C7F-15CF0283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5A9-99BA-4694-AC16-D73574CC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8727-543C-4A14-A954-8D7A23AC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0417-36FB-44AC-A6F5-01859202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6685-909F-4557-853B-9BCB296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07EC-1E27-4193-8B14-4BDF95C1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AD49-C716-45E0-A677-CA0ABC4B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9DE2-DFCF-4B29-B4A2-8C72D03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86B7-FA76-4FD8-8B32-0F3C67C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525-943A-4FE6-B0F7-8EBE6FBE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50E8-BB80-4040-AC96-0EF6C8D1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F379-E30E-4736-9F9A-B6991D8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C49C-6A00-4090-92AB-C97A3D13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BE29-0DAD-4B28-8C55-45A7293F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32E5-3655-46CF-A6DC-52C3C69E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328-974E-4EF9-ACB7-E1C32E26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356-9572-4911-A959-469775DF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5B0-1147-45A7-9E03-5EDC35A7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936-7D0C-4C55-8033-76BC9A8E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5C1-3DD7-4462-8A81-9B9E7DC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29D-F2A6-4C0F-858B-998040E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593-8672-484B-992C-98DAA5A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165320"/>
            <a:ext cx="9144000" cy="397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media1.wmv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2" name="Content Placeholder 3" descr=""/>
          <p:cNvPicPr/>
          <p:nvPr/>
        </p:nvPicPr>
        <p:blipFill>
          <a:blip r:embed="rId3"/>
          <a:stretch/>
        </p:blipFill>
        <p:spPr>
          <a:xfrm>
            <a:off x="1066680" y="0"/>
            <a:ext cx="8077320" cy="11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4920" y="132840"/>
            <a:ext cx="762012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20024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995480" indent="-221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2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F5F1-A69E-4F25-BAF8-C3E8A94E2E2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3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B01-1250-4B01-AE81-676C8B7D4E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510-A913-49AB-BF58-2F2D45CFCEB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ECC-B8E4-48DC-8A40-5D2928F8473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edia1.wmv" descr=""/>
          <p:cNvPicPr/>
          <p:nvPr/>
        </p:nvPicPr>
        <p:blipFill>
          <a:blip r:embed="rId1"/>
          <a:stretch/>
        </p:blipFill>
        <p:spPr>
          <a:xfrm>
            <a:off x="0" y="0"/>
            <a:ext cx="7715160" cy="514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760" y="244080"/>
            <a:ext cx="472428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09720" y="2952360"/>
            <a:ext cx="3505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32840"/>
            <a:ext cx="762012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20024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9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08:52:59Z</dcterms:created>
  <dc:creator>a</dc:creator>
  <dc:description/>
  <cp:keywords/>
  <dc:language>en-US</dc:language>
  <cp:lastModifiedBy>a</cp:lastModifiedBy>
  <dcterms:modified xsi:type="dcterms:W3CDTF">2014-08-11T07:17:4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NXTAG2">
    <vt:lpwstr>0008005404000000000001024140</vt:lpwstr>
  </property>
  <property fmtid="{D5CDD505-2E9C-101B-9397-08002B2CF9AE}" pid="4" name="_TemplateID">
    <vt:lpwstr>TC101881347</vt:lpwstr>
  </property>
</Properties>
</file>