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809-A1BD-4620-9D33-CE5DDBB5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AFDA-1D6D-40E3-B410-1377193E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BD8E-7D0F-4EC6-82B1-F98D0705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B46A-6967-42D9-9AFB-9FE73D95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9D7A-3A7D-49D3-817E-FC8D6646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C97E-881B-4A5F-A256-9095E9FF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948B-A7FE-4EB3-AB0A-97689E63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59D8-7656-49A1-9F21-54009DF4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2E5B-9EF8-47EA-82C8-1E0CF276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40D7-E4B5-41A1-AB9C-89AAB166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F3EE-C133-4020-B786-AD45E71B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AE2-D55C-42DF-81F3-77D7988D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D00C-0858-4848-ACF9-1E016711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65E0-C5FD-4C1F-9EF1-239A9826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E0ED-48E5-4E8A-94DB-B7557AFA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7867-66DB-4CA2-A415-B339471D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3EBA-FE54-4262-98A7-2C36D8F5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05A04-5384-432F-871C-1A9893C6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03A43-0225-4BB2-9865-E03A9748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C0EC7-34BD-4179-9FD4-4B2F03D1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67F87-DA3D-4C36-8A7C-1DE95AD4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01662-8B39-4E52-B074-3896EB72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B79-4CAB-48B3-81F7-758EA344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12349-896E-4F01-8FD7-D1FA5FCD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4ADD9-073C-44C8-BF9C-40F91280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93A42-9207-40A8-820B-3C207D54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0935E-6792-44EE-82F1-8684CABC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B4D29-8CD9-404F-91DF-3CCB95A2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9900C-82EA-48BF-B4D3-515A01FC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2ADCD-A0EC-4B1C-AC33-F778E778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894-AD6B-4985-9D4E-29AA4E24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5390-A379-439A-8A22-14BDFDC6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4767-C6CF-4204-8A9C-F0B2F918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CF3-890A-4453-8156-2CF424DE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0C82-F38F-4D64-87E2-7BCC7C4F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F4C-A706-4B4F-94C0-02AFD0AD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5197-9775-4664-BC0E-FC7365FFD9A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3D74-DA50-48C2-8C8C-7E56CCEC976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FED1-2A4B-4558-B93D-D0B5E5552E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3F8C-362D-49DD-8496-F3F31DA8C7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ppt-1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ppt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ppt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ppt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ppt-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9T06:45:49Z</dcterms:modified>
  <cp:revision>1</cp:revision>
  <dc:subject/>
  <dc:title>PowerPoint 演示文稿</dc:title>
</cp:coreProperties>
</file>