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B2D-4C7E-451A-959F-9A903D49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7D4-DEB1-4449-977B-1DFE716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D26A3-7C3F-4C55-B9E1-9FEAF61B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DFCA9-AF44-49EB-80DD-8FB61EF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60F9-1A70-455F-9B64-FD94952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9663-3C3E-4A6A-BD02-0DFB1D1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AAC69-0F34-4973-9A03-2B9E26C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2337A-6B58-44AB-ABA8-2F0ECFF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99739-81FA-48E4-B6FB-DD6A03A5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9E33A-9532-4997-B57A-06582A25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CC2F-DE70-4E74-BBC9-2F5CB3E4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328BF-A604-4159-AEFE-03400C5F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8BC-80AE-4746-A115-D6192192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4CEF6-ABA3-4978-BA71-EAB35E70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F266-921B-4D21-AB6F-339D45B6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1F461-8D2C-4D37-A275-49A77BC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197B7-3679-4957-A4E1-34477EB2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A68A-21EB-44D1-969E-E4AD940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5AED-5EE3-455F-BB91-2584B81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536D8-C15B-4087-934E-7005723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559C8-31C3-475F-B45E-7B3D93D8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E6B01-C2A7-427A-A21B-66BB4F36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8978D-D762-4FAB-9E8D-84D9AF83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031-7B8B-477B-8601-60299A49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7B0C2-FF7C-4C7D-B2AF-C0D47EDC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E9D4B-F169-4ED7-A8F5-BABF292E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555B-63C7-4E57-9FEB-BF93E5F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EEF36-B909-42EB-A6B8-D58EC9EC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EB3D7-9532-4B29-BC02-494BBF7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EC85-9ED3-414C-9D33-CF66D51B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5E47-8241-48ED-BF6F-AF4204FE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EC393-0095-4A69-ABF2-AAB3640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CFFF1-17B5-4E99-A3C2-EDA274C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CE3B5-8E72-4418-A1DF-020A2C6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67E6-5326-4173-8685-71588B94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C7EC5-1275-494E-9134-FB750472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B362-AEF4-4A40-A993-E28CEB04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96791-DD6A-42EE-9492-393E859A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23E16-3821-4C56-8439-0EA905A2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E2492-E14B-47A9-A8BF-AC3D54FB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428A9-C32B-4983-856C-39916C0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50C3A-5652-47B0-B9C5-77DD08E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D4EFB-18A1-4C9B-B1E7-4A87E3ED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B6650-C08F-4C0F-89D8-3A410483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B6579-20D2-488D-ADE4-7945E20F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3CA7-1308-4011-9ABB-E38BF0D8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B2FBE-763D-4FDB-B8A3-86AC0CC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4A437-4F2D-478E-9CC9-1C7B53D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568D9-CF40-49F4-88AC-A40E1F93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3A655-AD7E-4E6D-8007-8DFF2B21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FC68F-CED6-4624-AD02-37E79C47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8B0A5-B0EB-4037-AE5A-67B9F2BC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2F03F-1C86-45CB-A905-BED6ABF1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89308-C8F4-44A8-AE0A-FA9B1F9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DD458-D7CD-4FBA-B242-3CEFB043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43E5A-0165-4BE6-AFCE-B086F28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D2B0-E3BD-4AF3-B1C0-FF2C8CEE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EACFC-85B4-40AB-9E8E-CD19FA3C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13BA9-E052-4B6F-A82C-89B0ECE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CA4AB-6F71-495A-AC86-CCBFFBE3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49723-FEA9-42A9-920F-10D8A9D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C06BD-1499-4D6A-864E-8AB99B5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6A34-27FE-4D16-B3F2-34C4667A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3CF41-5ECE-44C2-8AC5-A3A1A0C5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7C83-D0FC-453B-97A3-2C51648A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EE7D-FBA7-4772-97E6-C92A8BC6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5FB2-29B3-4BA9-97FC-8F76080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922C-A9F6-4E96-9599-32DD2411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05C-154A-4D1E-9F37-C69B1C2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703-AEC9-4E89-8570-6656DAA8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802-ADD1-400D-BEEB-090291D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2DB2-AEA0-41DE-8167-BA9E7EE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764F-B9B9-4976-B4F2-856E5725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A99-5502-41D2-B2ED-173A4467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2C9E-BAA1-430B-94C6-B8DF2D8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B529-6C45-48E6-BDBF-E4603F7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04C3-E0A7-488F-B163-7662B8EB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BA95-20CE-47E5-8F01-BA8D2D8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C5AA-2DDF-48D7-AF2B-5346AF6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B94-9996-4F3D-AA07-1FFD13D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6461-FBCC-4070-93E0-30DD284D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E71B-EAC9-47C5-8BA6-EF4BBBF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2973-C7C5-4225-B2BD-6CEFAED1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F1B3-FC92-43E4-A8F2-EEFFCA3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6A40-37B6-4401-94E3-4E0E659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6816-2E20-4AB2-8218-64BC7DC5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5F74-10F0-43CC-A690-94A88A8E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8338-87D7-43C2-909B-18D029A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2905-193B-4D09-B5F2-B62760E4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12D5-CCBA-46A9-8569-B63B64F6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241-378F-4955-908A-047E755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36CB-1820-4AB3-87E2-9166308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1D33-B93B-4797-8CD9-A3EDC90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5F3C-7652-4154-B3E4-577F5A3A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8505-15B5-408B-8B4A-CB778513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21DB-5CA4-49B3-BAFF-2DFB64A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56FB-E18D-4BA8-A644-DE772B9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542A-290C-4BB4-88B1-385B53FA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91A6-1E9F-4B80-A3B6-EAFF5602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89AB-6AC1-4FBA-8DD6-7D30E28C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05540-66D5-400E-8953-ECFE139A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50-42D6-4194-BBD6-137B3170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8E36-EF88-4B59-BB28-8442BC1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3FB2-CD0C-4D16-B208-6FEB7688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8F31-CE2F-45BD-A3DA-E9F584BC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391F-1AD1-4566-B889-D607DB1D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F94E-B2DA-4DBA-891F-D58D314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5F1F-380F-433F-89C0-2902AD6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5EC8-03E1-4EAE-91A5-7890387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91525-A803-411D-A93D-98820DC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DF11-37F0-49D6-AC0C-F4D14A8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4A8A-0164-491B-ADC2-49BE42DD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602-7C85-44C1-8218-E004BDAE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4C32-F7AB-445E-89A9-AC45FFAD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AC6B-7AFA-45D1-8D03-AF5372B0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3F68-08CB-4C9D-B5AF-C625D127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FCE92-1E2C-46B0-919B-CD80862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CE94F-765D-4E6F-B55B-841280D5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7DB0-3F47-424B-8BD1-9A3FE4A1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54F2-3409-4318-8987-67E263D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AEDD-D2AE-4FEA-B335-54FBBC3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C422-4272-4571-93B4-D09B4D0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3148-5144-431D-AD9A-AC51049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941-0376-432B-B073-E89ADF8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DEB42-142E-420F-A257-AF6ECA6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68BB-FE82-4D15-9A98-10710BD7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6EAE-B701-4406-B100-7362CC80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8784-C1EB-4828-AEAE-3D9475FF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DF07D-9484-449D-A8CD-E011631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3883-D572-4751-8F36-65EF3C64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46827-64DE-4592-935D-378538B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149D-7466-40D7-87EB-E647C11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ED897-8EE2-4FC8-836C-D68C6D43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00E14-F2EF-40D0-B819-B3E496A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2EE-1348-4F9B-A8B7-A5579C5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8DA2-C55C-4CC5-AFC4-6CE66CA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F55C3-9E8D-43DA-9112-B51FA6F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A12E-720C-430C-BF8F-BC6F59D9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EC14-5227-4EDD-B15A-CB6E5011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2C615-4C53-4D8A-B34C-C4E02039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FE69C-31F7-4AFF-B177-45E25984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66BC-24C5-48CF-9950-C8233122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44993-3CD3-47CE-9DFC-A154E247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8BC2-81BC-429E-A0FF-E1772F7D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7003-088F-4959-A523-50C3A5E5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6BC-716B-46AF-B4D4-9484EF0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C1FC2-ACC6-4D00-99D4-00F947F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7BADF-D0B9-4DF2-AD72-6637F4C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79584-93BD-487E-9E3B-75CE31B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46BE-6D3E-4272-A340-CA120FA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3775A-726F-4155-974E-5BCB7ED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EEBC8-D12C-4448-8074-FC53D72F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6E56-72EE-4117-902A-704BC381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AA89E-C4C6-4A12-8731-2B41814C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8D254-1BCD-4C11-890F-3F159C69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F7D6-C4B0-4406-9363-3F35E80C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D3A-FCE4-4139-87CC-ABE5F58639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202-8D76-413A-9CCD-D88F94C4C2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8944-A449-442A-93EC-D6756A11CDE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F4AE-74EA-4262-B0E7-3A5D9716CFB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5FC4-8DEA-44FE-8BC7-FB4C0611BE8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3A44-7638-46F0-865F-64F16E375FC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734-9AB2-475E-B338-2FD0376039F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1D1C-C4FB-4BE9-B7F5-97C0DCA8B78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C21-FF56-4E85-A212-57FA23FE8D6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E573-0D71-4582-82A8-C0943E45F4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E25-E8CF-44B9-B476-867BE66044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B08-9708-42F4-AB90-454210F3E26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7CE9-5342-4F6D-9FF2-86886864FC7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86FB-A463-4F3E-AA1C-FE4E244EAD1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79D7-A666-40D8-A486-D0F4E739C26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E45-B4FA-44B2-9CFB-2E245FD33C6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B98C-20EB-45C2-B5E3-E801BA9CD0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A20-9446-4BAC-8D38-4A2EBCC08DE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3D0-4C5E-4DB3-A3EC-DD09E50CF1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0FF-0A47-44F4-B125-6ABFA108CE7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677-1F04-48E6-AF6E-9B9C08A59BF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DDA-D92F-4456-B42C-DC13B3649EA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D367-31D1-4F96-B3B6-2428854B3E3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10C1-977D-4E01-B1D8-487806671DE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769-7A09-46E3-BDCB-5FA29DE3277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封面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过渡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结束页01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结束页02"/>
          <p:cNvPicPr/>
          <p:nvPr/>
        </p:nvPicPr>
        <p:blipFill>
          <a:blip r:embed="rId2"/>
          <a:stretch/>
        </p:blipFill>
        <p:spPr>
          <a:xfrm>
            <a:off x="2971800" y="1320840"/>
            <a:ext cx="610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13T01:59:2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