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4A3-D91F-4121-A4C7-496CF8D8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C7D-BC49-4AC0-BA44-3B200177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B2EA5-C3D6-45CB-A7FF-340446E2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C43E7-83C0-4922-A9B7-6B7BE3FA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858F0-8E27-4010-8CE3-E17929FB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27BF3-5772-4B66-A404-1D48E7D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54D87-2A9B-4047-B13F-3316FAA2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52C43-248E-4489-A192-0676B9F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C301B-E5C4-4EBA-8EF7-9517D9DF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467D3-AFC3-4BA2-B325-55E55B9B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53023-84FA-4EA4-9AFF-DF884BE0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4A328-3C0B-4451-9B5E-87C7C595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204-324E-4BF9-9AFD-5E9F7A3A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21EEE-A6B1-4F35-A7F3-EE6CCA66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06992-844F-49F2-B1D6-63D9F0F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2BFDB-A672-4ECA-A217-FA5190C2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A2D8D-A0EA-4F40-B8B7-B4822BE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A6C6D-7CB2-4F85-9B53-143545E3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DF5F6-386D-4443-BECD-749953BB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86A14-7896-4F61-AE6F-0EA640F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AB0F6-4763-48D0-A3AD-E6A2C36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F530B-F14F-4B84-872D-79355BB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4A701-3DE6-4A71-8272-91184FDA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57B-42F8-4EB1-98CC-B3DE6A57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21EAC-CFF4-4927-85EE-FE182A9C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040F1-16F9-4529-BE63-CF3357E6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341F0-D1A3-408A-B77E-A4B19F9D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2BEF1-2A6F-4A29-9ECA-1E0D16F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6551A-2CE3-4C7F-B50A-B1548EC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A3D3-5F08-455B-9F94-A36ACF24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43EE2-0921-4FC9-8C82-3B300FDA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C0F9A-DC3D-406F-9DF8-733F7289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4C8EC-A019-43EE-91D7-91A9235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7E5C3-C4BD-461A-81AF-007C578C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921-52FF-4E1A-8822-538523B9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C8F9F-42FA-419D-8717-B7AD7FF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96B8F-BE37-4CBC-AF9D-1BDF86A2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F8297-A7F4-4090-89F2-1C1C6C73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62AE5-59C0-4B87-B612-BB5FE675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E31D3-69F7-4CC6-AF2D-C5AFF352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A2013-6600-4EE5-B099-9A28521B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988B0-02FE-4623-9291-1922A721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B32AC-DB3C-403F-9027-65E8B737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972FB-E5F4-4569-9EFF-C01A7744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BFFB3-9FF6-47E0-8FA7-45D6031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BCC2-16DE-421E-A7BF-5D788565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8630D-EB55-47FC-B4A2-172B9B1E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E30B4-28AA-4DEF-9249-D63E0323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0D79F-4626-4713-8970-0F627266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AA842-C3FC-4D92-9F9A-CD03E79A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CBE13-BE70-47AB-8719-84173DC8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B70A8-5BAD-4800-A4AC-538A5FC1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41B30-BFA0-4C3D-92AF-1453B871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8DC3C-4C7F-4471-80EA-BCAA8FDE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9FF4C-1CDD-4BD5-8E39-7BD23660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7E25A-D71A-4CA7-8CF4-96E8166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6DCA-0EC5-4858-ABA1-E8C0F2B8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6A808-D30D-4773-B15C-EF36FFF7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37B10-F71C-405C-BE40-A2E396D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AE898-3C82-4B48-8F8D-D4901CF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7E1D6-1210-41D9-BF00-A85DEF1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B9ACC-1810-4AB1-A6EC-0B87B18D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4A90C-913F-404A-868D-3CEF2232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650D3-B8F0-427D-832B-825028E2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F9A7-41D5-450F-B573-4EBF0129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A301-0BAD-434B-B58C-F5774D8C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A586-3FB0-4725-B49E-760C3C79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F475-788D-41EE-8268-20BE047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3E3-234D-42C7-BA40-4A1BADB8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EFCF-0053-4A0E-8E7C-109685E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2BB-8572-4517-AD74-EEF65A21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8E07-4763-4F66-85B6-EEA6A397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3536-06B8-4A78-9F20-45B7F10E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D31B-2E0C-45A3-802F-9BC070EB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96D9-90B9-49AF-9094-F79DEC1C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8904-2DC0-4C1D-A7A7-7355CC21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02B0-7A1B-4B59-9871-F40030EA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340C-E59E-4DAB-90FC-EFC315DF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7EFE-4F86-4318-A607-124112AF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087-1ABD-48D7-8B6B-1DC88BE4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2560-50D2-4BB0-9439-D3FE248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48FD-C5E8-4868-8BAB-418CBAD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9CB6-78A0-4AFA-B74F-B4AD959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51E3-6872-4507-8F8A-D323ECA9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1311-372D-452D-8007-861DF5C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4793-AE79-46E4-B8FE-1DFA2CFC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17DED-80B3-4C44-9371-0825E49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91337-25EE-4819-A716-3E1E04C5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658D-565B-4D5A-8E88-0D2C4092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60A3-A150-4475-802D-2202D75F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93A-F506-46D3-8275-41854B0A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1C1F-0293-42C5-B4BA-8CEC3ECA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7B1B-CE6A-40FA-A1C6-863CC61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1C38-BF17-4C84-BABE-BAB6AE4A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36DB-4471-4279-BD3D-3D73D95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21299-ABBE-4974-B51A-4847607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86C3E-AF8F-4EC4-B42E-B930223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D386-4833-49D2-9860-F734E570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A65E-9F96-48BD-9B50-94112548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7C57-9294-4D16-8AD6-49A8F5C6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4916A-C78C-4C0E-B5EE-C9B2AFF7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702-6C07-46DC-9B42-A8C8DE5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8F414-460D-43E2-B472-36E039E5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A2E9D-91CA-444B-B4EE-529C48B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4DF0-2959-499E-8173-D9E908F8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32FAC-C09A-43FB-8479-4708086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5614F-4419-4253-9CC9-AB6CCA84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7F6A-EB0D-4A38-85BC-37BA9EF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B0730-8FE4-4953-9D5D-8C3FC57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5182-FDBA-4BF1-ACE3-43A67E6A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CB34-C3FB-4620-8DA9-B0B874E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52AF-0D40-42CD-9D0B-8B35BE56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F06-6211-4D04-8E9A-1ED1BD55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B6103-3BA8-4CEB-B93B-0EAE4A70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C8BC7-96E3-4F71-BD49-B2DE5B22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28EC-3BBA-4678-B828-784BF85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A5D5-DD59-4398-B618-30800AE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120C8-5CF6-436B-9FFB-8447C665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EDF5-DBAD-4310-8E99-4A86DEB8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13906-883C-4FE0-8EB5-FAF501F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85B0-63DB-462D-8C87-BB7BDA1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9108-8C6A-4A5A-9AA0-ACEE3534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1212-C1F4-4365-B6AA-8CC7F52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35F-5038-4DC0-AA41-0E0566D6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26979-98B3-4423-A8D2-5137916F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2F546-92A7-47C8-B4A5-8999BEDA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480A-5A82-4D80-9813-BA419478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E1C0-23FA-475D-AF70-D5E49A3C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2E725-F8F8-41B1-80F4-A9AF0A2B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22DD7-BD45-4469-8C3A-126A7FD4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CF94B-14AE-4877-A124-0FE443C4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A67F3-6CDB-4D76-9AB9-8779A16A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3ABBC-E5EC-4815-AD65-617EC09F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A10D-3166-4B25-8BA4-6040BCD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9FE-4AB3-499D-8694-2DED0C9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7EBFA-E2E5-4E4B-AD3D-A0B436C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4096-8FF6-4879-AF8F-7219E254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7AD3E-2EE2-4CD5-8F89-B2737C1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3DE5E-6C3C-4155-B533-A0A9C48C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4A59-A672-44BF-9125-E40A04BE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F6438-CC45-4F1E-BD8D-6F637B0E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4FE7-9414-4C60-A786-37662E11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944BA-7B73-44D1-9010-E966567E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31ACE-B177-425F-B2AC-E7292C33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EBB6-04B6-46EE-A4B3-2F86F78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044-55D1-44C3-94D6-C9ABDF6F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AF5F-3E59-4CE0-BC50-DDA632D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0CB4-1E07-4942-9581-9123FD53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4D61-1567-45EB-9593-1FEB1D77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59D6-ED78-4836-B693-07B68E3E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FA2A9-881D-41F3-8D3D-9B0EFAC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381B0-CBBC-4735-8538-C3C559AC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34195-1E9B-4AB2-81EF-F2577165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DBC0A-0320-4E30-9BB4-1CC3DD53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0D6FD-6A47-495E-9953-689123A6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3987F-F2A9-4738-911D-9549220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E134-25C7-4473-927F-E1E9F4A685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3592-CBE2-4393-B7F9-21B76F08673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9B4B-011F-48C1-9D52-C4F91297CD0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D6DD-A7AA-44F4-AA16-013DD8A7C02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DEE2-D3EC-4756-AC1E-5D71529EA0D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DDF8-5C6C-40BE-A2C4-BE5537C0A6B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CD4A-7DAE-466F-84DB-BF658F72047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37A-E284-4341-9460-1E755FDF7B1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813-6D85-44FE-91BA-FA6F34ECD69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54F1-0CE9-4C41-B8FB-D78EC5FF3C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D2B9-B42C-4709-8A4A-898EA5B8B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CFC7-F1E3-4094-96A0-DEA88FBEDCB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CF74-CCD7-409D-A1BC-A9B033A865B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5951-B77B-4D46-B112-27F54D2DDAE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05F0-825C-4534-B541-BB98F17232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5A16-A765-4E8C-9F7B-EDAEC156A53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B28-B57C-463B-8C84-55AB02BAD05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CBC-FE3B-454A-ADB5-066B4B87767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BA71-6A4C-405C-A645-9E529DD6FAB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0C41-3D35-4259-BB11-223C7370809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A1B8-2004-45D3-BE04-18D6346B5F4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E764-4751-4678-A219-038520CB345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6DAC-5371-4CC7-9D16-419A2154816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A9C-C87C-47E4-874B-5855EDB95C6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59C0-7661-44C3-9E60-A53739229EE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1" descr=""/>
          <p:cNvPicPr/>
          <p:nvPr/>
        </p:nvPicPr>
        <p:blipFill>
          <a:blip r:embed="rId1"/>
          <a:stretch/>
        </p:blipFill>
        <p:spPr>
          <a:xfrm>
            <a:off x="-11160" y="0"/>
            <a:ext cx="121856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2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2" descr=""/>
          <p:cNvPicPr/>
          <p:nvPr/>
        </p:nvPicPr>
        <p:blipFill>
          <a:blip r:embed="rId1"/>
          <a:stretch/>
        </p:blipFill>
        <p:spPr>
          <a:xfrm>
            <a:off x="1440" y="0"/>
            <a:ext cx="121906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11T07:15:1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