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F8D-EE62-423D-98DE-A2DBF7A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CCD-4DA0-44D1-BEF1-F45BC089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F22-2BFF-41B5-999C-515AC059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7CB-6629-46D4-95D2-3AC9085B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BA2-6F3E-4C50-966E-B50CBCE0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C9C1-C184-4CD2-BE9C-781B7F4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50C5-1C3E-4B74-8E08-7E9EA048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5B2-4FC9-413B-ADF3-B69067C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9CE2-6645-480C-AF3C-A3BFA3A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D28A-D461-4505-B73B-2DAC49AC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6F37-9968-4133-A6B3-0C32BCC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383-AC78-4FCA-9621-FD3793E1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5229-77C1-46AD-B8EE-2AFA95E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B08-AF72-40DA-9F5C-0613645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35A-ADEF-4975-9D86-00091A0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E2B1-6E7B-49BD-BF6A-46AA7C9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E67-B32A-4E5F-9DCF-AB7872DC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0304-D211-4DB7-94A2-B08E0B23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1E61-2DBB-4D5D-B285-4424F0E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0381-84CC-4FBE-99D0-4A31BE7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D687-690B-4BAA-A142-A5142A5F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8DC8-2A0B-4ABC-8FF9-9F81E6E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059-FC8D-4487-8A94-94345C7A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BA7A-5346-42A2-969A-F64630DA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3439-D8AA-4C4C-9944-E685DD8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28FA-0C89-45F7-95EC-5A1B92F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309B-69D1-44B3-B0F4-8F781EF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D9A8-0890-422B-89D1-45F3586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B636-544A-4884-80B6-948FF8D8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E3CD-E9AE-421F-B21E-7185664C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33C-2C0B-4040-9E35-887CBD2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26D-9480-4809-ACEC-E420FFD3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1B9-1BFC-4CB4-AABD-91B5D3CA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BB6-8522-46B7-8903-385EFEE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ABA-A4FE-4835-A41E-ADBAB44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88E-1881-4020-B4B0-BD2FD7F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578-26BB-4719-92F7-CB5A71DF38B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801-E3B7-4B8A-B81A-E756B90FCE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800A-0AB3-4CEB-A919-B206BD013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3E1-D58B-4A0D-8CA1-B1DA9273E7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979640" y="2556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Easy Off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02:57Z</dcterms:created>
  <dc:creator>sg</dc:creator>
  <dc:description/>
  <dc:language>en-US</dc:language>
  <cp:lastModifiedBy>a</cp:lastModifiedBy>
  <dcterms:modified xsi:type="dcterms:W3CDTF">2015-01-12T08:03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