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B88-04D9-4CC0-A536-A3DA6238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0C5-C3D6-40C2-B799-FB9C5478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5712A-E80E-4060-9DCB-6BAF3AEC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DCABD-7796-4C85-AC0D-E1E68902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C0F65-3FDC-4214-8B61-0F272F7F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77D1B-7D6E-4AE7-BFC2-62BA1BF7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79E6C-6EB8-4B8A-9FC3-E4D433FD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84A72-70EB-4892-9938-082E03B6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0E5DF-2770-4613-9EAF-014E812D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1EF9C-D59F-4542-9366-D25BFCA7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3ADA3-08A0-47B9-B42A-B5DD9D30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2BC60-B21E-46D0-8DD1-F29B9084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297-308B-48E0-A77D-407F1204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8133E-EBA9-489A-B5F1-9907DF85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9E24E-CB4D-4AC0-8292-9B62E14F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9081A-B4DF-44AC-BA51-CEE789A8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92104-B9EC-4EC8-9855-BFC21A7D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6BDC9-40F6-4A41-B851-F8DA357E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E613B-FDB1-47DA-81F1-73566C7C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1AC67-593E-416B-A492-502658CB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8F4FC-4896-4666-8348-5C1D6531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369AC-E551-4FA5-8902-DA7BF28D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0D9DE-9826-4810-9860-72C2A20A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B9E-9451-40BA-AEB8-FBE04147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A8017-EDC1-4166-A9F2-3970DD0D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7D3D2-31B3-4C6D-B832-04D82CE4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14AED-BEB2-4F63-8983-D6A6F4FE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F26E9-8F36-4CE3-A6EC-BB62E135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8F78E-2B68-476F-935E-33F3A351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04712-7C1C-4670-B4E9-C90332A1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BA9CD-7915-4086-B6CB-5252510C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01865-F4B2-430C-B786-94CEBE3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37562-8AC3-4CDB-A516-A641048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E9587-D0A8-49DE-B95F-D8874AEE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9B44-4D06-4139-80BC-DD67CC81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A4F6E-2F27-4092-B43B-E195793D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F1DEC-A5FF-44B9-ADC3-DC511317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D0953-B316-4305-A200-77BDD1CE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718F1-0A73-45C4-8C33-F3BBBC7F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48363-F444-4D85-9D5E-1B7C72C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EC953-FB9D-4430-B80E-87AF1856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008A4-DDE7-484F-AC86-77EEF6CB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887D2-BE29-4800-B422-F83791FA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D7AFA-E355-4317-9E94-3798DE27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00634-79A4-438E-B901-A75470C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1DD0-EE1F-48CE-B3BA-9D557BE2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2C308-2C16-47D1-888E-B5A62051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1E104-8ECB-42CF-8215-23B0060F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521C5-DAA4-4D4F-BA32-08D9CDEA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6DDDB-3725-4109-82BF-69EF5E0D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B792C-9465-4929-A8EE-66AFCB59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C4CD5-C65C-430A-B15C-B9BE6C99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81E6E-A21B-4576-AE4E-B0A4F66E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08914-A3EF-46F6-89A0-A0FEAAA5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DCB7B-49D8-45AA-B924-EC911E42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E0548-3E62-407D-BDC6-A5C4FAEE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4DFC-FC67-493B-A9AD-52AB3CFC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E1A33-4A66-4823-A6F8-6299D6C7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8E590-75FD-4FAE-8161-EF9F4C6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BA09E-D13D-4626-BBD3-77DAB07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9A019-13C3-4DB2-82D2-AB722DD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C2A9A-80B2-47A1-99CD-F42EED29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7D24F-20E2-4F14-91E6-98631DEF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EDFFD-0D2C-4885-95A8-1C016C70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B306-5C0B-46ED-9371-0537311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948-8B20-464A-932F-B6B364D5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AF8F-565C-4B49-96E9-E4D3BCEC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1382-1988-4482-9F2B-54061E7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F56-E0A7-4E2C-B06A-DFB310E4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19BB-2053-492F-8C85-AA5EA280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BAEC-CB3D-42A8-885D-CFBA961E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A8FA-E111-41EB-AC5D-A1CB7D03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BB03-71C5-4C51-87D7-93494B1B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3004-188E-4B33-A6A5-2E669C9E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66A1-B670-4C25-AF02-4E82C4BB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F2EC-F551-42FA-B70E-9C65FEAE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C1AC-0727-4418-B96D-AE3BE978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23B9-6A6C-49D9-A96D-7D00DD88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65C5-FD3A-4D82-9FF0-C9B9383E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420-7BCD-400B-9BE7-3AB1F7BB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0CAA-831F-4BCE-B695-C21EBEF5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8872-6D63-4D2C-BF8C-2331A7A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B1A9-9E53-43C4-9C70-CF15404A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9610-43E7-4BC8-B23D-C844684C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C2A0-81CF-4F56-8C15-742422B2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CDFE-D670-40F2-8E21-B1ADAC26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399F-9109-4D78-A1A3-9EB6C66F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73F4-9922-4AFF-8195-A0AF9992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61A17-57F6-44C1-BDB3-4FB81175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DC387-3437-4361-B3B7-662D5BC9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B5D-B768-4444-B5B7-836A60C7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2E8F3-144B-41C9-8AAD-FE9B573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ACFF-A571-479E-A578-572C9CCC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71BE4-7509-46E0-B23E-ACA35755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0467-50E7-49A1-8283-6FB29ABC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AF76-584E-4938-8094-D9AD7CE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356A-AED1-46BA-A6BE-473C37CF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8C098-3FCF-4A8F-9B21-2B12FBA8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5138-D274-4E36-811F-BEF9DF23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13A81-6243-4136-86F8-B341052F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665BD-E450-4F40-9C8B-C51A6F37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ADB-FB85-4D13-ACE2-4CC9CD18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25553-123B-4AE3-BFF5-B33EE415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AF16-8AE3-4B92-94EF-7038EB38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EDF2B-7878-42E8-AE7E-6E957FE2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BE67-7BDC-4106-B6D4-AFA1CB81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24A85-DFA7-4B2C-9548-519AE9AA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F668-C987-464D-BCAF-46EA3BF9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68282-15E2-4773-8F62-556D495E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CBBFE-08AF-41BE-86A6-3C89BFDA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8013-511F-4535-98F3-E97B14D6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35649-1E00-4DCD-9815-21C278FA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C83-29A3-44B5-AB38-BD401901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A52EF-8F5A-46FF-B047-B4D45690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99B4F-1784-4E5A-A848-4B1173B1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FE10-D6E4-4A58-BF79-E887B40D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9602-FEF6-43D6-95AF-FEFBC2EC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47D85-6D74-4D35-90E9-4FEC7952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3564C-CAA4-4F1D-B9D4-B16A24C3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FCAE-25EC-4A0C-8BFF-02F4F0A6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29EF7-4AD7-42E8-8872-F1D42ACB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43E25-D297-48F1-A2E6-75AAEBC7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3D25-07E3-486D-873A-A5FC48E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EAD-EFBA-49CC-A80E-81CC74D4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640F-EEF0-4C12-9A9D-130DCBC5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A9416-8B25-4C17-818D-655E69F9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4DC16-2DC3-44BA-BF09-85A0D983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D927C-E8E0-4F37-93BD-BBBFBB0F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808F3-6861-4600-8ACE-AC1D1924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EECF1-00AB-487D-9059-7517ADC2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D0299-A717-4196-A060-DD71D632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E4404-4F3F-4AFB-AA2B-EE7BC535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67686-C774-4202-BF0C-39E20098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3AF37-A17E-4447-9EB4-FB88811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9E1-9A8D-4915-90CE-BC8EDE1A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57FDF-3AE4-41A0-877D-438DF233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9FF9F-FF6A-489C-B7D2-875BB7F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A873-B93F-4802-8F8F-66CE4CE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28018-DED3-45A1-9CCC-8DA92673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E5745-272B-43AB-AB44-1E7CD16D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1DB5A-CB47-4B57-94DF-44640C61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1D3F3-5E57-4122-893C-DF788FF7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32158-AE95-45FF-ACEF-181B070E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49EEF-0E3E-495E-B92C-322BE95B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0F9DE-7B7F-4FEA-A1EC-FB951D44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FBE-77DF-4C2F-BA33-29E3956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911D6-D09F-4295-BEC3-4573996D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FAEDE-429B-4B1B-884F-B7E13A0E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76E18-CC34-4E71-B778-64AEB89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8171F-5CD4-4C40-AF00-D80799EB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C0AA6-C524-4D38-8491-DFE6F6DB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4796F-00E1-4516-A0A4-D46CB71B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FB5B7-66FE-4BB3-9F45-A534327E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5EB96-3787-466E-B8CF-74CB92D9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A440B-15C4-493E-B38B-2A9E5B9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7B933-068D-498D-8A98-AE19457B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392" t="0" r="588" b="2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677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5677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6252-FFC8-44AC-B6C4-A8B85113FE25}" type="datetime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96BD-4B05-4CC4-B232-0DB5BB2C5D5A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A585-3E41-4D9D-995F-AB6022CA4A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68A8-3AC1-4F3C-878C-530E4EE57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EEB9-50F3-467B-B73D-D1B5E3F24B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CD71-7607-42FC-8762-C9A742C7A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4B63-65B0-46BB-ACBC-36EBA2C949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8489-8748-4A15-A3CF-1F87CCF1F5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06D3-6689-4C64-81CE-5BBBDFBAA7E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0C4-C799-4BF6-B2C0-94F93FFD9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AF18-C661-4D84-B328-EDBE2270D7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A204-2B09-41CE-9E0C-E961EAC4EF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5FDC-54D4-43FB-87FD-8D5412CEE4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8823-F328-4982-A027-57EF53EBDD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0C32-3D97-49D0-8C95-E4D01A0123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9D5-BFCE-4D81-AA52-BC69F239D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2364-3649-4C9D-BDA9-0C0E5DC618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508A-9F86-438D-AC30-976A91137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9AAF-55F7-4F7D-8DCD-85F3209D16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426-5BB3-4A7A-B136-A625BD5B25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1550-2458-4AA5-AAA7-A6EC397CFA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2CF2-1762-4759-9B9F-A178CF79E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FE7D-9C3C-47C8-A2B0-EE24D39AFF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F575-C09B-4B5D-93FD-3D43A058A2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1DCD-E83A-4C21-B303-9DE0820C67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7A6B-F88F-4376-BE4D-7CA79064BD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3" descr=""/>
          <p:cNvPicPr/>
          <p:nvPr/>
        </p:nvPicPr>
        <p:blipFill>
          <a:blip r:embed="rId1"/>
          <a:srcRect l="244" t="1711" r="1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63640" y="3068640"/>
            <a:ext cx="4895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5677"/>
                </a:solidFill>
                <a:latin typeface="Monotype Corsiva"/>
              </a:rPr>
              <a:t>PowerPoint Template</a:t>
            </a:r>
            <a:endParaRPr b="1" lang="en-US" sz="7200" spc="-1" strike="noStrike">
              <a:solidFill>
                <a:srgbClr val="005677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DA2-FA6B-4EB8-93CD-E3DD523B0773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050920" y="2204640"/>
            <a:ext cx="540072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677"/>
                </a:solidFill>
                <a:latin typeface="微软雅黑"/>
              </a:rPr>
              <a:t>Click to add title</a:t>
            </a:r>
            <a:endParaRPr b="1" lang="en-US" sz="4400" spc="-1" strike="noStrike">
              <a:solidFill>
                <a:srgbClr val="005677"/>
              </a:solidFill>
              <a:latin typeface="微软雅黑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932560" y="2965320"/>
            <a:ext cx="3423600" cy="302760"/>
          </a:xfrm>
          <a:prstGeom prst="rect">
            <a:avLst/>
          </a:prstGeom>
          <a:gradFill rotWithShape="0">
            <a:gsLst>
              <a:gs pos="0">
                <a:srgbClr val="00648b"/>
              </a:gs>
              <a:gs pos="100000">
                <a:srgbClr val="00adef"/>
              </a:gs>
            </a:gsLst>
            <a:lin ang="5400000"/>
          </a:gradFill>
          <a:ln w="0">
            <a:noFill/>
          </a:ln>
        </p:spPr>
        <p:txBody>
          <a:bodyPr anchor="ctr">
            <a:normAutofit fontScale="66000"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Click here to add your subtitle</a:t>
            </a:r>
            <a:endParaRPr b="0" lang="en-US" sz="14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1725-4BEF-4DFC-A46D-D46606E28EF8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677"/>
                </a:solidFill>
                <a:latin typeface="微软雅黑"/>
              </a:rPr>
              <a:t>Click here to add your title</a:t>
            </a:r>
            <a:endParaRPr b="1" lang="en-US" sz="2400" spc="-1" strike="noStrike">
              <a:solidFill>
                <a:srgbClr val="005677"/>
              </a:solidFill>
              <a:latin typeface="微软雅黑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26920" y="765000"/>
            <a:ext cx="8066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b3b3b"/>
                </a:solidFill>
                <a:latin typeface="Arial"/>
              </a:rPr>
              <a:t>Click to edit Master tex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5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22:51:00Z</dcterms:created>
  <dc:creator>chen.zhb;ivywang</dc:creator>
  <dc:description/>
  <cp:keywords/>
  <dc:language>en-US</dc:language>
  <cp:lastModifiedBy>a</cp:lastModifiedBy>
  <dcterms:modified xsi:type="dcterms:W3CDTF">2014-08-04T02:30:51Z</dcterms:modified>
  <cp:revision>1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IP等级">
    <vt:lpwstr>2</vt:lpwstr>
  </property>
  <property fmtid="{D5CDD505-2E9C-101B-9397-08002B2CF9AE}" pid="4" name="价格">
    <vt:lpwstr>2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EN PPT 格式 时尚 蓝 蓝色 潮流 炫光 华丽 梦幻 线 线条 抽象 动态 动感 清新 年轻 活力 青春 渐变 背景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蓝色梦幻圆点</vt:lpwstr>
  </property>
  <property fmtid="{D5CDD505-2E9C-101B-9397-08002B2CF9AE}" pid="12" name="模板ID">
    <vt:lpwstr>A30220130608A12</vt:lpwstr>
  </property>
  <property fmtid="{D5CDD505-2E9C-101B-9397-08002B2CF9AE}" pid="13" name="模板缩略图">
    <vt:lpwstr>A30220130608A12.png</vt:lpwstr>
  </property>
  <property fmtid="{D5CDD505-2E9C-101B-9397-08002B2CF9AE}" pid="14" name="相关案例">
    <vt:lpwstr>854</vt:lpwstr>
  </property>
  <property fmtid="{D5CDD505-2E9C-101B-9397-08002B2CF9AE}" pid="15" name="缩略图标题">
    <vt:lpwstr>蓝色梦幻圆点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608A1201</vt:lpwstr>
  </property>
  <property fmtid="{D5CDD505-2E9C-101B-9397-08002B2CF9AE}" pid="18" name="附件缩略图">
    <vt:lpwstr>A30220130608A1201.png</vt:lpwstr>
  </property>
  <property fmtid="{D5CDD505-2E9C-101B-9397-08002B2CF9AE}" pid="19" name="附件路径">
    <vt:lpwstr>A30220130608A1201.pptx</vt:lpwstr>
  </property>
</Properties>
</file>