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BC4-4AF1-4BD8-924D-2E1373DB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664-B59D-4B12-A18E-2F31FC05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434-ADFE-4D21-A836-7BA0853A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C98-DB84-4FBA-B4A2-7E9AF259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EEBE-1A4B-4D8C-8C27-C3D06FA7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30E1-2B22-45E1-A5E0-A0D9CB2A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F378-6DA1-4C6B-995E-0A5B3B85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822C-CA2B-452C-8CA7-898A7E75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1D41-EC06-48C2-91BF-45BB6F97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7D55-D07D-40AF-ABA9-F8073B2F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8FA1-D175-42AB-9835-D82E9285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F5F-7B9C-47E1-8E5C-9DB8F476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F136-AD01-47F0-B373-C985CD7D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318E-3787-4495-8F74-C576E594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21EC-620F-4F92-87CD-2ABFCD13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F521-5151-4BD1-BAA8-825CA3A4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3DFA-E92D-42D1-B5CF-2AD352F5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A4ADD-49CE-4FEA-B6E0-132EBE62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3B387-854C-4FC5-974C-E8243BBC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C44A1-2F83-4008-B024-255503C8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9F884-7CE0-4D5B-BB25-5C7BB431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40846-F238-4354-B7A3-C830582B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BD5-9526-47B0-8BD1-0A921D04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26C39-BADA-4526-BD52-E7D46FFF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F4F3D-F98A-4E9D-9FAF-5E637D84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6217-14CF-443D-BCDD-46886578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0CE9D-A218-4FFB-90B6-0DC9B67A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971F5-706A-4AFA-AAD5-1A761AE9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8ED4D-793E-4882-97BA-BB1AB1E7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F397A-2276-4298-85FD-0D98B7CD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007-8714-4A86-BF6C-E7A1D720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745-9400-4775-990E-6FC78290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AEB-A71B-46D5-9343-472AAEDB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ACE-62A4-4F45-9B6D-4487258B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2B95-B6AC-404E-85E2-F521CD67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45F-3491-4ED6-9761-F14F635A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5F45-0A49-48BA-9B03-73015A714BF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B49E-EC07-4402-92AA-A9F0ED3FCC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E2EB-83B1-4654-B1B2-6D4058BE04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0E59-73BF-4E57-AE37-A8EB385C74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5"/>
          <p:cNvSpPr/>
          <p:nvPr/>
        </p:nvSpPr>
        <p:spPr>
          <a:xfrm>
            <a:off x="713880" y="762120"/>
            <a:ext cx="21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Segoe UI Semilight"/>
                <a:ea typeface="宋体"/>
              </a:rPr>
              <a:t>Content 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"/>
          <p:cNvSpPr/>
          <p:nvPr/>
        </p:nvSpPr>
        <p:spPr>
          <a:xfrm>
            <a:off x="1889640" y="2668680"/>
            <a:ext cx="293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what is </a:t>
            </a:r>
            <a:r>
              <a:rPr b="0" lang="en-US" sz="2000" spc="-1" strike="noStrike">
                <a:solidFill>
                  <a:srgbClr val="595959"/>
                </a:solidFill>
                <a:latin typeface="Segoe UI Light"/>
                <a:ea typeface="微软雅黑"/>
              </a:rPr>
              <a:t>Free Work   </a:t>
            </a:r>
            <a:r>
              <a:rPr b="0" lang="zh-CN" sz="1400" spc="-1" strike="noStrike">
                <a:solidFill>
                  <a:srgbClr val="bfbfbf"/>
                </a:solidFill>
                <a:latin typeface="Arial"/>
                <a:ea typeface="微软雅黑"/>
              </a:rPr>
              <a:t>什么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0" descr="cubic"/>
          <p:cNvPicPr/>
          <p:nvPr/>
        </p:nvPicPr>
        <p:blipFill>
          <a:blip r:embed="rId1"/>
          <a:stretch/>
        </p:blipFill>
        <p:spPr>
          <a:xfrm>
            <a:off x="1297080" y="2649600"/>
            <a:ext cx="312480" cy="3128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1" descr="cubic"/>
          <p:cNvPicPr/>
          <p:nvPr/>
        </p:nvPicPr>
        <p:blipFill>
          <a:blip r:embed="rId2"/>
          <a:stretch/>
        </p:blipFill>
        <p:spPr>
          <a:xfrm>
            <a:off x="1297080" y="3335400"/>
            <a:ext cx="312480" cy="3128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2" descr="cubic"/>
          <p:cNvPicPr/>
          <p:nvPr/>
        </p:nvPicPr>
        <p:blipFill>
          <a:blip r:embed="rId3"/>
          <a:stretch/>
        </p:blipFill>
        <p:spPr>
          <a:xfrm>
            <a:off x="1297080" y="4037040"/>
            <a:ext cx="312480" cy="31284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6"/>
          <p:cNvSpPr/>
          <p:nvPr/>
        </p:nvSpPr>
        <p:spPr>
          <a:xfrm>
            <a:off x="2010960" y="3357720"/>
            <a:ext cx="289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why is </a:t>
            </a:r>
            <a:r>
              <a:rPr b="0" lang="en-US" sz="2000" spc="-1" strike="noStrike">
                <a:solidFill>
                  <a:srgbClr val="595959"/>
                </a:solidFill>
                <a:latin typeface="Segoe UI Light"/>
                <a:ea typeface="微软雅黑"/>
              </a:rPr>
              <a:t>Free Work   </a:t>
            </a:r>
            <a:r>
              <a:rPr b="0" lang="zh-CN" sz="1400" spc="-1" strike="noStrike">
                <a:solidFill>
                  <a:srgbClr val="bfbfbf"/>
                </a:solidFill>
                <a:latin typeface="Arial"/>
                <a:ea typeface="微软雅黑"/>
              </a:rPr>
              <a:t>为什么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6"/>
          <p:cNvSpPr/>
          <p:nvPr/>
        </p:nvSpPr>
        <p:spPr>
          <a:xfrm>
            <a:off x="2012760" y="403704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how to be </a:t>
            </a:r>
            <a:r>
              <a:rPr b="0" lang="en-US" sz="2000" spc="-1" strike="noStrike">
                <a:solidFill>
                  <a:srgbClr val="595959"/>
                </a:solidFill>
                <a:latin typeface="Segoe UI Light"/>
                <a:ea typeface="微软雅黑"/>
              </a:rPr>
              <a:t>Free Work   </a:t>
            </a:r>
            <a:r>
              <a:rPr b="0" lang="zh-CN" sz="1400" spc="-1" strike="noStrike">
                <a:solidFill>
                  <a:srgbClr val="bfbfbf"/>
                </a:solidFill>
                <a:latin typeface="Arial"/>
                <a:ea typeface="微软雅黑"/>
              </a:rPr>
              <a:t>如何实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2"/>
          <p:cNvSpPr/>
          <p:nvPr/>
        </p:nvSpPr>
        <p:spPr>
          <a:xfrm>
            <a:off x="2284560" y="3143160"/>
            <a:ext cx="46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Segoe UI Light"/>
                <a:ea typeface="宋体"/>
              </a:rPr>
              <a:t>how to be </a:t>
            </a:r>
            <a:r>
              <a:rPr b="0" lang="en-US" sz="3600" spc="-1" strike="noStrike">
                <a:solidFill>
                  <a:srgbClr val="7f7f7f"/>
                </a:solidFill>
                <a:latin typeface="Segoe UI Light"/>
                <a:ea typeface="宋体"/>
              </a:rPr>
              <a:t>Fre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  <a:ea typeface="微软雅黑"/>
              </a:rPr>
              <a:t>如何实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"/>
          <p:cNvPicPr/>
          <p:nvPr/>
        </p:nvPicPr>
        <p:blipFill>
          <a:blip r:embed="rId1"/>
          <a:stretch/>
        </p:blipFill>
        <p:spPr>
          <a:xfrm>
            <a:off x="-7920" y="1440"/>
            <a:ext cx="9142560" cy="4921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6"/>
          <p:cNvSpPr/>
          <p:nvPr/>
        </p:nvSpPr>
        <p:spPr>
          <a:xfrm>
            <a:off x="423720" y="866880"/>
            <a:ext cx="442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how to be </a:t>
            </a:r>
            <a:r>
              <a:rPr b="0" lang="en-US" sz="2800" spc="-1" strike="noStrike">
                <a:solidFill>
                  <a:srgbClr val="595959"/>
                </a:solidFill>
                <a:latin typeface="Segoe UI Light"/>
                <a:ea typeface="微软雅黑"/>
              </a:rPr>
              <a:t>Free Work   </a:t>
            </a:r>
            <a:r>
              <a:rPr b="0" lang="zh-CN" sz="1400" spc="-1" strike="noStrike">
                <a:solidFill>
                  <a:srgbClr val="bfbfbf"/>
                </a:solidFill>
                <a:latin typeface="Arial"/>
                <a:ea typeface="微软雅黑"/>
              </a:rPr>
              <a:t>如何实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8"/>
          <p:cNvSpPr/>
          <p:nvPr/>
        </p:nvSpPr>
        <p:spPr>
          <a:xfrm>
            <a:off x="1042920" y="3933720"/>
            <a:ext cx="7201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4c2d1"/>
                </a:solidFill>
                <a:latin typeface="微软雅黑"/>
                <a:ea typeface="微软雅黑"/>
              </a:rPr>
              <a:t>尝试创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想些能帮助公司进步的方案，这样不仅发挥了你的创造力</a:t>
            </a:r>
            <a:r>
              <a:rPr b="0" lang="en-US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还能让老板对你刮目相看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4c2d1"/>
                </a:solidFill>
                <a:latin typeface="微软雅黑"/>
                <a:ea typeface="微软雅黑"/>
              </a:rPr>
              <a:t>欣赏自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如果完成的工作让自己很开心很满意，那就应该学着欣赏自己的能力和工作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4c2d1"/>
                </a:solidFill>
                <a:latin typeface="微软雅黑"/>
                <a:ea typeface="微软雅黑"/>
              </a:rPr>
              <a:t>团队合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在工作中应该想着和他们联合起来。当你遇上困难了，同事是可以帮你的人。平时可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6a6a6"/>
                </a:solidFill>
                <a:latin typeface="微软雅黑"/>
                <a:ea typeface="微软雅黑"/>
              </a:rPr>
              <a:t>多交流。这样能激发出更多的灵感和创意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1574r-32290"/>
          <p:cNvPicPr/>
          <p:nvPr/>
        </p:nvPicPr>
        <p:blipFill>
          <a:blip r:embed="rId2"/>
          <a:stretch/>
        </p:blipFill>
        <p:spPr>
          <a:xfrm>
            <a:off x="1042920" y="1668600"/>
            <a:ext cx="6985080" cy="2120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3"/>
          <p:cNvSpPr/>
          <p:nvPr/>
        </p:nvSpPr>
        <p:spPr>
          <a:xfrm>
            <a:off x="4284720" y="31431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Segoe UI Light"/>
                <a:ea typeface="宋体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</cp:lastModifiedBy>
  <dcterms:modified xsi:type="dcterms:W3CDTF">2014-07-24T07:45:11Z</dcterms:modified>
  <cp:revision>34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