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E4E-F42F-49A2-B046-9219908D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877-EC7B-4B09-98EF-A4C2220F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621-BA28-4E8F-8D11-031E2E6A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903-E9F5-4160-8CE1-27D9FA5C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A47A-82C2-48FA-909D-EB258697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A75A-554D-4C43-A5E5-489C5899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0E70-B7A7-44DC-829F-57AED8F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4964-0631-47E7-A552-214E4454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8F4-3C60-49B2-831A-41696B36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957E-F3EC-4355-A8EF-939F437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9BD7-14C5-47D1-AA5D-5EF81BE0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035-197B-4CFD-B792-B9A0D3F4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CB8C-3C6F-4711-94D6-3F2197B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8A3C-8EE3-4E9B-9BE5-1C0FB31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E050-878E-4931-9F98-D3A2782A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260-F41D-485A-A2C0-77773C41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BD55-065D-42D7-9CA5-5C5038D1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EA1-DF6E-4C0B-B9C9-051C769A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1DC-8256-4242-97BC-098E7FD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445-BB64-47D9-865E-FFEE5F7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EF8-D47D-41DC-B5DD-F328BB5E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8D0-04DA-44DB-8BAB-77A4972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404-C6B9-463A-88DA-2BA5248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736-78E2-41A0-9903-DFB12EA9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3CDE-EBD2-4F92-90CC-A1F5B26E0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9D2B-81E8-4FB3-B1DB-D8E949D10A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912-9B8A-4B03-AA34-EA6B93183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rporate athlete封面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orporate athlete目录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orporate athlete过渡页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orporate athlete内容页1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orporate athlete内容页2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orporate athlete结束页1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5T06:08:43Z</dcterms:modified>
  <cp:revision>1</cp:revision>
  <dc:subject/>
  <dc:title>PowerPoint 演示文稿</dc:title>
</cp:coreProperties>
</file>