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AF970-51BC-4D65-AA2D-46D44D1E5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D9FF1-564D-4AFB-A924-87427A207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4D701E-E5A8-46F1-A0D3-507E879739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335273-4A22-4D10-BA5A-83A7523957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B9CDF5-CF31-4290-AFB5-BCB337CBBC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C58A7F-9053-4928-BA0E-36C3452FAF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AB54CE-4DD7-4376-8880-0BB6647F00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AB03E-A902-4243-B2E5-6DFC85B31F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CF33E1-F9BA-4809-B686-6C6ED1E6C1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318479-99D5-47D8-B743-D1E531D218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984367-BB69-40E5-AEE4-BA54F06C4F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D63B35-C325-4575-9B6D-7FDFBDE63B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C9EE6-249F-4052-B05D-1B462B912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3A6BBF-045B-4378-9B90-6CDA2693E2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A355F0-73B0-42E1-9B2F-29A2A7B7DA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51680F-5244-4457-833B-AB74EF8E8E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9F1558-73E4-4DB0-A274-21298DE006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F9A722-D227-407F-9E40-B4621A8132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F389F3-A982-42C4-8B9E-9566823A28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314EEA-827C-405D-8B4C-B2DA171B4C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32616C-15A4-4032-B4E6-8B587E67E5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4DABDA-C406-4F9A-9F27-ACBE5626BF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2C920B-B0D1-4C83-BDD4-7EBF97BC21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337B6-3DC1-41A7-96A6-94BADCB30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1043750-B509-4DF9-9A63-564D3EFFFA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DA3F25-2502-4755-A8E2-3D7D3C02F2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0A1B27-5508-4AF9-A34C-2E1DC517B4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A70DF4-AE4B-4FDA-8FEA-FC22C9BAB3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F26034-123A-4847-A498-CA077ABB5A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6EB89D-1028-4FED-9B86-3823A24ECA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162274-E463-44ED-8E74-20C3AA4B1E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08D90C-80F1-442F-95D6-B68BDF8771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F7135C-9439-4DDD-A95D-6555A18BE5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85192E-149A-4F61-AC96-A8BE77C163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32B39-1A29-4E62-AB8B-8BC052553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623F84-52CC-4DF8-9958-8ECBFC2DCD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E73A10-C556-4ADB-B949-FE419F38AD2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3F2B7F-3CA9-48F8-8612-CBB4DBF387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A43BBE-9DC7-4491-9214-33D075F11E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1E5207-981A-477E-B82F-D471A64B7C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3D678F-754C-4FCA-8A27-A8EB787B23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33D3DA-725B-4E26-A164-48B4E5A460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B865C9-4A74-4C7B-A2D8-5019FC2658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CBB923-781A-4E76-9C9C-28523ED07D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3255D7-4A10-43EA-B949-9345105E2B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3074B-DDA2-4CDA-8C43-15EC3623C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58D0A1-FFB3-4C6E-AA4C-55B138F0C6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9BD6E6-48F2-43AE-B6A1-85E92C0321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C0C264-2774-489C-A108-16F6EB291B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B1B72FF-5112-4887-AAFC-81FA44F1EF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088F9FB-990F-407D-8A9D-B9F0796161E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8368F71-67D4-4460-8F7D-0466D940D45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1E0245-F16E-47E7-96F4-85DDF18B95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61E7E8-3D83-47BE-A3AE-A69BB92E65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AA9345-55F2-4885-AFF1-2BE3262E9B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3613EF-D637-4064-A09C-1FC63677C3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493E7-C78A-43CF-AE74-C26A03D4D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792655-AB41-43FC-9922-CC666C2C94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777394-3148-48B8-8516-E4E2CFFA70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757FD9-556C-44A1-AD7A-F6023E489B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947C6C-64B6-4A0E-8D84-010C31F970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8BA238B-FDF6-48A1-81E5-9E9AE354D7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BDF40A6-ABE1-4C4F-9E32-C4D23B65721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3398787-F37D-4F96-8ED0-731B80253E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3B886-CEF3-4078-99F3-B96DFBB0F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BBA7C-5172-40F7-9C0B-FA13115C7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2BB94-32CA-4AEC-A628-3BFF98B8C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18697-9C74-4567-BC41-04DE8C6F8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B584A-5E5A-4909-90B9-F0D4A382E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3CF72-CE26-4B1E-B4A8-2C44D6C99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5ADF9-569F-4078-9EC8-784CE14CD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DDF34-860F-4867-AFB2-DF75070FF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53541-BE13-4123-91A6-061F10F84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1CD50-083B-420D-AD6D-6C34B534F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C93F8B-8C53-4B77-8C6A-645477544C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99D9F-6A5F-4E57-8E41-6879D1625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5A823C-647F-4B06-A903-28B869451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EE686-6089-45D2-AA93-203ED52245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714E0C-9D34-4517-BCB0-B8D8C7785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6B6A3-059E-4ADD-AFF0-284516D7E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306B9-6802-4F68-9E97-5CF06213B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EA16D-AE51-4F91-BE46-4B9720DC4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18B27-693E-40F8-88DD-B615252C1A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CEF18-90EA-4027-BCA3-BE3F819B8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75883-D394-4229-967A-7F90BE030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E9C8D1-9ABF-443B-9CD2-DCE9314EC2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039578-C60A-46E6-B75C-2B728D4274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6CC9C5-0D10-4E27-861D-55CD61184C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4D696-87E5-467D-BFDD-5F46449335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3A8EE5-A6FC-45AE-9F68-54256346A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73279-7979-4A98-9F30-73CD9B75D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F44BC-3C02-446D-AEE0-3E4B619098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7B0EF5-BB15-412B-8D21-D457CBF28A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1DFD3-A421-4DD0-9472-668F2C620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7B3D7-8B8A-482D-B957-568B4000A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689D1-DE71-4697-9C94-E77BAE149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9657A-F713-432C-9A83-B3C367D9B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E2DFAF-FE01-4CCA-B8CA-8C5962E19D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0F6F26-AD14-419A-A95A-8A2D8AD0F5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2FE4C6-F617-4873-92B9-B1849F599A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892E7E-CF09-4800-B966-D46B24ED79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B63F6-9A12-48E5-AFEC-E0A5A5645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B4D4C6-B6AE-4558-83DD-ECFA4BE20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39B9E1-BACC-4BE7-85EF-9085679BBD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5A006B-B44D-4EFD-ACBE-704744EA0E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183C0E-0B37-4064-A0BA-7ACC8BEBB0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2839A6-301E-40F2-B0E0-0818C80C3B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4AE45-977E-43AE-9859-8C97A62D6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79A1A-A5D3-46EB-8EF0-4FFC1E5A9F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1BF1A7-D94B-44A6-9E16-3D4605E1F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1983F-20B5-4E40-AC35-CC84745E61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B49B28-3A74-49F9-80E4-16ED768105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4AA32-2048-4AC2-93E1-96A0B32B5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D52B49-632E-42AC-BA9E-57FE07DBEA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08A9A0-CCD2-4BCC-9CCF-A799B58A0F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F7DBA1-045E-4A11-B9A4-C29F4DDA23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9B5819-7E6A-4273-921D-7F6FA67206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1BEF82-587B-4FAD-B524-7068C0B9C9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1F90F0-5D94-4657-8F83-A13A29015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AA7D62-94BF-4076-A444-968EB0C0E2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61E04-1725-4EE4-B417-0118DA520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22689-F59B-43AC-83F1-8AC3BB6F54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E539E-7EEE-4BBF-8599-7E31D446A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64C23-2FF6-4EA2-BD48-8AC746357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45B2C3-F555-45CE-A6DF-50E49549DB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11BDE1-586F-4737-B6D0-0A09212632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29D0F0-62D8-40B7-A585-4C71AE0C71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BE7C25-F8E8-440C-AB9F-45F26C791F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EAAE52-2411-4DC9-8B92-823D5FE2BD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B63B82-5034-4A4F-BA2D-FC93CF4647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ABB3CA-D296-4A59-BA35-862FEAD56C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26B8B2-5C33-49E0-A28B-F020FAD3D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CA6824-C989-46F8-B542-3D587FAE7E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18174C-51D3-4905-8A8A-69519E42C8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11C07-6331-485F-B34E-7B292A4B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D0FEEB-8314-4C31-A7DC-E9CDD08384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DE2413-C579-44B2-B1F5-4E556FA36A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4D058D-CC9A-4C02-AB9D-70415CA327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AC774E-0135-4B79-B4F5-B54162F4C0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706877-B8A9-41A2-87F2-DDE33ABB45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14AEE0-DCA6-4B11-B785-B1027291B7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333683-A57D-4A06-B2B4-29445B3456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AF1B63-8094-4FB0-AFE7-727FB13D54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C65605-7A8B-429F-86B5-A8EA49F223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9E84A0-19A1-4AEB-9DE1-6C35EF4AFB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42E9D-F3B7-4462-8959-E0D186669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6A5BDA-D733-4F6C-AD78-493AA3F01B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0E31FE-19D6-4DAB-9695-9F50D81EB5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F49F6F-11DC-4989-AFA6-5B1B2EAE1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B90BD-A585-46EE-A38F-89E7D3243F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BD06D3-CD2E-4336-AB9B-9B2F0B847A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9D3814-145A-4663-A5AF-9B7FB6261A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D374EE-75B0-4667-AC9D-14E3FE3F42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587671-6DB6-4A88-819F-6E6608573E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6AEF1B-7A91-4855-9A3A-32584F182F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AB1140-118A-4F95-81F4-D98456205F3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9426-CE90-46CF-90C2-3A2FCE3920A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C438-3DA5-487C-A6D0-CDF1BFEB3B3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22F8-E6C8-40DB-9617-DDDDB516155C}"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372" name="PlaceHolder 4"/>
          <p:cNvSpPr>
            <a:spLocks noGrp="1"/>
          </p:cNvSpPr>
          <p:nvPr>
            <p:ph type="ftr" idx="2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6659-7D72-407F-B046-90FB0355418B}"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E747-E2DC-486D-91EB-2ED32C0AC780}"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413" name="PlaceHolder 4"/>
          <p:cNvSpPr>
            <a:spLocks noGrp="1"/>
          </p:cNvSpPr>
          <p:nvPr>
            <p:ph type="ftr" idx="3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B4CB-D837-4B12-BFDB-3B463BED2A1D}"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A85E-5271-40E9-B050-844BDA1CA283}"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454" name="PlaceHolder 4"/>
          <p:cNvSpPr>
            <a:spLocks noGrp="1"/>
          </p:cNvSpPr>
          <p:nvPr>
            <p:ph type="ftr" idx="3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BDC3-4551-4618-9448-FA59BD71CDEC}"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E1F8-B61C-4493-BD7A-027D07A6E4F9}"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495" name="PlaceHolder 4"/>
          <p:cNvSpPr>
            <a:spLocks noGrp="1"/>
          </p:cNvSpPr>
          <p:nvPr>
            <p:ph type="ftr" idx="3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8191-7633-4516-A5FE-7B56161A5DC3}"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09120" y="6244920"/>
            <a:ext cx="2845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B0F6-B749-42DD-843E-D0E1C5185305}" type="datetime">
              <a:rPr b="0" lang="zh-CN" sz="1400" spc="-1" strike="noStrike">
                <a:solidFill>
                  <a:srgbClr val="000000"/>
                </a:solidFill>
                <a:latin typeface="Arial"/>
              </a:rPr>
              <a:t>26/7/31</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244920"/>
            <a:ext cx="2844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54D7-8F07-4780-B995-D0CFEABE0D2F}" type="slidenum">
              <a:rPr b="0" lang="zh-CN"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67B1-3256-4A72-AE15-3DEDFC971504}"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85"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588F-40A4-4112-A37E-08D5A6DAB94E}"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4CBA-B63C-45D3-A485-9D17223BBFA7}"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126" name="PlaceHolder 4"/>
          <p:cNvSpPr>
            <a:spLocks noGrp="1"/>
          </p:cNvSpPr>
          <p:nvPr>
            <p:ph type="ftr" idx="1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5DCA-D69F-42F1-B75F-5E6A3405B328}"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92F3-6EF7-422C-80CE-6B6A7A7F499E}"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167" name="PlaceHolder 4"/>
          <p:cNvSpPr>
            <a:spLocks noGrp="1"/>
          </p:cNvSpPr>
          <p:nvPr>
            <p:ph type="ftr" idx="1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5485-13B9-41E0-B417-0B574F0AD675}"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E726-6F0D-4E9D-A8DF-D4E642A917BF}"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208" name="PlaceHolder 4"/>
          <p:cNvSpPr>
            <a:spLocks noGrp="1"/>
          </p:cNvSpPr>
          <p:nvPr>
            <p:ph type="ftr" idx="1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D0EC-31EB-4FBD-BB48-3156EEA90F2A}"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4E1F-4F6D-47E9-BB30-240F435C9423}"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249" name="PlaceHolder 4"/>
          <p:cNvSpPr>
            <a:spLocks noGrp="1"/>
          </p:cNvSpPr>
          <p:nvPr>
            <p:ph type="ftr" idx="2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3BCC-3959-42E6-9079-4C9FC776EB3F}"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724F-C41A-4906-B2C5-5C2AAA818371}"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290" name="PlaceHolder 4"/>
          <p:cNvSpPr>
            <a:spLocks noGrp="1"/>
          </p:cNvSpPr>
          <p:nvPr>
            <p:ph type="ftr" idx="2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D421-B639-487D-A5E4-FC3A5616C924}"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72EA-52A2-4FC2-967F-EA4806D5B7AE}"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331" name="PlaceHolder 4"/>
          <p:cNvSpPr>
            <a:spLocks noGrp="1"/>
          </p:cNvSpPr>
          <p:nvPr>
            <p:ph type="ftr" idx="2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16E0-C5E9-4CDC-8B2C-743BDDE14DAE}"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7.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1" descr="封面.jpg"/>
          <p:cNvPicPr/>
          <p:nvPr/>
        </p:nvPicPr>
        <p:blipFill>
          <a:blip r:embed="rId1"/>
          <a:stretch/>
        </p:blipFill>
        <p:spPr>
          <a:xfrm>
            <a:off x="0" y="0"/>
            <a:ext cx="12185640" cy="6858000"/>
          </a:xfrm>
          <a:prstGeom prst="rect">
            <a:avLst/>
          </a:prstGeom>
          <a:ln w="0">
            <a:noFill/>
          </a:ln>
        </p:spPr>
      </p:pic>
      <p:sp>
        <p:nvSpPr>
          <p:cNvPr id="534" name="TextBox 2"/>
          <p:cNvSpPr/>
          <p:nvPr/>
        </p:nvSpPr>
        <p:spPr>
          <a:xfrm rot="965400">
            <a:off x="257400" y="4584240"/>
            <a:ext cx="6629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ero Light"/>
              </a:rPr>
              <a:t>T</a:t>
            </a:r>
            <a:r>
              <a:rPr b="0" lang="en-US" sz="5400" spc="-1" strike="noStrike">
                <a:solidFill>
                  <a:srgbClr val="000000"/>
                </a:solidFill>
                <a:latin typeface="Hero Light"/>
              </a:rPr>
              <a:t>he </a:t>
            </a:r>
            <a:r>
              <a:rPr b="0" lang="zh-CN" sz="5400" spc="-1" strike="noStrike">
                <a:solidFill>
                  <a:srgbClr val="000000"/>
                </a:solidFill>
                <a:latin typeface="Hero Light"/>
              </a:rPr>
              <a:t>Line wave</a:t>
            </a:r>
            <a:endParaRPr b="0" lang="en-US" sz="5400" spc="-1" strike="noStrike">
              <a:solidFill>
                <a:srgbClr val="000000"/>
              </a:solidFill>
              <a:latin typeface="Calibri"/>
            </a:endParaRPr>
          </a:p>
        </p:txBody>
      </p:sp>
      <p:sp>
        <p:nvSpPr>
          <p:cNvPr id="535" name="TextBox 3"/>
          <p:cNvSpPr/>
          <p:nvPr/>
        </p:nvSpPr>
        <p:spPr>
          <a:xfrm rot="20632200">
            <a:off x="6215400" y="4475160"/>
            <a:ext cx="6229440" cy="100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ro Light"/>
              </a:rPr>
              <a:t>Simple, powerful, fre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ro Light"/>
              </a:rPr>
              <a:t>We use a fashionable color apply, line jumps, Angle, the application of modern office to reflect the learning interest and interesting.</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15840" y="52560"/>
            <a:ext cx="31449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777777"/>
                </a:solidFill>
                <a:uFillTx/>
                <a:latin typeface="Calibri"/>
                <a:ea typeface="微软雅黑"/>
              </a:rPr>
              <a:t>目录页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77777"/>
                </a:solidFill>
                <a:uFillTx/>
                <a:latin typeface="Calibri"/>
                <a:ea typeface="微软雅黑"/>
              </a:rPr>
              <a:t>（设计好之后可以删掉这个文本框哦）</a:t>
            </a:r>
            <a:endParaRPr b="0" lang="en-US" sz="1200" spc="-1" strike="noStrike">
              <a:solidFill>
                <a:srgbClr val="000000"/>
              </a:solidFill>
              <a:latin typeface="Calibri"/>
            </a:endParaRPr>
          </a:p>
        </p:txBody>
      </p:sp>
      <p:pic>
        <p:nvPicPr>
          <p:cNvPr id="537" name="Picture 1" descr="目录.jpg"/>
          <p:cNvPicPr/>
          <p:nvPr/>
        </p:nvPicPr>
        <p:blipFill>
          <a:blip r:embed="rId1"/>
          <a:stretch/>
        </p:blipFill>
        <p:spPr>
          <a:xfrm>
            <a:off x="0" y="0"/>
            <a:ext cx="12185640" cy="6858000"/>
          </a:xfrm>
          <a:prstGeom prst="rect">
            <a:avLst/>
          </a:prstGeom>
          <a:ln w="0">
            <a:noFill/>
          </a:ln>
        </p:spPr>
      </p:pic>
      <p:sp>
        <p:nvSpPr>
          <p:cNvPr id="538" name="TextBox 2"/>
          <p:cNvSpPr/>
          <p:nvPr/>
        </p:nvSpPr>
        <p:spPr>
          <a:xfrm rot="20226000">
            <a:off x="7700040" y="303120"/>
            <a:ext cx="38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ero Light"/>
              </a:rPr>
              <a:t>Catalogue </a:t>
            </a:r>
            <a:endParaRPr b="0" lang="en-US" sz="3600" spc="-1" strike="noStrike">
              <a:solidFill>
                <a:srgbClr val="000000"/>
              </a:solidFill>
              <a:latin typeface="Calibri"/>
            </a:endParaRPr>
          </a:p>
        </p:txBody>
      </p:sp>
      <p:sp>
        <p:nvSpPr>
          <p:cNvPr id="539" name="TextBox 2"/>
          <p:cNvSpPr/>
          <p:nvPr/>
        </p:nvSpPr>
        <p:spPr>
          <a:xfrm>
            <a:off x="874800" y="1817640"/>
            <a:ext cx="5860800" cy="393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ro Light"/>
              </a:rPr>
              <a:t>The  Globality</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ro Light"/>
              </a:rPr>
              <a:t>PPT in overall use this element make PPT looks more unified, and organized.</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ro Light"/>
              </a:rPr>
              <a:t>The  Fluency</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ro Light"/>
              </a:rPr>
              <a:t>PPT use and fluent line as modeling element, on the vision more beautiful, brigh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ro Light"/>
              </a:rPr>
              <a:t>The  Fashion</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ro Light"/>
              </a:rPr>
              <a:t>Use fashionable element, make the office use PPT no longer stand on old form, more fashionable and artistic.</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ro Light"/>
              </a:rPr>
              <a:t>The  Simple</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ro Light"/>
              </a:rPr>
              <a:t>Simple design language to most people can understand and use, there is a perfect PPT.</a:t>
            </a:r>
            <a:endParaRPr b="0" lang="en-US" sz="1200" spc="-1" strike="noStrike">
              <a:solidFill>
                <a:srgbClr val="000000"/>
              </a:solidFill>
              <a:latin typeface="Calibri"/>
            </a:endParaRPr>
          </a:p>
        </p:txBody>
      </p:sp>
      <p:pic>
        <p:nvPicPr>
          <p:cNvPr id="540" name="Picture 1" descr=""/>
          <p:cNvPicPr/>
          <p:nvPr/>
        </p:nvPicPr>
        <p:blipFill>
          <a:blip r:embed="rId2"/>
          <a:stretch/>
        </p:blipFill>
        <p:spPr>
          <a:xfrm>
            <a:off x="262080" y="1955880"/>
            <a:ext cx="285480" cy="60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15840" y="52560"/>
            <a:ext cx="31449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777777"/>
                </a:solidFill>
                <a:uFillTx/>
                <a:latin typeface="Calibri"/>
                <a:ea typeface="微软雅黑"/>
              </a:rPr>
              <a:t>过渡页</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77777"/>
                </a:solidFill>
                <a:uFillTx/>
                <a:latin typeface="Calibri"/>
                <a:ea typeface="微软雅黑"/>
              </a:rPr>
              <a:t>（设计好之后可以删掉这个文本框哦）</a:t>
            </a:r>
            <a:endParaRPr b="0" lang="en-US" sz="1200" spc="-1" strike="noStrike">
              <a:solidFill>
                <a:srgbClr val="000000"/>
              </a:solidFill>
              <a:latin typeface="Calibri"/>
            </a:endParaRPr>
          </a:p>
        </p:txBody>
      </p:sp>
      <p:pic>
        <p:nvPicPr>
          <p:cNvPr id="542" name="Picture 1" descr="过度.jpg"/>
          <p:cNvPicPr/>
          <p:nvPr/>
        </p:nvPicPr>
        <p:blipFill>
          <a:blip r:embed="rId1"/>
          <a:stretch/>
        </p:blipFill>
        <p:spPr>
          <a:xfrm>
            <a:off x="0" y="0"/>
            <a:ext cx="12185640" cy="6858000"/>
          </a:xfrm>
          <a:prstGeom prst="rect">
            <a:avLst/>
          </a:prstGeom>
          <a:ln w="0">
            <a:noFill/>
          </a:ln>
        </p:spPr>
      </p:pic>
      <p:sp>
        <p:nvSpPr>
          <p:cNvPr id="543" name="TextBox 1"/>
          <p:cNvSpPr/>
          <p:nvPr/>
        </p:nvSpPr>
        <p:spPr>
          <a:xfrm rot="1174200">
            <a:off x="1047960" y="2424240"/>
            <a:ext cx="4022640" cy="763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o Light"/>
              </a:rPr>
              <a:t>The Last Pag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ro Light"/>
              </a:rPr>
              <a:t>Previous page is the general situation of the directory</a:t>
            </a:r>
            <a:endParaRPr b="0" lang="en-US" sz="1200" spc="-1" strike="noStrike">
              <a:solidFill>
                <a:srgbClr val="000000"/>
              </a:solidFill>
              <a:latin typeface="Calibri"/>
            </a:endParaRPr>
          </a:p>
        </p:txBody>
      </p:sp>
      <p:sp>
        <p:nvSpPr>
          <p:cNvPr id="544" name="TextBox 2"/>
          <p:cNvSpPr/>
          <p:nvPr/>
        </p:nvSpPr>
        <p:spPr>
          <a:xfrm rot="20718000">
            <a:off x="8010720" y="3703680"/>
            <a:ext cx="2142000" cy="763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o Light"/>
              </a:rPr>
              <a:t>Next Pag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ero Light"/>
              </a:rPr>
              <a:t>Content situatio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2"/>
          <p:cNvSpPr/>
          <p:nvPr/>
        </p:nvSpPr>
        <p:spPr>
          <a:xfrm>
            <a:off x="15840" y="52560"/>
            <a:ext cx="31449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777777"/>
                </a:solidFill>
                <a:uFillTx/>
                <a:latin typeface="Calibri"/>
                <a:ea typeface="微软雅黑"/>
              </a:rPr>
              <a:t>内容页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77777"/>
                </a:solidFill>
                <a:uFillTx/>
                <a:latin typeface="Calibri"/>
                <a:ea typeface="微软雅黑"/>
              </a:rPr>
              <a:t>（设计好之后可以删掉这个文本框哦）</a:t>
            </a:r>
            <a:endParaRPr b="0" lang="en-US" sz="1200" spc="-1" strike="noStrike">
              <a:solidFill>
                <a:srgbClr val="000000"/>
              </a:solidFill>
              <a:latin typeface="Calibri"/>
            </a:endParaRPr>
          </a:p>
        </p:txBody>
      </p:sp>
      <p:pic>
        <p:nvPicPr>
          <p:cNvPr id="546" name="Picture 2" descr="内容.jpg"/>
          <p:cNvPicPr/>
          <p:nvPr/>
        </p:nvPicPr>
        <p:blipFill>
          <a:blip r:embed="rId1"/>
          <a:stretch/>
        </p:blipFill>
        <p:spPr>
          <a:xfrm>
            <a:off x="0" y="0"/>
            <a:ext cx="12185640" cy="6858000"/>
          </a:xfrm>
          <a:prstGeom prst="rect">
            <a:avLst/>
          </a:prstGeom>
          <a:ln w="0">
            <a:noFill/>
          </a:ln>
        </p:spPr>
      </p:pic>
      <p:sp>
        <p:nvSpPr>
          <p:cNvPr id="547" name="TextBox 5"/>
          <p:cNvSpPr/>
          <p:nvPr/>
        </p:nvSpPr>
        <p:spPr>
          <a:xfrm rot="20904600">
            <a:off x="6774840" y="3986280"/>
            <a:ext cx="315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ro Light"/>
              </a:rPr>
              <a:t>The Content</a:t>
            </a:r>
            <a:endParaRPr b="0" lang="en-US" sz="3600" spc="-1" strike="noStrike">
              <a:solidFill>
                <a:srgbClr val="000000"/>
              </a:solidFill>
              <a:latin typeface="Calibri"/>
            </a:endParaRPr>
          </a:p>
        </p:txBody>
      </p:sp>
      <p:sp>
        <p:nvSpPr>
          <p:cNvPr id="548" name="TextBox 6"/>
          <p:cNvSpPr/>
          <p:nvPr/>
        </p:nvSpPr>
        <p:spPr>
          <a:xfrm>
            <a:off x="220680" y="1036800"/>
            <a:ext cx="6478560" cy="31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ro Light"/>
              </a:rPr>
              <a:t>I</a:t>
            </a:r>
            <a:r>
              <a:rPr b="0" lang="en-US" sz="1800" spc="-1" strike="noStrike">
                <a:solidFill>
                  <a:srgbClr val="000000"/>
                </a:solidFill>
                <a:latin typeface="Hero Light"/>
              </a:rPr>
              <a:t>n </a:t>
            </a:r>
            <a:r>
              <a:rPr b="0" lang="en-US" sz="1400" spc="-1" strike="noStrike">
                <a:solidFill>
                  <a:srgbClr val="000000"/>
                </a:solidFill>
                <a:latin typeface="Hero Light"/>
              </a:rPr>
              <a:t>this PPT design, we consider now white-collar doing some display it need to use beautiful, have design sense PPT, this can let them show the effect is better. So we design the PPT, it is not only a beautiful, design feeling, also can show in the process of very seize person eyeball, let a person shine at the moment. Such already reached the users need to effect, easy to use and simple.</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ro Light"/>
              </a:rPr>
              <a:t>D</a:t>
            </a:r>
            <a:r>
              <a:rPr b="0" lang="en-US" sz="1400" spc="-1" strike="noStrike">
                <a:solidFill>
                  <a:srgbClr val="000000"/>
                </a:solidFill>
                <a:latin typeface="Hero Light"/>
              </a:rPr>
              <a:t>ue to the target population is white-collar, so we hope that in the design into some fashionable element. We hope that through this element to the whole PPT look lively.</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灯片编号占位符 4"/>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1A30-5C7C-44B7-852C-46ACB440DAE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0" name="Text Box 2"/>
          <p:cNvSpPr/>
          <p:nvPr/>
        </p:nvSpPr>
        <p:spPr>
          <a:xfrm>
            <a:off x="15840" y="52560"/>
            <a:ext cx="31449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777777"/>
                </a:solidFill>
                <a:uFillTx/>
                <a:latin typeface="Calibri"/>
                <a:ea typeface="微软雅黑"/>
              </a:rPr>
              <a:t>结束页</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77777"/>
                </a:solidFill>
                <a:uFillTx/>
                <a:latin typeface="Calibri"/>
                <a:ea typeface="微软雅黑"/>
              </a:rPr>
              <a:t>（设计好之后可以删掉这个文本框哦）</a:t>
            </a:r>
            <a:endParaRPr b="0" lang="en-US" sz="1200" spc="-1" strike="noStrike">
              <a:solidFill>
                <a:srgbClr val="000000"/>
              </a:solidFill>
              <a:latin typeface="Calibri"/>
            </a:endParaRPr>
          </a:p>
        </p:txBody>
      </p:sp>
      <p:pic>
        <p:nvPicPr>
          <p:cNvPr id="551" name="Picture 1" descr="结束.jpg"/>
          <p:cNvPicPr/>
          <p:nvPr/>
        </p:nvPicPr>
        <p:blipFill>
          <a:blip r:embed="rId1"/>
          <a:stretch/>
        </p:blipFill>
        <p:spPr>
          <a:xfrm>
            <a:off x="0" y="0"/>
            <a:ext cx="12185640" cy="6858000"/>
          </a:xfrm>
          <a:prstGeom prst="rect">
            <a:avLst/>
          </a:prstGeom>
          <a:ln w="0">
            <a:noFill/>
          </a:ln>
        </p:spPr>
      </p:pic>
      <p:sp>
        <p:nvSpPr>
          <p:cNvPr id="552" name="TextBox 2"/>
          <p:cNvSpPr/>
          <p:nvPr/>
        </p:nvSpPr>
        <p:spPr>
          <a:xfrm>
            <a:off x="5115960" y="4613400"/>
            <a:ext cx="194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ro Light"/>
              </a:rPr>
              <a:t>THANK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53" name="Group 2"/>
          <p:cNvGrpSpPr/>
          <p:nvPr/>
        </p:nvGrpSpPr>
        <p:grpSpPr>
          <a:xfrm>
            <a:off x="1523880" y="0"/>
            <a:ext cx="8466120" cy="6858000"/>
            <a:chOff x="1523880" y="0"/>
            <a:chExt cx="8466120" cy="6858000"/>
          </a:xfrm>
        </p:grpSpPr>
        <p:sp>
          <p:nvSpPr>
            <p:cNvPr id="554" name="矩形 4"/>
            <p:cNvSpPr/>
            <p:nvPr/>
          </p:nvSpPr>
          <p:spPr>
            <a:xfrm>
              <a:off x="214092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555" name="Picture 4" descr="http://www.elixirinteractive.com/LookFeel/elixirinteractive.com/images/headers/brand-awareness.jpg">
              <a:hlinkClick r:id="rId1"/>
            </p:cNvPr>
            <p:cNvPicPr/>
            <p:nvPr/>
          </p:nvPicPr>
          <p:blipFill>
            <a:blip r:embed="rId2"/>
            <a:stretch/>
          </p:blipFill>
          <p:spPr>
            <a:xfrm>
              <a:off x="1523880" y="1714320"/>
              <a:ext cx="8466120" cy="5143680"/>
            </a:xfrm>
            <a:prstGeom prst="rect">
              <a:avLst/>
            </a:prstGeom>
            <a:ln w="0">
              <a:noFill/>
            </a:ln>
          </p:spPr>
        </p:pic>
        <p:sp>
          <p:nvSpPr>
            <p:cNvPr id="556" name="TextBox 7"/>
            <p:cNvSpPr/>
            <p:nvPr/>
          </p:nvSpPr>
          <p:spPr>
            <a:xfrm rot="20926800">
              <a:off x="344484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4-08-08T04:34:05Z</dcterms:modified>
  <cp:revision>1</cp:revision>
  <dc:subject/>
  <dc:title>PowerPoint 演示文稿</dc:title>
</cp:coreProperties>
</file>