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240-2CE6-483A-9201-71D8B9DC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103-83EE-48AB-AF63-74EC538A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E3F44-B377-4F78-9C50-83F696F4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BE4AA-8DF1-4F46-8936-D489BA3E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33009-846D-42AD-8655-2B8D4947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09D52-909C-4265-9620-3381E83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8C04D-D347-41CB-A5F7-DAACA7F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4AD0F-D372-4641-9350-8040873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9BF38-0396-4EF4-B525-47D7F623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A6712-BC62-4769-888F-DAA39EFA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C3297-3494-4BAE-94F1-F91508EF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E112C-8C30-44B0-BF0B-D1A949C8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E6D-FF34-4C40-A4CD-4D76DB30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EB87F-94B7-409C-A3B8-9AC12BDD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804D1-EDC5-471F-83A0-7F631E36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4232E-6808-40E3-BD17-A0F6782C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BB599-84DC-4CAF-827E-A19268ED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7CA87-3A18-4F73-8DD8-42C40FB0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1892C-4321-42D9-86C0-518A4402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8EEC7-4D34-4F31-BEF3-BEA32011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0E516-9954-43E8-9B79-91814F2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FB4BC-7BCA-4DF4-975B-2187E305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3E5B3-F10D-437C-A4A5-E7D8EE68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765-C53B-4DED-9A32-4DD0D919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B9D3B-EDE8-43E5-8EF8-C1FAD94A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E6549-3504-4C22-86B8-B94AD668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9F00E-D718-4F23-A1B2-A9A42203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11FDB-40D3-4414-A192-786C99E1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D20BB-77F2-45EA-A25F-2C1C0A62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8D090-02FD-4175-AC62-EEF968F5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90F7E-80A5-4E1F-A1AE-7C4A7D2E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8FC73-FBE7-44F3-903E-6C4485EA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45C58-DA76-45B8-B761-CFD75B7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F07F6-7099-4CD7-97CF-7AA74C8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6112-6E6A-4FF1-8F5C-E93139E1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A6D19-9FB3-431B-99AE-FB79A02C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71BB3-DA27-489A-A050-AC1C269F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939C-105C-4891-BBCF-C7D02A29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79017-F2F5-4C4C-A0C6-3072CD9E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727EF-30E1-4B77-B151-003AB246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059F6-2448-4ECA-A2C1-DCD24363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724D5-2E02-499C-801E-9F7E85EF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AA229-3464-4E53-8447-848A1663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E1229-0BB3-44DE-89D3-FCB81E2F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4CF86-0F24-44DE-A96D-B3E8AD2F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C5EB-0FCF-447C-AC6C-A9431C13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17530-C803-424D-9AFE-658AFF1B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029F3-9C05-490E-998B-D775EFA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26D91-AF46-4631-AA5B-0B0EEDDA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05524-D96E-463A-8460-8E6E1F99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29187-0F7D-4D43-A1FB-4C431576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8F2B2-1871-4C84-89A4-BE77195B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FA84B-1C2E-4465-86C1-21DB60DC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21F6A-58DE-4004-972F-6FD2AE2C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CAB7C-3BDC-4A0F-9632-223A990F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D53CC-E8A0-416B-B180-A1C91A32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BAD9-805C-4730-907D-1A48B23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24095-384C-4DA2-8CC8-6FA9116A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BFB96-81EB-4B1A-A518-4B36F1F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8F486-1C5F-4563-9D74-1CD9530B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586C2-D6A3-4CF6-ABA7-A0EE749C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D9623-7299-41DD-AAF6-C0B9D8E9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C7A76-DA72-4E16-8C4D-B03C91D5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5DC22-377C-4428-94DE-763331BF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9649-A0D9-4325-A742-086D438C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801B-200F-46B4-86CC-AB12FBED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C37-7CFC-4C3D-9EE0-58F3EE44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2776-00C7-43CF-82AC-364BA781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D2D-5966-4258-A158-D6F7BCFC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46F2-D84C-4324-9864-35A308DE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FBF9-E286-47DE-BEEA-B263408B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320C-DBC0-456D-8F3E-5FC894D4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DBC4-D1EE-4750-B14A-A90AAA6B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3708-E947-482A-9B1F-BBAC8F2B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05E7-FEE8-482A-85C6-E5F7D779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705C-69A7-4E4F-9825-695DA801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7409-5AB8-40C7-87F1-F09ADCBA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95BD-ADBA-4BE6-B2ED-2C87B47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E053-326F-4285-AB34-0F6EEFB0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995-7A79-4F54-A4E9-19269F5C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6B3A-ADA0-4EF3-9603-26E12D05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5A0D-AC3B-4B1A-99D4-7842ECE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EB6F-228D-4612-A461-1A2DB9C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6001-7229-46AB-A8DD-EBC2AA2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F240-ACE7-4FFE-A284-139976B5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3231-132B-4FD2-8C6F-EBD93A42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5AB1-8A4B-40A0-80EC-71FDE5D7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2132-28D9-4CA0-AADE-AD82C296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DCE3-CEB0-4F3A-92A2-E40ACC06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8733-F04E-4F99-AA3D-648B9788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529-9F82-43C9-BDD9-A3E184EA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B4EE-05DB-4FF8-A0A8-8DC885F0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3449-1C2B-4975-9E15-11AFE8AD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151D-5E0C-4CBD-AEA3-BBFD0887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5C97-57A0-4BD4-BDC0-D01B0D8D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99A2-16C9-42E6-8F76-9DAD4821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429B-3325-4DEE-9C93-E66617D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59BB-1346-438C-A42D-8C021770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3F529-40AC-4BB6-9CFD-531DCA7B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1F88-D0B5-4871-AD21-4DC8A093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AC152-D185-48CF-A2C0-AC31D8E2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403-C36A-4CDB-9EE2-21DEF14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CFF3B-1537-4371-A611-F8A5F6D4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7D4BC-CD63-49EE-BD30-764E8CAC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A43F-57D6-4C5D-97D6-3A20DE58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6F81A-8B71-488A-B98C-AA370D28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1CE19-65AE-45EC-9143-C162FA6A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CC504-2049-46B2-8D5C-16473F6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7F985-2674-410A-9CD1-9B4DA99F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D5269-4FEA-47EE-8489-49AEED9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A2FC-AF50-4459-9F07-22174C61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599D8-C6CC-4E2A-8D03-150869A4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E74-B7AD-4429-AD9A-C32AC630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0CEE7-16F5-4B2E-B068-1230D1AF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77364-C4C3-44D6-95BD-ED82DB8A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BD16-1C4A-4810-9E11-BD8C7145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CA63-14C6-4AE6-A501-F16EA5B7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3498F-006E-4569-94CF-55B0DDFF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11C5-E7D3-4BA2-9AB8-05098501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28A46-876D-4AC6-8B06-5967DE8A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03BC8-83DB-4F02-AE21-2C77C9C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E0F1-FCB4-4078-BD1E-7862B0C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7B454-21A7-4F43-B22F-ACAF907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6FC-CB28-4439-A0F3-67110D2E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8B66-9607-46A7-B3F5-0421FCD4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7F94-82DC-49D0-BEA1-BE3043F7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A71ED-2E30-4A53-B4B7-E0164365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DCB6-8009-4AD6-8612-A82E5B1E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7817-6224-4798-932D-988E5263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4E00C-59FA-4CDF-8B40-E5960D20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A59C-970A-48E0-9675-75E1633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63B0B-5F31-41B1-BCCC-8C1967D5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D1E6-39EA-4B40-B13E-D710B3E2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0DDE6-CAF0-4AF4-95F6-F5D50DE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156-679E-4785-9949-4079DA0A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8082D-B7F8-43D9-9D23-8FBF8E29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481E-7073-40A3-AF7F-1EA881A7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32A99-CE8E-4AEA-8A4F-6F90D34F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B33B-3B1C-4818-B89A-98A27A6D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0F5CA-78A5-4816-A6FB-E3871987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8F957-E2F9-41B1-994B-B181EA8D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FD801-7BDC-428E-B74E-239B870C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1DF63-14EF-4B6B-8177-B09DD65F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9E732-7D53-477A-A2CD-5620F89F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B16B4-AF6C-497E-ADC6-072D50AA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0AF-AED4-42C5-9A10-BD51FF0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773A9-5F70-41A0-B8D7-0BE28E7B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7D8FF-AB0A-4CA6-A589-35132937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5C993-7BD8-4457-B27B-BFE92EC5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858A-EC01-4A4F-888A-99C7DACB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A581B-3C37-49D3-A326-10F35461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C6BB4-4E37-4435-BA33-4FF55EB3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641BF-6D57-4A79-A7E5-360D6A0B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2834B-1955-47EB-8414-0186F667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22036-14D8-4183-8017-EB77AF54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D96EE-2384-4B02-9B0A-D8FD6986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0E4C-5FD6-40DD-A7D5-65BFC84700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6667-1744-482C-89E5-38C59ADEAE9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4AFB-27CF-4C45-95F2-2F59304907D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A52B-5E0B-4B4B-9142-849BF8E56CB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31A2-2C01-4786-94CA-94CE4ECC5C2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BF36-11EC-4A93-958D-15506D061CD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8693-BF08-4A0B-B933-4DD371AF145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D4DC-896B-4B4D-87C1-6C0E713F4A0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A2BC-49D9-4147-BCD9-790F10E620F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8756-2E82-45F9-B307-33B0228E42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0129-EA86-452A-8DBA-0F492E7EC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BC91-C2EB-4996-AB3A-BB18B190941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3654-6615-4B3C-AEF4-74B275D60B0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9D58-87F8-4EF3-8066-2D98B5A5B65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DAFE-86D3-423C-B3E4-2B32826A335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0564-0C40-4A3B-8B87-3D16B9E261F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E80-C2D6-43CA-9277-B514CF2D9E1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F28C-B3DD-49D9-AF7D-2BF63AEBE56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4643-84D9-42B0-9F3F-27E1F1A492A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4ED4-5460-425E-9949-B4758FCAB3F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A3D2-3BF2-4FD0-8623-E30D6D9FCF7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1394-344D-4029-A89D-28876DDE964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1C6E-DC91-4A34-AAB2-E072DB60EF0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4C0-4822-4D6D-9724-721728E4DC2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6BF8-76A1-47B2-A9FB-BD2CF3B765B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2" descr="WSP模版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4" descr="WSP主题字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3" descr="WSP模版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WSP模版4.png"/>
          <p:cNvPicPr/>
          <p:nvPr/>
        </p:nvPicPr>
        <p:blipFill>
          <a:blip r:embed="rId2"/>
          <a:srcRect l="44853" t="60729" r="47502" b="25673"/>
          <a:stretch/>
        </p:blipFill>
        <p:spPr>
          <a:xfrm>
            <a:off x="5408640" y="9604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5" descr="WSP模版4.png"/>
          <p:cNvPicPr/>
          <p:nvPr/>
        </p:nvPicPr>
        <p:blipFill>
          <a:blip r:embed="rId3"/>
          <a:srcRect l="44853" t="60729" r="47502" b="25673"/>
          <a:stretch/>
        </p:blipFill>
        <p:spPr>
          <a:xfrm>
            <a:off x="5218200" y="2519280"/>
            <a:ext cx="933480" cy="93204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6" descr="WSP模版4.png"/>
          <p:cNvPicPr/>
          <p:nvPr/>
        </p:nvPicPr>
        <p:blipFill>
          <a:blip r:embed="rId4"/>
          <a:srcRect l="44853" t="60729" r="47502" b="25673"/>
          <a:stretch/>
        </p:blipFill>
        <p:spPr>
          <a:xfrm>
            <a:off x="5018040" y="3970440"/>
            <a:ext cx="932040" cy="9334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7"/>
          <p:cNvSpPr/>
          <p:nvPr/>
        </p:nvSpPr>
        <p:spPr>
          <a:xfrm>
            <a:off x="5470200" y="1495440"/>
            <a:ext cx="21024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图片 2" descr="WSP模版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3"/>
          <p:cNvSpPr/>
          <p:nvPr/>
        </p:nvSpPr>
        <p:spPr>
          <a:xfrm>
            <a:off x="5263920" y="3014640"/>
            <a:ext cx="17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Demi ITC"/>
              </a:rPr>
              <a:t>Si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图片 2" descr="WSP模版4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"/>
          <p:cNvSpPr/>
          <p:nvPr/>
        </p:nvSpPr>
        <p:spPr>
          <a:xfrm>
            <a:off x="1126440" y="106848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Demi ITC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4"/>
          <p:cNvSpPr/>
          <p:nvPr/>
        </p:nvSpPr>
        <p:spPr>
          <a:xfrm>
            <a:off x="2287440" y="2470320"/>
            <a:ext cx="8595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ur work as long as we think you will find: seemingly complex work, in fact there are many can simplify the link. To fast high-quality to complete work, actually very simple: you only according to set a goal, make a plan and schedule, find a good method, and then in order to do it. In an orderly way to realize the maximization of the efficienc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2" descr="结束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8T04:33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