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F28D4-63C4-44D2-9598-E19800A43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9CFC0-7637-439C-9132-FED0B1C66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34CC9-267A-430D-9D3B-C1629DDE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119A5-C3A3-49ED-A4E3-0BFE8968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62C5-26B3-4868-9617-5E4033F8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7E357-A482-4DBF-829E-1EB3921F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E4B3-A5D8-4302-B206-B4EC23E8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65BC-1B28-4510-A799-72FA4343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5DAD-06F7-4798-88C8-3B6BCDE6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C6530-4D11-4876-946A-0732A88AD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124D-7F2E-4C77-ADC9-45928BB3F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530F7-0D25-4B3A-833C-AD0C03AB3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 ytr yrtjgh "/>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a2f01"/>
                </a:solidFill>
                <a:latin typeface="Arial"/>
                <a:ea typeface="宋体"/>
              </a:rPr>
              <a:t>Page </a:t>
            </a:r>
            <a:fld id="{942D1D96-FD2F-4ECD-A206-05E450ED61D0}" type="slidenum">
              <a:rPr b="1" lang="fr-FR" sz="1800" spc="-1" strike="noStrike">
                <a:solidFill>
                  <a:srgbClr val="ca2f01"/>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CCA9-040E-49E1-9E83-84FF3683E295}"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4A58-0F68-425A-A487-9D2636DBF77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ds fsd fsd y t"/>
          <p:cNvPicPr/>
          <p:nvPr/>
        </p:nvPicPr>
        <p:blipFill>
          <a:blip r:embed="rId1"/>
          <a:stretch/>
        </p:blipFill>
        <p:spPr>
          <a:xfrm>
            <a:off x="0" y="0"/>
            <a:ext cx="9144000" cy="6858000"/>
          </a:xfrm>
          <a:prstGeom prst="rect">
            <a:avLst/>
          </a:prstGeom>
          <a:ln w="0">
            <a:noFill/>
          </a:ln>
        </p:spPr>
      </p:pic>
      <p:sp>
        <p:nvSpPr>
          <p:cNvPr id="80" name="Text Box 3"/>
          <p:cNvSpPr/>
          <p:nvPr/>
        </p:nvSpPr>
        <p:spPr>
          <a:xfrm>
            <a:off x="2715840" y="620640"/>
            <a:ext cx="5764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a2f01"/>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5324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ca2f01"/>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1042920" y="1341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a2f01"/>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9932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ca2f01"/>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1042920" y="1341360"/>
            <a:ext cx="7129440" cy="3095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a2f01"/>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8T06:31:19Z</dcterms:modified>
  <cp:revision>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