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CBA-B560-42EC-9039-DBB2814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FA9-9BC9-4E1A-976B-2BF57F18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16D-3925-460A-8DC4-D3023356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C7C-D3C6-4DE0-A690-0473026A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B91-FE63-44BC-8B61-816DD51D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5B64-B3DC-4810-B39C-C9F157C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C2A-96F7-4725-9DBA-A465C634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984C-7DDB-412E-87D9-8C3CB89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AB2-0CF1-453A-960B-180E00F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2F34-F101-410C-85B2-AAAC453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7C8F-04A9-47EF-A761-E120798F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581-EC02-48F7-B74C-063BD647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61CC-49D3-4957-A6DD-B7D10F9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B200-59E8-4D65-90F9-0918DA6B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41FE-BFDB-4B23-8B00-CDB4E163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F00F-5036-4B14-9596-9C67C275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8C8A-0D5A-4C5E-9F93-A71E56BA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6FDA-813B-40B2-99F7-2312349B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B51D-F365-4B19-BB79-CE6FA3B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FA31-C8EF-45DB-8B19-16EA395E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4C33-A3E5-4980-803B-E8EC53C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5755-2D5D-4DDC-80F3-24C3C30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26F-4B91-43C5-A434-3331AAE2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71D0-70C2-4306-8451-17915E0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1126-C4D5-4E9B-8B9D-3FDEA84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BA1E-B833-48BF-98DB-A607744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08C0-9547-4567-B1B7-AB09F6F8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BFA5-BB1F-417A-9E74-0225D60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5AC2-026A-4CEE-B09C-EC6B2DB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3B35-546D-4C77-9FE3-2ED7F069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6BB-4BAB-4F81-A108-F912A41A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FE5-915E-4BDD-9591-DA38869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503-2A8C-4D9C-9908-508BDBD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E2F-29D1-4144-8E7A-3C372F7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385-8EC5-4A31-AAF2-DA98BB9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E6E-6E3D-4ECE-B088-B10CDF4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F4AC-0BBC-41CC-9923-A3445779C58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28A-291B-47A9-9A02-E05FF31177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33A-E84B-4256-95B5-AF26B16350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567-F54F-4B23-91D3-D00EFA576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" descr="ppt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目录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" descr="未标题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4" descr="thx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thx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9T09:53:39Z</dcterms:modified>
  <cp:revision>1</cp:revision>
  <dc:subject/>
  <dc:title>PowerPoint 演示文稿</dc:title>
</cp:coreProperties>
</file>