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2CF-C457-4B62-9904-BA797D78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208-DAD9-48DA-B692-6D7E1CA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A9F-4883-4BBF-9AEB-A811D58C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50C-C4E8-43FE-93C4-16F2A634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C383-1532-4F0C-9F91-3242A3C7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1B5-A96E-48EB-B887-20BD3C2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558-4D31-46D5-8D7E-2AAEAF0B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615B-97C1-4676-871B-14E1DB48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E519-1342-4B01-B533-9427B571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C2A7-A2E0-479E-AEBC-8AE6416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D632-F071-4918-BB31-F772A27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9B2-395D-43DC-B414-13BA2BB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60D5-20A5-4696-9305-4C042D2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0359-8810-4627-8D0D-033EE28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3AD-A0A4-44B3-BF7B-27988C8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493-264E-4950-ABBB-6C5CEFD4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6E9A-7BE0-4BD3-A468-0698B24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3D8C-1DC2-40CF-8EBB-B8B45AF8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F1C9-2D5E-4E1F-910D-04445C4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C0C9-DE87-4A23-8AEF-6F92613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29C7-4CA2-40C3-9CA5-4D7B878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E700-D535-44A9-B77E-20D78C5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001-67DC-4381-B9AB-BAD2A406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17F0-5C0F-4499-9431-BD582A6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366B-4954-42F0-AB90-5B04DBB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0506-843B-4F6F-844B-88733B8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70D5-B3E7-4C68-90AB-803FB67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E49-00A1-442E-89FE-416F26B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D109-FD3A-450A-B63F-09171F0F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89D2-A813-4746-92A3-0B094293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84E-5E92-4C29-B13B-BBB3CDD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46D-420B-4E6C-8057-B03D9AF3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9F1-C588-429A-BAC3-2A11C37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DB8-2A4C-442F-BA21-3EA23F2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41F-2720-4864-875F-99DB226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77D-567A-4DDA-804D-07DE86A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63D-E36A-484A-9D6D-E229EBA4B3D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ABF-25AC-419A-B884-95C496DB7E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7E5C-7F14-4390-9EA8-5E11B9C8B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349-BD35-42E9-9620-D0BD9BBAA0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381800" y="404640"/>
            <a:ext cx="33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Book Antiqua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Book Antiqua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Book Antiqua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Book Antiqu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906640" y="54468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63560" y="15415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95520" y="242100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276720" y="2276640"/>
            <a:ext cx="4146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ffff"/>
                </a:solidFill>
                <a:latin typeface="Arial Black"/>
              </a:rPr>
              <a:t>SIMPL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333440" y="171936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81080" y="1917720"/>
            <a:ext cx="216000" cy="36036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771640" y="1917720"/>
            <a:ext cx="217800" cy="36036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08480" y="37180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上偶尔需要简单的思想状态，复杂化的思想会是一种精神上的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619280" y="2908440"/>
            <a:ext cx="59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Book Antiqua"/>
                <a:ea typeface="楷体"/>
              </a:rPr>
              <a:t>THANK 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40:38Z</dcterms:created>
  <dc:creator>sg</dc:creator>
  <dc:description/>
  <dc:language>en-US</dc:language>
  <cp:lastModifiedBy>a</cp:lastModifiedBy>
  <dcterms:modified xsi:type="dcterms:W3CDTF">2015-01-12T08:41:2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