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F42-0BD7-48E7-A974-2FE6D09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447-314D-44B9-A015-41988D8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CDC-025F-40F8-9792-013294B0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766-15D5-49F6-AD63-BB130455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14B-7DD7-4143-91DD-328A51A5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C68-48EA-4BDD-ABA4-6243F4D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DA61-0D49-4A69-839E-DE22D88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F2F-0B37-488D-9EAB-496FE3E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3034-6FE0-4DBD-8C96-B88D527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4C5-C08C-47B8-8CE1-131A8F2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189F-A191-44DF-B4D4-E5803B4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5E6-01E2-4E3A-8422-7B65AB2D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FEDB-7F47-4D93-AC25-A6B6633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E58A-F2DD-49FD-B832-D2F526FD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2AA4-8EFF-4DE1-BC8C-EEAC76A0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1FB5-3C8E-4BA2-A9C8-93400E66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11A-99A5-452A-8F30-01E7D8B4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13C-5894-4429-9D5F-1C8414E2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F85-1F24-4FD9-8EB5-AAE5F4FA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FE7-E4AD-4A6D-BB99-827D333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D10-E21A-486A-84CB-0FAFEF1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F22-E134-4505-927F-77315FD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887-4242-49B0-B3AE-8B7D3EC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BD0-8451-4C8B-8796-D9A8496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968-6D4D-4C8E-AA9C-E12B20C1E9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7A7-4FA1-453D-A9AC-2381C4C8DD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D13B-86E0-4C82-BC87-5E38EEBAA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QQ截图20120515195926"/>
          <p:cNvPicPr/>
          <p:nvPr/>
        </p:nvPicPr>
        <p:blipFill>
          <a:blip r:embed="rId1"/>
          <a:stretch/>
        </p:blipFill>
        <p:spPr>
          <a:xfrm>
            <a:off x="184320" y="117360"/>
            <a:ext cx="8783640" cy="4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QQ截图20120515201748"/>
          <p:cNvPicPr/>
          <p:nvPr/>
        </p:nvPicPr>
        <p:blipFill>
          <a:blip r:embed="rId2"/>
          <a:stretch/>
        </p:blipFill>
        <p:spPr>
          <a:xfrm>
            <a:off x="266760" y="187200"/>
            <a:ext cx="1927080" cy="365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52360" y="157320"/>
            <a:ext cx="21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人主页式简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QQ截图20120515200656"/>
          <p:cNvPicPr/>
          <p:nvPr/>
        </p:nvPicPr>
        <p:blipFill>
          <a:blip r:embed="rId3"/>
          <a:stretch/>
        </p:blipFill>
        <p:spPr>
          <a:xfrm>
            <a:off x="1252440" y="1873080"/>
            <a:ext cx="444600" cy="482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1306440" y="124776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49520" y="187308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QQ截图20120515201521"/>
          <p:cNvPicPr/>
          <p:nvPr/>
        </p:nvPicPr>
        <p:blipFill>
          <a:blip r:embed="rId4"/>
          <a:stretch/>
        </p:blipFill>
        <p:spPr>
          <a:xfrm>
            <a:off x="184320" y="2567160"/>
            <a:ext cx="2009520" cy="465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355680" y="263520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基 本 信 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2197080" y="584280"/>
            <a:ext cx="1440" cy="630216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68120" y="3195720"/>
            <a:ext cx="2025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52****31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736***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-mail:736***125@q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661080" y="669960"/>
            <a:ext cx="28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熟练掌握各种办公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QQ截图20120515203954"/>
          <p:cNvPicPr/>
          <p:nvPr/>
        </p:nvPicPr>
        <p:blipFill>
          <a:blip r:embed="rId5"/>
          <a:stretch/>
        </p:blipFill>
        <p:spPr>
          <a:xfrm>
            <a:off x="6483240" y="187200"/>
            <a:ext cx="2484720" cy="365400"/>
          </a:xfrm>
          <a:prstGeom prst="rect">
            <a:avLst/>
          </a:prstGeom>
          <a:ln w="0">
            <a:noFill/>
          </a:ln>
        </p:spPr>
      </p:pic>
      <p:sp>
        <p:nvSpPr>
          <p:cNvPr id="94" name="Line 15"/>
          <p:cNvSpPr/>
          <p:nvPr/>
        </p:nvSpPr>
        <p:spPr>
          <a:xfrm>
            <a:off x="6659640" y="584280"/>
            <a:ext cx="1440" cy="630216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6" descr=""/>
          <p:cNvPicPr/>
          <p:nvPr/>
        </p:nvPicPr>
        <p:blipFill>
          <a:blip r:embed="rId6"/>
          <a:stretch/>
        </p:blipFill>
        <p:spPr>
          <a:xfrm>
            <a:off x="7574040" y="995400"/>
            <a:ext cx="3348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"/>
          <p:cNvPicPr/>
          <p:nvPr/>
        </p:nvPicPr>
        <p:blipFill>
          <a:blip r:embed="rId7"/>
          <a:stretch/>
        </p:blipFill>
        <p:spPr>
          <a:xfrm>
            <a:off x="7215120" y="9954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8" descr=""/>
          <p:cNvPicPr/>
          <p:nvPr/>
        </p:nvPicPr>
        <p:blipFill>
          <a:blip r:embed="rId8"/>
          <a:stretch/>
        </p:blipFill>
        <p:spPr>
          <a:xfrm>
            <a:off x="6827760" y="995400"/>
            <a:ext cx="333360" cy="33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9" descr=""/>
          <p:cNvPicPr/>
          <p:nvPr/>
        </p:nvPicPr>
        <p:blipFill>
          <a:blip r:embed="rId9"/>
          <a:srcRect l="7887" t="8569" r="8179" b="13277"/>
          <a:stretch/>
        </p:blipFill>
        <p:spPr>
          <a:xfrm>
            <a:off x="7908840" y="99540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10"/>
          <a:srcRect l="17557" t="26735" r="39238" b="38672"/>
          <a:stretch/>
        </p:blipFill>
        <p:spPr>
          <a:xfrm>
            <a:off x="7574040" y="1353960"/>
            <a:ext cx="301680" cy="30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3" descr=""/>
          <p:cNvPicPr/>
          <p:nvPr/>
        </p:nvPicPr>
        <p:blipFill>
          <a:blip r:embed="rId11"/>
          <a:stretch/>
        </p:blipFill>
        <p:spPr>
          <a:xfrm>
            <a:off x="8539200" y="101124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"/>
          <p:cNvPicPr/>
          <p:nvPr/>
        </p:nvPicPr>
        <p:blipFill>
          <a:blip r:embed="rId12"/>
          <a:srcRect l="0" t="0" r="0" b="8662"/>
          <a:stretch/>
        </p:blipFill>
        <p:spPr>
          <a:xfrm rot="60000">
            <a:off x="8538840" y="1372680"/>
            <a:ext cx="318960" cy="3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"/>
          <p:cNvPicPr/>
          <p:nvPr/>
        </p:nvPicPr>
        <p:blipFill>
          <a:blip r:embed="rId13"/>
          <a:srcRect l="0" t="0" r="0" b="10677"/>
          <a:stretch/>
        </p:blipFill>
        <p:spPr>
          <a:xfrm>
            <a:off x="7215120" y="1362240"/>
            <a:ext cx="312840" cy="30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"/>
          <p:cNvPicPr/>
          <p:nvPr/>
        </p:nvPicPr>
        <p:blipFill>
          <a:blip r:embed="rId14"/>
          <a:srcRect l="10175" t="38368" r="77410" b="42542"/>
          <a:stretch/>
        </p:blipFill>
        <p:spPr>
          <a:xfrm>
            <a:off x="6842160" y="1353960"/>
            <a:ext cx="318960" cy="3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QQ截图20120515205010"/>
          <p:cNvPicPr/>
          <p:nvPr/>
        </p:nvPicPr>
        <p:blipFill>
          <a:blip r:embed="rId15"/>
          <a:stretch/>
        </p:blipFill>
        <p:spPr>
          <a:xfrm>
            <a:off x="8224920" y="995400"/>
            <a:ext cx="31428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QQ截图20120515204957"/>
          <p:cNvPicPr/>
          <p:nvPr/>
        </p:nvPicPr>
        <p:blipFill>
          <a:blip r:embed="rId16"/>
          <a:stretch/>
        </p:blipFill>
        <p:spPr>
          <a:xfrm>
            <a:off x="8199360" y="1362240"/>
            <a:ext cx="339840" cy="29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QQ截图20120515204931"/>
          <p:cNvPicPr/>
          <p:nvPr/>
        </p:nvPicPr>
        <p:blipFill>
          <a:blip r:embed="rId17"/>
          <a:stretch/>
        </p:blipFill>
        <p:spPr>
          <a:xfrm>
            <a:off x="7875720" y="1362240"/>
            <a:ext cx="403200" cy="33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QQ截图20120515201748"/>
          <p:cNvPicPr/>
          <p:nvPr/>
        </p:nvPicPr>
        <p:blipFill>
          <a:blip r:embed="rId18"/>
          <a:stretch/>
        </p:blipFill>
        <p:spPr>
          <a:xfrm>
            <a:off x="6659640" y="289080"/>
            <a:ext cx="1539720" cy="199800"/>
          </a:xfrm>
          <a:prstGeom prst="rect">
            <a:avLst/>
          </a:prstGeom>
          <a:ln w="0">
            <a:noFill/>
          </a:ln>
        </p:spPr>
      </p:pic>
      <p:sp>
        <p:nvSpPr>
          <p:cNvPr id="108" name="Line 29"/>
          <p:cNvSpPr/>
          <p:nvPr/>
        </p:nvSpPr>
        <p:spPr>
          <a:xfrm>
            <a:off x="6648480" y="1873080"/>
            <a:ext cx="2521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2197080" y="1872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实践  获奖  能力  爱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2198520" y="584280"/>
            <a:ext cx="412308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实践与锻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寒假  哈尔滨新东方冬令营          生活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暑假  哈尔滨明彦科技有限公司   实习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寒假  哈尔滨明彦科技有限公司   实习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一学期      黑龙江大学学生创业协会   干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计算机软件学软学生会       干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级软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班                      生活班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二学期      黑龙江大学学生创业协会   副主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级软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班                      生活班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2197080" y="2968560"/>
            <a:ext cx="4464000" cy="792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2198520" y="3032280"/>
            <a:ext cx="4111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获奖及表现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一荣获软件学软“优秀学生干部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黑龙江大学学生创业协会“优秀部员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黑龙江大学学生创业协会“团队精神”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二荣获黑龙江大学校级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赛三等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带领部门荣获“优秀部门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>
            <a:off x="2198520" y="4471920"/>
            <a:ext cx="4464360" cy="64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2198520" y="4513320"/>
            <a:ext cx="428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个人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精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,C++,JAV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语言，拥有良好的编程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JOrac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Java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ibernate,ISpring,EJB3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正在学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班级、学生会和协会的工作锻炼下，拥有良好的沟通和组织能力，擅长处理人际关系，表达演讲较好，具有团队精神、凝聚力和号召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6737400" y="1963800"/>
            <a:ext cx="2432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爱好与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爱好丰富，享受生活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喜欢听音乐，看电影，爬山，徒步旅行，吃小吃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特长虽少，乐在其中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对球类运动比较擅长，例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篮球，足球，乒乓球，羽毛球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面的各种办公软件都都熟练掌握，自己经常做视频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电子杂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6615000" y="4478400"/>
            <a:ext cx="2521080" cy="14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6662880" y="4464000"/>
            <a:ext cx="24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品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本人不吸烟、不酗酒、不赌博，无不良嗜好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阳光开朗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热爱生活，乐于助人，爱好和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~~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最后，本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单身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6659640" y="5958000"/>
            <a:ext cx="2520720" cy="14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6662880" y="59706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特别鸣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0T07:50:45Z</dcterms:modified>
  <cp:revision>1</cp:revision>
  <dc:subject/>
  <dc:title>PowerPoint 演示文稿</dc:title>
</cp:coreProperties>
</file>