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76F-BA6F-4D77-A948-2E9B14BC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5A8-F3FE-4F3D-B95F-FB41BF45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E71-502B-4FBF-96EC-6C3BC7F6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E09-B165-4C58-830F-E40CBCD0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8BB8-397E-4CF1-BFD4-F7D2D4F7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EA8-4CE5-40AE-ADD6-1743B3F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D830-2C79-4F8B-8718-D875DE95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D09C-6B14-4F9A-BBD6-C240B1E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85B0-61E7-4EF7-8EBA-7FB0A7F1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655C-16B0-4EC2-80EC-C3CA06E5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2A16-1435-4A17-957F-16651F6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FC0-E5CB-4E87-BB37-01632703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49CD-49EF-48FE-B2C6-A8E8EAD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E4F4-2E89-41AC-93F4-D35CC62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F54C-3683-459F-9388-5D076073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8287-2F49-43F2-A469-E9744DBA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8D17-61EB-407E-A1A7-BE2F8055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7CC7-7C5F-407B-AC81-BE34E78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843A-D2A6-4F57-B66D-310AC30F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4411-4604-4376-8559-55AFBA3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A0CC-9713-42BD-905C-CAEB606E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DB6C-7242-4EFF-8AAB-EA3D29CB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A2F-5CF2-468B-9319-30165A1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6101-E8E4-4269-B13C-E8CC91F4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F76A-D906-49AE-8356-8C8E0D6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0822-E4D7-4EB3-BE00-704C9951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09A5-A271-45B9-8510-6D3B8CE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3DDD-90F9-4DDE-80F2-B58D2CCB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D67B-33E5-4A17-85AD-0D0D737D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7D5C-55C5-4743-A72A-BA202C55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756-3D00-45D2-AD1D-10F6E6C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437-BAB9-4490-B8E2-9893DA89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3CE-AAF0-4E36-948B-01B0709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71D-8F8B-49E6-8909-BD43E52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9FE-CBA4-4DBB-AEF7-CCF4A1D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C9D-8B22-44BE-A0ED-69C3F60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EA2-F1A5-4D44-AA12-DEF655AB666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D545-8698-4AFE-A1D1-D392BA87CB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44C-172C-4F69-B193-447CA212E8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32C-A783-4A1E-9944-29EBE9976D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封面页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过渡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结束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56:45Z</dcterms:created>
  <dc:creator>sg</dc:creator>
  <dc:description/>
  <dc:language>en-US</dc:language>
  <cp:lastModifiedBy>a</cp:lastModifiedBy>
  <dcterms:modified xsi:type="dcterms:W3CDTF">2015-01-14T07:57:0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