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F20-7BF3-431E-B165-85B786E4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9F2-0136-4E9B-B24D-26393A3D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D74-AAFF-40CA-9C3D-6D34F807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223-CBBB-41D5-BC31-6555BA09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BC1-6DB3-4D5A-9B53-D708D054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3AF-EF4B-442F-B2AD-F1930DDC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D6B-C1C5-47AC-8F3B-35CC552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8DB-881A-4790-BBBE-CEB258F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F73-8CDB-4108-B029-83846E03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D04-8E53-4A41-8AA7-76EFE00C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8CA-28AF-47C4-B2FA-996D2623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726-DF07-4536-9EE9-B56E5450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ADBB-CAF3-4AB9-B886-ADBBE1EF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D847-FD6E-417A-946A-A17DAB85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25CA-E79A-4969-B9C7-67FFB627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0C31-FF38-42C4-A2AD-379A1F5F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2CE1-BBB5-45F7-8447-D23F9CE4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4053-32AD-400E-B274-1B49E7DC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64BE-0FB0-4670-8622-A62710B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E18E-D93F-430A-A4EA-D2F81F78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AEA5-3010-4858-AC6A-78529BCF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6342-9237-45E0-9D89-D487DF49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FDAE-1CD9-4158-BBA1-FA97C922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659C-B9E3-4770-B501-D216C88F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469800" y="365040"/>
            <a:ext cx="8229600" cy="1052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9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899400" y="6316560"/>
            <a:ext cx="1800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5EB-600C-455D-A63A-EC2CA0CE8E2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9E97-51C9-4B7B-B9FE-FD858232D7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9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81CE-B934-48DD-B294-5478D3E0886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商务范儿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501720"/>
            <a:ext cx="64008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企业宣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3394080" y="20829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企业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3394080" y="111132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公司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394080" y="304488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相关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394080" y="399420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发展探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43080" y="5245200"/>
            <a:ext cx="23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方正细倩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3394080" y="22701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企业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394080" y="129852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公司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394080" y="323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相关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394080" y="41799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发展探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谢谢观赏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0T05:00:59Z</dcterms:modified>
  <cp:revision>1</cp:revision>
  <dc:subject/>
  <dc:title>商务范儿PPT</dc:title>
</cp:coreProperties>
</file>